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34F-A204-441B-BAC7-E3F224DA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5A3-60AB-48FA-9683-EAA0B70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222-840F-4D03-A5B2-E84344D9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96B-017E-4636-AFF5-8FA24427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8B6-58FD-414F-B3C4-DF3B2AB0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CA08-DF5B-43B2-A825-EE68F709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7BA1-31B3-40DC-B900-B6BBF83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B91-D95C-4BAC-A8DA-BCAAAAA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2F5-35F7-4CEB-BF61-0E1FADFB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BCC-F3A5-45CB-97FB-DF3B1FE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8ED1-DFEC-4BF4-B6DD-6CC7483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B89-2330-48E7-A550-50B5312F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1C85-7ABD-4D71-B8E0-1E93F70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EA5-784A-440B-88B5-0370A42E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B48-FAE9-466E-BC78-A28A309B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30F-72AA-4EFE-ADA6-62537ABA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43D-E032-4CA9-B896-11F495C2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67-9FCB-4850-AB03-9CD61BF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4FC-7F0D-4950-836F-D4C79890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C3C-B6C6-4E56-B19E-32A6BC0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00D-8125-4A57-8E47-5A4DD13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615-14BA-4526-92C8-F70FBC51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EBF-987D-49C3-8816-783452F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93B-74C6-4B30-BF23-6AE7838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2B3-5CE1-44A1-BD44-2D3C1BF369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B57E-16A1-45E3-8BFF-F351ECE139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133720"/>
            <a:ext cx="899172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600" spc="-1" strike="noStrike">
                <a:solidFill>
                  <a:srgbClr val="703dff"/>
                </a:solidFill>
                <a:latin typeface="Comic Sans MS"/>
              </a:rPr>
              <a:t>Егерме икенче апрел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47560" y="4495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чинение язарга өйрән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tt-RU" sz="4400" spc="-1" strike="noStrike">
                <a:solidFill>
                  <a:srgbClr val="703dff"/>
                </a:solidFill>
                <a:latin typeface="Castellar"/>
              </a:rPr>
              <a:t>“</a:t>
            </a:r>
            <a:r>
              <a:rPr b="0" lang="tt-RU" sz="4400" spc="-1" strike="noStrike">
                <a:solidFill>
                  <a:srgbClr val="703dff"/>
                </a:solidFill>
                <a:latin typeface="Castellar"/>
              </a:rPr>
              <a:t>Әгәр кешеләр мине күреп елмаялар икән, димәк мин кешеләргә кирәк булып чыгам”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http://www.fotosoyuz.ru/preview/600x600-p2owd7/e2/dqb6xm/600x600,fs-ISKHAKOV,11-05,22a.jpg?f7swng86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05120" y="4572000"/>
          <a:ext cx="6095880" cy="371520"/>
        </p:xfrm>
        <a:graphic>
          <a:graphicData uri="http://schemas.openxmlformats.org/drawingml/2006/table">
            <a:tbl>
              <a:tblPr/>
              <a:tblGrid>
                <a:gridCol w="533160"/>
                <a:gridCol w="464832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157" name="Заголовок 1"/>
          <p:cNvSpPr/>
          <p:nvPr/>
        </p:nvSpPr>
        <p:spPr>
          <a:xfrm>
            <a:off x="272880" y="1206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Arial"/>
                <a:ea typeface="Arial"/>
              </a:rPr>
              <a:t>Эй Ар Гай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8458200"/>
          <a:ext cx="5802120" cy="2913120"/>
        </p:xfrm>
        <a:graphic>
          <a:graphicData uri="http://schemas.openxmlformats.org/drawingml/2006/table">
            <a:tbl>
              <a:tblPr/>
              <a:tblGrid>
                <a:gridCol w="1295280"/>
                <a:gridCol w="3695760"/>
                <a:gridCol w="811080"/>
              </a:tblGrid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өлү өметсез авырулы кешене терелтә алмы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04920" y="1504800"/>
            <a:ext cx="7947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7030a0"/>
                </a:solidFill>
                <a:latin typeface="Comic Sans MS"/>
              </a:rPr>
              <a:t>СИНГЛ РАУНД РОБ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үз нәрсә турында бар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вторны нәрсә борчый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втор нәрсә әйтергә тели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F:\cингапур\20131012_150619.jpg"/>
          <p:cNvPicPr/>
          <p:nvPr/>
        </p:nvPicPr>
        <p:blipFill>
          <a:blip r:embed="rId1"/>
          <a:stretch/>
        </p:blipFill>
        <p:spPr>
          <a:xfrm>
            <a:off x="20574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914400"/>
          <a:ext cx="7848360" cy="5181480"/>
        </p:xfrm>
        <a:graphic>
          <a:graphicData uri="http://schemas.openxmlformats.org/drawingml/2006/table">
            <a:tbl>
              <a:tblPr/>
              <a:tblGrid>
                <a:gridCol w="1704960"/>
                <a:gridCol w="1866960"/>
                <a:gridCol w="1531800"/>
                <a:gridCol w="1515960"/>
                <a:gridCol w="1228680"/>
              </a:tblGrid>
              <a:tr h="47160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әлсә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җтимаг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әя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хлак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ерләү, җәмгыять үсеше, табигать үзгәрешенең гомуми үзенчәлекләрен күрсәт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Җәмгыятьтәге тормыш һәм көнкүрешкә кагы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әүләт власте, хөкүмәт, партия яки иҗтимагый төркемнәр эшчәнлеге белән бәй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шенең әйләнә – тирә табигать белән үзара мөнәсәбәтен чагылды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шенең үз-үзен тотышында эчке рухи сыйфатларның чагылыш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5" descr=""/>
          <p:cNvPicPr/>
          <p:nvPr/>
        </p:nvPicPr>
        <p:blipFill>
          <a:blip r:embed="rId1"/>
          <a:stretch/>
        </p:blipFill>
        <p:spPr>
          <a:xfrm>
            <a:off x="2674800" y="82440"/>
            <a:ext cx="2506680" cy="196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3581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49320" y="533520"/>
            <a:ext cx="3352680" cy="7617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Коя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5105520" y="685800"/>
            <a:ext cx="4038480" cy="83808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Комедия. Анекд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172200" y="15238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5"/>
          <p:cNvSpPr/>
          <p:nvPr/>
        </p:nvSpPr>
        <p:spPr>
          <a:xfrm flipH="1" flipV="1">
            <a:off x="2742840" y="17521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3047760" y="34290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6095880" y="3429000"/>
            <a:ext cx="9907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2"/>
          <a:stretch/>
        </p:blipFill>
        <p:spPr>
          <a:xfrm>
            <a:off x="228600" y="1728720"/>
            <a:ext cx="2443320" cy="2081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729756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4"/>
          <a:stretch/>
        </p:blipFill>
        <p:spPr>
          <a:xfrm>
            <a:off x="1979640" y="4683240"/>
            <a:ext cx="2706840" cy="207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"/>
          <p:cNvPicPr/>
          <p:nvPr/>
        </p:nvPicPr>
        <p:blipFill>
          <a:blip r:embed="rId5"/>
          <a:stretch/>
        </p:blipFill>
        <p:spPr>
          <a:xfrm>
            <a:off x="5438880" y="3600360"/>
            <a:ext cx="2943000" cy="1809720"/>
          </a:xfrm>
          <a:prstGeom prst="rect">
            <a:avLst/>
          </a:prstGeom>
          <a:ln w="0">
            <a:noFill/>
          </a:ln>
        </p:spPr>
      </p:pic>
      <p:sp>
        <p:nvSpPr>
          <p:cNvPr id="177" name="Oval 9"/>
          <p:cNvSpPr/>
          <p:nvPr/>
        </p:nvSpPr>
        <p:spPr>
          <a:xfrm>
            <a:off x="2057400" y="2057400"/>
            <a:ext cx="5257800" cy="144792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Comic Sans MS"/>
              </a:rPr>
              <a:t>Елма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49320" y="3962520"/>
            <a:ext cx="5029200" cy="91584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Рәхәтле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4343400" y="5410080"/>
            <a:ext cx="5029200" cy="106704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omic Sans MS"/>
              </a:rPr>
              <a:t>Сәламәтле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i="1" lang="tt-RU" sz="4400" spc="-1" strike="noStrike">
                <a:solidFill>
                  <a:srgbClr val="703dff"/>
                </a:solidFill>
                <a:latin typeface="Comic Sans MS"/>
              </a:rPr>
              <a:t>Исегездә тотыгыз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32280" y="1828800"/>
            <a:ext cx="534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t-RU" sz="3200" spc="-1" strike="noStrike">
                <a:solidFill>
                  <a:srgbClr val="00b200"/>
                </a:solidFill>
                <a:latin typeface="Comic Sans MS"/>
              </a:rPr>
              <a:t>Елмаю</a:t>
            </a:r>
            <a:r>
              <a:rPr b="1" i="1" lang="tt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tt-RU" sz="3200" spc="-1" strike="noStrike">
                <a:solidFill>
                  <a:srgbClr val="000000"/>
                </a:solidFill>
                <a:latin typeface="Comic Sans MS"/>
              </a:rPr>
              <a:t>син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миңа ошыйсыз.Син мине бәхетле итәсез. Сине күрүемә бик шатмын”,-дигән сү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b200"/>
                </a:solidFill>
                <a:latin typeface="Comic Sans MS"/>
              </a:rPr>
              <a:t>Елмаю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- кеше йөрәгенә пар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r>
              <a:rPr b="1" i="1" lang="tt-RU" sz="4000" spc="-1" strike="noStrike">
                <a:solidFill>
                  <a:srgbClr val="703dff"/>
                </a:solidFill>
                <a:latin typeface="Comic Sans MS"/>
              </a:rPr>
              <a:t>Елмаегыз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2004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зель</dc:creator>
  <dc:description/>
  <dc:language>en-US</dc:language>
  <cp:lastModifiedBy>фирнат</cp:lastModifiedBy>
  <dcterms:modified xsi:type="dcterms:W3CDTF">2014-04-21T22:33:2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