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3.png" ContentType="image/png"/>
  <Override PartName="/ppt/media/image22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32.wmf" ContentType="image/x-wmf"/>
  <Override PartName="/ppt/media/image9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39DC-BA06-4F9B-AE12-5E3D22589A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B279-ACBE-42F4-BC13-583085F017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5C3E-2529-4362-AED5-9E63D2739A5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1D2D-EC39-42BF-BFA9-8E93FB4EBA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D6B1-6199-477E-A2F3-29F1280B95A7}" type="slidenum">
              <a:rPr b="1" lang="ru-RU" sz="1200" spc="-1" strike="noStrike">
                <a:solidFill>
                  <a:srgbClr val="000000"/>
                </a:solidFill>
                <a:latin typeface="Bookman Old Style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FB19-BBB0-4770-AA4C-A658109BEB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1D70-1040-4534-BBB4-81A3247AB5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Номер слайда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59B3-A020-4FEF-AE8B-874C7FB8FF72}" type="slidenum">
              <a:rPr b="1" lang="ru-RU" sz="1200" spc="-1" strike="noStrike">
                <a:solidFill>
                  <a:srgbClr val="000000"/>
                </a:solidFill>
                <a:latin typeface="Bookman Old Style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D4D1-A44F-440F-BE32-8F5C6A2234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90BD-C8B3-490A-90D0-CC1CB26C89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AA21-610D-4F85-A89C-4635401CD7E2}" type="slidenum">
              <a:rPr b="1" lang="ru-RU" sz="1200" spc="-1" strike="noStrike">
                <a:solidFill>
                  <a:srgbClr val="000000"/>
                </a:solidFill>
                <a:latin typeface="Bookman Old Style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116F-D06A-41BB-B69A-86F51A4352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6BC3-39DC-4D79-8D2E-2BF2665CD1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B347-76C4-41BD-A04D-C57200548D8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– совокупность требований при реализации ООП НО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29FD-07DC-4734-9A19-D1C7C8E061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заключаются треб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323A-8741-4BBD-A08B-884CF27DC1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треб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5148-B059-4919-BE0A-46B0548683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7636-09AC-4C08-ADC5-8C23191D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A06D-F5E6-475D-A252-358CE16B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7ECF-7F83-4AF3-8076-232011F7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0AA6-1C4C-485D-84FE-B8CBC1F4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792F-6049-4155-8F0A-BB4A9239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80AC-6FE4-48A1-A466-76FC1CDA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DF32-32EB-4F70-AA4A-35016140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7B6F-0712-4F4C-B1D5-9128ED02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163F-AF99-4047-B0DD-8B631CA3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199D-A315-43D7-8445-63809725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A0D8-E905-44C9-BD6C-E8C688BD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7F03-C4E1-4449-82F6-4A51EEBB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293D-DB64-4B61-A1F3-71035F16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3485-AC62-4462-A2C4-74B74D03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4CD1-7886-4EFC-A8F4-BCCE2AB1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BB53-B6C3-4AAC-8037-7E63A0D1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D7D0-897A-43DD-9565-7F35188C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FDE49-DB25-47D8-B08A-98E47E68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BD803-FB8C-4BA6-AF58-DED4CB83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07674-FA71-460F-B735-BBAE348B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D3829-736A-471A-9D93-765B883A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A5945-7F4E-40BC-8665-AB1C732B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D094-D64A-4088-A02B-1F0BCC1B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B23B7-5DBB-48C8-9CE6-F4D98AA5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B52DD-D16B-4D2D-91E4-B3AAF884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D6EFF-6307-4090-A207-47F87B63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9D81C-1A5F-47F1-900F-F6C2EA0F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55EF4-C7BF-4E28-A842-EAF2C4E8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E5E3A-7627-4150-BCC7-46FB75B5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14B28-7705-4FAC-9DA7-60CFD4D5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78BB9-21A8-42FD-AF8B-FB79F738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FE777-A62D-4959-A16C-BDD24FD1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EA20D-31CE-42DC-A7CE-93C89734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D52-8E93-4419-8C27-47EA285A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D91BB-DC99-4061-A64E-961E6F1B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118BA-7B04-490F-A5B8-6013286E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57A4E-950D-42EE-BCEA-C4C2B1CA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C1788-F92D-464E-AF8D-1980E81E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43D97-31CC-44B0-BA47-7599BC0D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A6B46-F968-4BED-AB95-B8ABD0C6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5CDDE-5FB3-485A-B93F-62E75622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529D6-130D-490B-A529-5E20BF07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77F00-4E78-45EC-AA8C-54C1B445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08EFE-83E7-4787-A851-D53AB28B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514-778A-4B2B-9EA0-7944759C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950B7-81AE-4B4E-BB42-FE162580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D270C-770D-4957-B073-E8E0A09B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4AEE8-A582-4DC2-8386-9027F82D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00546-1EE8-456A-9BAF-8580B343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3A34D-49A7-49E9-B898-D49FEE12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F4F5C-EBF2-42F8-B8CE-5F5C28F1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6F250-747C-4842-BDC2-44CED279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E6A84-756C-43DD-B059-1C602520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C8177-BBE0-41AD-BA09-5C10EE14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B1BAB-0675-40D2-BAC7-41E3E4FB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247-1620-4106-AACC-3D924591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7F1E3-5D5B-462B-927C-2F66CA85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98B7-4789-45B7-9621-01234FA2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A2E-47CB-4469-9612-EB9A4ED5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AD2-D24B-4DB7-A760-E644573F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1AA2-1F08-4124-89EB-6865E5101E93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E0FE-58D7-444E-A9EB-3A81D6F345F2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3E8F-3EB6-4F17-BDB0-6DB76AE64723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81BA-C816-47D6-9D90-09C6EECB3D3D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6CBE-EC1F-43AE-8F14-CE540247431F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8d3e"/>
                </a:solidFill>
                <a:latin typeface="Verdana"/>
              </a:rPr>
              <a:t>Студентка БСЗ-А3 курса</a:t>
            </a:r>
            <a:br>
              <a:rPr sz="4800"/>
            </a:br>
            <a:r>
              <a:rPr b="1" lang="ru-RU" sz="4800" spc="-1" strike="noStrike">
                <a:solidFill>
                  <a:srgbClr val="ff8d3e"/>
                </a:solidFill>
                <a:latin typeface="Verdana"/>
              </a:rPr>
              <a:t>Найфонова Светлана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3300"/>
                </a:solidFill>
                <a:latin typeface="Verdana"/>
              </a:rPr>
              <a:t>Метапредметные результаты</a:t>
            </a:r>
            <a:r>
              <a:rPr b="1" lang="ru-RU" sz="2200" spc="-1" strike="noStrike">
                <a:solidFill>
                  <a:srgbClr val="9f2936"/>
                </a:solidFill>
                <a:latin typeface="Verdana"/>
              </a:rPr>
              <a:t> освоения основной образовательной программы начального общего образования должны отражать: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72692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) Овладение способностью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имать и сохранять цели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учебной деятельности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) Освоение способов решения проблем творческого и поискового характера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) Формирование умений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ланировать, контролировать и оценивать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учебные действия в соответствии с поставленной целью и условиями ее реализац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)  Формирование умения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онимать причины успеха/неуспеха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учебной деятельности и способности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конструктивно действовать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даже в ситуациях неуспеха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)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Освоение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чальных форм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ознавательной и личностной рефлексии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6)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Использование знаково-символических средств для создания моделей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изучаемых объектов и процессов,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схем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ешения практических задач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7) Активное использование речевых средств и средств ИК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24000" y="620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8)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Использование различных способов поиска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(в справочных источниках и открытом учебном информационном пространстве сети Интернет)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сбора, обработки, анализа,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ередачи и интерпретации информации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в соответствии с коммуникативными и познавательными задачами учебного предмета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 умение вводить текст с помощью клавиатуры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 фиксировать (записывать) в цифровой форме измеряемые величины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  анализировать изображения, звуки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  готовить свое выступление и выступать с аудио-, видео- и графическим сопровождением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 соблюдать нормы информационной избирательности, этики и этикет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9)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Овладение навыкам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- смыслового чтения текстов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различных стилей и жанров в соответствии с целями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- осознанного построения речевого высказывания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в соответствии с задачами коммуникац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- составления текстов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в устной и письменной формах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0)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Овладение логическими действиям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равнения, анализа, синтеза, обобщения, классификации по родовидовым признакам, установления аналогий и причинно-следственных связей, построения рассуждений, отнесения к известным понятиям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1) Готовность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слушать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собеседника и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вести диалог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готовность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знавать возможность существования различных точек зрения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и права каждого иметь свою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злагать свое мнение и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аргументиро-вать свою точку зрения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и оценку событий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2) Определение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общей цели и путей ее достижения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умение договариваться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о распределении функций и ролей в совместной деятельност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осуществлять взаимный контроль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в совместной деятельности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адекватно оценивать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собственное поведение и поведение окружающих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3) Готовность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конструктивно разрешать конфликты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посредством учета интересов сторон и сотрудничества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4)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Овладение начальными сведениями о сущности и особенностях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объектов, процессов и явлений действительности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природных, социальных, культурных, технических и др.) в соответствии с содержанием конкретного учебного предмета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5)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Овладение базовыми предметными и межпредметными понятиями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, отражающими существенные связи и отношения между объектами и процессам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6)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Умение работать в материальной и информационной среде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начального общего образования в соответствии с содержанием конкретного учебного предмета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Verdana"/>
              </a:rPr>
              <a:t>Требования к структуре основной образовательной программы</a:t>
            </a: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сновная образовательная программа начального общего образования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содержит обязательную часть и часть, формируемую участниками образовательного процесс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бязательная часть составляет 80 %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асть, формируемая участниками образовательного процесса, – 20 % от общего объема ООП НОО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2" descr=""/>
          <p:cNvPicPr/>
          <p:nvPr/>
        </p:nvPicPr>
        <p:blipFill>
          <a:blip r:embed="rId1"/>
          <a:stretch/>
        </p:blipFill>
        <p:spPr>
          <a:xfrm>
            <a:off x="-189000" y="255600"/>
            <a:ext cx="8882280" cy="11653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2349360" y="1444320"/>
            <a:ext cx="6794640" cy="3941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ru-RU" sz="2600" spc="-1" strike="noStrike">
                <a:solidFill>
                  <a:srgbClr val="ff0000"/>
                </a:solidFill>
                <a:latin typeface="Verdana"/>
              </a:rPr>
              <a:t>Требования к структуре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яснительная записк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ланируемые результат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Базисный учебный план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ограмма формирования УУД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граммы по учебным предмета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грамма духовно-нравственного развития и воспита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грамма формирования культуры здорового и безопасного образа жизн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грамма коррекционной работ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истема оцен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18" descr="прим_прог_нач_общ"/>
          <p:cNvPicPr/>
          <p:nvPr/>
        </p:nvPicPr>
        <p:blipFill>
          <a:blip r:embed="rId2"/>
          <a:srcRect l="52076" t="0" r="0" b="0"/>
          <a:stretch/>
        </p:blipFill>
        <p:spPr>
          <a:xfrm>
            <a:off x="0" y="1628640"/>
            <a:ext cx="1595520" cy="2519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82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EADD-CA6D-4318-AE68-E4EC265407E1}" type="slidenum">
              <a:rPr b="0" lang="ru-RU" sz="10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f2936"/>
                </a:solidFill>
                <a:latin typeface="Verdana"/>
              </a:rPr>
              <a:t>Стандарт ориентирован на становление личностных характеристик</a:t>
            </a:r>
            <a:r>
              <a:rPr b="1" i="1" lang="ru-RU" sz="2200" spc="-1" strike="noStrike">
                <a:solidFill>
                  <a:srgbClr val="9f2936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9f2936"/>
                </a:solidFill>
                <a:latin typeface="Verdana"/>
              </a:rPr>
              <a:t>выпускника</a:t>
            </a: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cc3300"/>
                </a:solidFill>
                <a:latin typeface="Verdana"/>
              </a:rPr>
              <a:t>(«Портрет выпускника начальной школы»)</a:t>
            </a:r>
            <a:r>
              <a:rPr b="1" i="1" lang="ru-RU" sz="2200" spc="-1" strike="noStrike">
                <a:solidFill>
                  <a:srgbClr val="cc3300"/>
                </a:solidFill>
                <a:latin typeface="Verdana"/>
              </a:rPr>
              <a:t>: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7000"/>
          </a:bodyPr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f2936"/>
                </a:solidFill>
                <a:latin typeface="Verdana"/>
              </a:rPr>
              <a:t>любящий свой народ, свой край и свою Родин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f2936"/>
                </a:solidFill>
                <a:latin typeface="Verdana"/>
              </a:rPr>
              <a:t>уважающий и принимающий ценности семьи и общес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f2936"/>
                </a:solidFill>
                <a:latin typeface="Verdana"/>
              </a:rPr>
              <a:t>любознательный, активно и заинтересованно познающий ми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f2936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f2936"/>
                </a:solidFill>
                <a:latin typeface="Verdana"/>
              </a:rPr>
              <a:t>владеющий основами умения учиться, способный к организации собственной деятельност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f2936"/>
                </a:solidFill>
                <a:latin typeface="Verdana"/>
              </a:rPr>
              <a:t>готовый самостоятельно действовать и отвечать за свои поступки перед семьей и общество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f2936"/>
                </a:solidFill>
                <a:latin typeface="Verdana"/>
              </a:rPr>
              <a:t>доброжелательный, умеющий слушать и слышать собеседника, обосновывать  свою позицию, высказывать свое мнен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f2936"/>
                </a:solidFill>
                <a:latin typeface="Verdana"/>
              </a:rPr>
              <a:t>выполняющий правила здорового и безопасного для себя и окружающих образа жиз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1"/>
          <p:cNvSpPr/>
          <p:nvPr/>
        </p:nvSpPr>
        <p:spPr>
          <a:xfrm>
            <a:off x="1116000" y="765000"/>
            <a:ext cx="727236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9f2936"/>
                </a:solidFill>
                <a:latin typeface="Arial"/>
                <a:ea typeface="Arial"/>
              </a:rPr>
              <a:t>9</a:t>
            </a:r>
            <a:r>
              <a:rPr b="1" lang="ru-RU" sz="1900" spc="-1" strike="noStrike">
                <a:solidFill>
                  <a:srgbClr val="9f2936"/>
                </a:solidFill>
                <a:latin typeface="Arial"/>
                <a:ea typeface="Arial"/>
              </a:rPr>
              <a:t>. Раздел «Программа духовно-нравственного развития и воспитания учащихся»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 духовно-нравственного развития и воспитания учащихся должна быть разработана на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основе концепции духовно-нравственного развития и воспитания младших школьников и примерных программ и должна включать следующие компонент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- перечень базовых национальных ценностей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направления воспитательной работы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- цели и задачи в области формирования: личностной культуры; социальной культуры; семейной культуры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- виды и формы воспитательной деятельности: фестивали искусств, художественные выставки, школьные спектакли, занятия в спортивных секциях, участие в детских общественных организациях, экскурсиях, КТД  и т.д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626A-0C79-4332-A6B8-4A6ABEFAD17D}" type="slidenum">
              <a:rPr b="0" lang="ru-RU" sz="10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Rectangle 2" descr=""/>
          <p:cNvPicPr/>
          <p:nvPr/>
        </p:nvPicPr>
        <p:blipFill>
          <a:blip r:embed="rId1"/>
          <a:stretch/>
        </p:blipFill>
        <p:spPr>
          <a:xfrm>
            <a:off x="-189000" y="-500040"/>
            <a:ext cx="9015480" cy="19270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65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формирование у обучающихс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ичностной куль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мейной куль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циальной куль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4E95-305E-4267-A955-CE5AB2747AAB}" type="slidenum">
              <a:rPr b="0" lang="ru-RU" sz="10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Rectangle 2" descr=""/>
          <p:cNvPicPr/>
          <p:nvPr/>
        </p:nvPicPr>
        <p:blipFill>
          <a:blip r:embed="rId1"/>
          <a:stretch/>
        </p:blipFill>
        <p:spPr>
          <a:xfrm>
            <a:off x="-176040" y="268200"/>
            <a:ext cx="8088120" cy="115884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503280" y="1285560"/>
            <a:ext cx="8640720" cy="5095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65040" indent="-25560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Готовность и способность  к  нравственному самосовершенствованию, самооценке,  пониманию смысла своей жизни, индивидуально-ответственному поведени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Готовность и способность открыто выражать и отстаивать свою позицию, критически оценивать собственные намерения, мысли и поступ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Способность к самостоятельным поступкам и действиям, принятию ответственности за их результаты, целеустремленность и настойчивость в достижении результа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Трудолюбие, бережливость, жизненный оптимиз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Осознание ценности человеческой жизни, нетерпимость к действиям и влияниям, представляющим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грозу физическому и нравственному здоровью и духовной безопас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499760"/>
            <a:ext cx="7772400" cy="3357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ОДЕРЖАНИЕ федерального государственного образовательного стандарта (ФГОС)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СТРУКТУРА  основной образовательной программы начального общего образования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(ООП  НОО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2411280" y="5786280"/>
            <a:ext cx="6400800" cy="11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79766f"/>
                </a:solidFill>
                <a:latin typeface="Verdana"/>
              </a:rPr>
              <a:t>о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7" descr="fgos"/>
          <p:cNvPicPr/>
          <p:nvPr/>
        </p:nvPicPr>
        <p:blipFill>
          <a:blip r:embed="rId1"/>
          <a:stretch/>
        </p:blipFill>
        <p:spPr>
          <a:xfrm>
            <a:off x="7242120" y="754200"/>
            <a:ext cx="12542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645F-7CFD-4FBB-8ACF-0DF0381C2979}" type="slidenum">
              <a:rPr b="0" lang="ru-RU" sz="10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Rectangle 2" descr=""/>
          <p:cNvPicPr/>
          <p:nvPr/>
        </p:nvPicPr>
        <p:blipFill>
          <a:blip r:embed="rId1"/>
          <a:stretch/>
        </p:blipFill>
        <p:spPr>
          <a:xfrm>
            <a:off x="-176040" y="268200"/>
            <a:ext cx="7802280" cy="11588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783432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62626"/>
                </a:solidFill>
                <a:latin typeface="Verdana"/>
              </a:rPr>
              <a:t>Осознание безусловной ценности семьи как первоосновы нашей принадлежности к народу, Отечеств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62626"/>
                </a:solidFill>
                <a:latin typeface="Verdana"/>
              </a:rPr>
              <a:t>Понимание и поддержание таких нравственных устоев семьи, как любовь, взаимопомощь, почитание родителей, забота о младших и старших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62626"/>
                </a:solidFill>
                <a:latin typeface="Verdana"/>
              </a:rPr>
              <a:t>Бережное отношение к жизни человека, забота о продолжении род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5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D73D-3A99-4C41-9050-FCF7EA327910}" type="slidenum">
              <a:rPr b="0" lang="ru-RU" sz="10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-176040" y="49320"/>
            <a:ext cx="7941960" cy="11570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7545240" cy="4873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Verdana"/>
              </a:rPr>
              <a:t>Осознание себя гражданином России на основе принятия национальных духовных и нравственных ценност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Verdana"/>
              </a:rPr>
              <a:t>Вера в Россию. Забота о преуспевании единого многонационального российского народа, поддержание национального мира и соглас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Verdana"/>
              </a:rPr>
              <a:t>Готовность солидарно противостоять глобальным вызовам современной эпох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Verdana"/>
              </a:rPr>
              <a:t>Развитость чувства патриотизма и гражданской солидар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Verdana"/>
              </a:rPr>
              <a:t>Способность к сознательному личностному, профессиональному, гражданскому и иному самоопределению и развити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1"/>
          <p:cNvSpPr/>
          <p:nvPr/>
        </p:nvSpPr>
        <p:spPr>
          <a:xfrm>
            <a:off x="1187280" y="836640"/>
            <a:ext cx="712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  <a:ea typeface="Arial"/>
              </a:rPr>
              <a:t>10</a:t>
            </a:r>
            <a:r>
              <a:rPr b="1" lang="ru-RU" sz="3600" spc="-1" strike="noStrike">
                <a:solidFill>
                  <a:srgbClr val="000000"/>
                </a:solidFill>
                <a:latin typeface="Candara"/>
                <a:ea typeface="Arial"/>
              </a:rPr>
              <a:t>. </a:t>
            </a:r>
            <a:r>
              <a:rPr b="1" lang="ru-RU" sz="3600" spc="-1" strike="noStrike">
                <a:solidFill>
                  <a:srgbClr val="0070c0"/>
                </a:solidFill>
                <a:latin typeface="Candara"/>
                <a:ea typeface="Arial"/>
              </a:rPr>
              <a:t>Раздел «Программа коррекционной работы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ndara"/>
                <a:ea typeface="Arial"/>
              </a:rPr>
              <a:t>В программе необходимо указать задачи, направления работы, характеристику содержания рабо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1"/>
          <p:cNvSpPr/>
          <p:nvPr/>
        </p:nvSpPr>
        <p:spPr>
          <a:xfrm>
            <a:off x="755640" y="620640"/>
            <a:ext cx="8209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ndara"/>
                <a:ea typeface="Arial"/>
              </a:rPr>
              <a:t>10. Раздел «Система оценки достижения планируемых результатов освоения основной образовательной программы начального общего образования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  <a:ea typeface="Arial"/>
              </a:rPr>
              <a:t>В разделе необходимо указа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  <a:ea typeface="Arial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Candara"/>
                <a:ea typeface="Arial"/>
              </a:rPr>
              <a:t>способы оценки личностных результатов 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  <a:ea typeface="Arial"/>
              </a:rPr>
              <a:t>(перечислить диагностические методики определения достижения личностных результатов, применяемые психологом или учителе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1"/>
          <p:cNvSpPr/>
          <p:nvPr/>
        </p:nvSpPr>
        <p:spPr>
          <a:xfrm>
            <a:off x="826920" y="836640"/>
            <a:ext cx="7490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  <a:ea typeface="Arial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Candara"/>
                <a:ea typeface="Arial"/>
              </a:rPr>
              <a:t>способы оценки предметных результатов 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  <a:ea typeface="Arial"/>
              </a:rPr>
              <a:t>(оценочные листы, электронные дневники, листы достижений, планируемый график проведения проверочных работ по всем учебным предметам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  <a:ea typeface="Arial"/>
              </a:rPr>
              <a:t>Указать формы организации накопительной оценки 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  <a:ea typeface="Arial"/>
              </a:rPr>
              <a:t>(структуру портфолио и критерии его оценк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1"/>
          <p:cNvSpPr/>
          <p:nvPr/>
        </p:nvSpPr>
        <p:spPr>
          <a:xfrm>
            <a:off x="755640" y="765000"/>
            <a:ext cx="770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andara"/>
                <a:ea typeface="Arial"/>
              </a:rPr>
              <a:t>Указать структуру итоговой оце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  <a:ea typeface="Arial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Candara"/>
                <a:ea typeface="Arial"/>
              </a:rPr>
              <a:t>накопленная оценка 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  <a:ea typeface="Arial"/>
              </a:rPr>
              <a:t>по всем предметам, характеризующая динамику образовательных достижений учащихся за период обучения; </a:t>
            </a:r>
            <a:r>
              <a:rPr b="0" i="1" lang="ru-RU" sz="3200" spc="-1" strike="noStrike">
                <a:solidFill>
                  <a:srgbClr val="000000"/>
                </a:solidFill>
                <a:latin typeface="Candara"/>
                <a:ea typeface="Arial"/>
              </a:rPr>
              <a:t>оценки за выполнение итоговых работ 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  <a:ea typeface="Arial"/>
              </a:rPr>
              <a:t>по русскому языку, математике и </a:t>
            </a:r>
            <a:r>
              <a:rPr b="0" i="1" lang="ru-RU" sz="3200" spc="-1" strike="noStrike">
                <a:solidFill>
                  <a:srgbClr val="000000"/>
                </a:solidFill>
                <a:latin typeface="Candara"/>
                <a:ea typeface="Arial"/>
              </a:rPr>
              <a:t>комплексные работы на межпредметной основе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  <a:ea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Verdana"/>
              </a:rPr>
              <a:t>Требования Стандар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Verdana"/>
              </a:rPr>
              <a:t>Основная образовательная программа</a:t>
            </a:r>
            <a:r>
              <a:rPr b="0" lang="ru-RU" sz="1800" spc="-1" strike="noStrike">
                <a:solidFill>
                  <a:srgbClr val="003399"/>
                </a:solidFill>
                <a:latin typeface="Verdana"/>
              </a:rPr>
              <a:t> начального общего образования должна содержать следующие </a:t>
            </a:r>
            <a:r>
              <a:rPr b="1" lang="ru-RU" sz="1800" spc="-1" strike="noStrike">
                <a:solidFill>
                  <a:srgbClr val="003399"/>
                </a:solidFill>
                <a:latin typeface="Verdana"/>
              </a:rPr>
              <a:t>разделы: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 Пояснительная запис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 Планируемые результат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освоения обучающимися основной образовательной программ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. Учебный план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начального общего образов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. Программа формирования универсальных учебных действи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у обучающихся на ступени начального общего образов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ограммы отдельных учебных предметов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курсов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ограмма духовно-нравственного развит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воспитания обучающих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7. Программа формирования культуры  здорового и безопасного образа жизн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8. Программа коррекционной рабо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при организации обучения и воспитания в образовательном учреждении детей с ограниченными возможностями здоровь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стема оценки достижения планируемых результат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своения основной образовательной программы начального общего образ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Требования к разделам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8000"/>
          </a:bodyPr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1. Пояснительная записка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лжна раскрывать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конкретизированные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цел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реализации  ООП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ринципы и подходы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к формированию ООП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 состава участников образовательного процесса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конкретного образовательного учрежд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бщую характеристик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ОП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Требования к раздела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ланируемые результаты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своения ООП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лжны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уточнять и конкретизировать общее понимание личностных, метапредметных и предметных результато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позиций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рганизации их достиж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в образовательном процессе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 позиций оценк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этих результатов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"/>
          <p:cNvGrpSpPr/>
          <p:nvPr/>
        </p:nvGrpSpPr>
        <p:grpSpPr>
          <a:xfrm>
            <a:off x="9360" y="1440"/>
            <a:ext cx="9075960" cy="6861240"/>
            <a:chOff x="9360" y="1440"/>
            <a:chExt cx="9075960" cy="6861240"/>
          </a:xfrm>
        </p:grpSpPr>
        <p:sp>
          <p:nvSpPr>
            <p:cNvPr id="232" name="Rectangle 3"/>
            <p:cNvSpPr/>
            <p:nvPr/>
          </p:nvSpPr>
          <p:spPr>
            <a:xfrm>
              <a:off x="9360" y="1440"/>
              <a:ext cx="907596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4"/>
            <p:cNvSpPr/>
            <p:nvPr/>
          </p:nvSpPr>
          <p:spPr>
            <a:xfrm>
              <a:off x="281160" y="289080"/>
              <a:ext cx="853272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5"/>
          <p:cNvSpPr/>
          <p:nvPr/>
        </p:nvSpPr>
        <p:spPr>
          <a:xfrm>
            <a:off x="684360" y="507960"/>
            <a:ext cx="6308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f2936"/>
                </a:solidFill>
                <a:latin typeface="Arial"/>
                <a:ea typeface="Arial"/>
              </a:rPr>
              <a:t>Из Пояснительной записки к ФГОС 200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684360" y="1125360"/>
            <a:ext cx="6279840" cy="1739880"/>
          </a:xfrm>
          <a:prstGeom prst="rect">
            <a:avLst/>
          </a:prstGeom>
          <a:solidFill>
            <a:srgbClr val="ffffcc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астоящий стандар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004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тандар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го покол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н выстроен с опорой на реальное понимание состояния школьного дела, с учетом возможностей сегодняшнего образования (учебно-методических, кадровых и пр.). В этом плане данный стандарт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еходным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fgos"/>
          <p:cNvPicPr/>
          <p:nvPr/>
        </p:nvPicPr>
        <p:blipFill>
          <a:blip r:embed="rId1"/>
          <a:stretch/>
        </p:blipFill>
        <p:spPr>
          <a:xfrm>
            <a:off x="7242120" y="754200"/>
            <a:ext cx="1254240" cy="385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Картинка 76 из 167"/>
          <p:cNvPicPr/>
          <p:nvPr/>
        </p:nvPicPr>
        <p:blipFill>
          <a:blip r:embed="rId2"/>
          <a:srcRect l="64137" t="14084" r="0" b="18312"/>
          <a:stretch/>
        </p:blipFill>
        <p:spPr>
          <a:xfrm>
            <a:off x="7308720" y="1484280"/>
            <a:ext cx="1192320" cy="157788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grpSp>
        <p:nvGrpSpPr>
          <p:cNvPr id="238" name="Group 9"/>
          <p:cNvGrpSpPr/>
          <p:nvPr/>
        </p:nvGrpSpPr>
        <p:grpSpPr>
          <a:xfrm>
            <a:off x="755640" y="3427920"/>
            <a:ext cx="7797960" cy="2824920"/>
            <a:chOff x="755640" y="3427920"/>
            <a:chExt cx="7797960" cy="2824920"/>
          </a:xfrm>
        </p:grpSpPr>
        <p:sp>
          <p:nvSpPr>
            <p:cNvPr id="239" name="Rectangle 10"/>
            <p:cNvSpPr/>
            <p:nvPr/>
          </p:nvSpPr>
          <p:spPr>
            <a:xfrm>
              <a:off x="776160" y="4238640"/>
              <a:ext cx="6197760" cy="2014200"/>
            </a:xfrm>
            <a:prstGeom prst="rect">
              <a:avLst/>
            </a:prstGeom>
            <a:solidFill>
              <a:srgbClr val="ddffdd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 образовательном стандарте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второго поколе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во главу угла ставится личность ребенка, его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умение учиться.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Принципиальное его отличие заключается в том, что на первое место выходят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требования к результатам образования и процедуры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подтверждения соответствия реально достигнутых результатов ожидаемы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1"/>
            <p:cNvSpPr/>
            <p:nvPr/>
          </p:nvSpPr>
          <p:spPr>
            <a:xfrm>
              <a:off x="755640" y="3427920"/>
              <a:ext cx="7797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f2936"/>
                  </a:solidFill>
                  <a:latin typeface="Arial"/>
                  <a:ea typeface="Arial"/>
                </a:rPr>
                <a:t>Из интервью с А.М. Кондаковым –</a:t>
              </a:r>
              <a:r>
                <a:rPr b="1" lang="ru-RU" sz="1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9f2936"/>
                  </a:solidFill>
                  <a:latin typeface="Arial"/>
                  <a:ea typeface="Arial"/>
                </a:rPr>
                <a:t>руководителем группы по разработке ФГОС 2009 год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Picture 12" descr="Картинка 1 из 4323"/>
            <p:cNvPicPr/>
            <p:nvPr/>
          </p:nvPicPr>
          <p:blipFill>
            <a:blip r:embed="rId3"/>
            <a:srcRect l="31152" t="0" r="12347" b="0"/>
            <a:stretch/>
          </p:blipFill>
          <p:spPr>
            <a:xfrm>
              <a:off x="7343640" y="4440240"/>
              <a:ext cx="1189080" cy="164160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2" descr=""/>
          <p:cNvPicPr/>
          <p:nvPr/>
        </p:nvPicPr>
        <p:blipFill>
          <a:blip r:embed="rId1"/>
          <a:stretch/>
        </p:blipFill>
        <p:spPr>
          <a:xfrm>
            <a:off x="-225360" y="268200"/>
            <a:ext cx="8461440" cy="11588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5" descr="C:\Documents and Settings\EKnyazeva\Рабочий стол\ПРОЕКТ_Продвижение Стандарта\Standart\Начал шк\3.jpg"/>
          <p:cNvPicPr/>
          <p:nvPr/>
        </p:nvPicPr>
        <p:blipFill>
          <a:blip r:embed="rId2"/>
          <a:stretch/>
        </p:blipFill>
        <p:spPr>
          <a:xfrm>
            <a:off x="0" y="1413000"/>
            <a:ext cx="2008080" cy="3024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3530160" y="1444680"/>
            <a:ext cx="5613480" cy="4937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ланируемые результаты освоения сквозных (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междисциплинарных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) программ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ограмма формирования УУД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ограмма «Чтение. Работа с текстом»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ланируемые  результаты изучения программ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о учебным  предметам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усский язык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Литературное чтение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атематика, Информатик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ностранный язык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зобразительное искусство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узык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Технология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Физическая культур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Номер слайда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6480-D4E9-4609-9E93-C5D677B6E2C5}" type="slidenum">
              <a:rPr b="0" lang="ru-RU" sz="1000" spc="-1" strike="noStrike">
                <a:solidFill>
                  <a:srgbClr val="000000"/>
                </a:solidFill>
                <a:latin typeface="Bookman Old Styl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63280" y="1093680"/>
            <a:ext cx="8280360" cy="4640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истема планируемых результатов по каждому предмету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лжна дать представление о том,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какими именно действиями (познавательными, личностными, регулятивными, коммуникативными), в рамках данного предмета, овладеют учащиеся в ходе образовательного процесс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4" name="Picture 4" descr="stand_"/>
          <p:cNvPicPr/>
          <p:nvPr/>
        </p:nvPicPr>
        <p:blipFill>
          <a:blip r:embed="rId1"/>
          <a:stretch/>
        </p:blipFill>
        <p:spPr>
          <a:xfrm>
            <a:off x="0" y="0"/>
            <a:ext cx="3056040" cy="7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0000"/>
                </a:solidFill>
                <a:latin typeface="Verdana"/>
              </a:rPr>
              <a:t>Эталон составления планируемых результатов по учебному предмету, по разделу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ичностные результа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цели-ориентиры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выпускник научитс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выпускник получит возможность научить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тивные результа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цели-ориентиры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выпускник научитс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выпускник получит возможность научить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знавательные</a:t>
            </a:r>
            <a:r>
              <a:rPr b="0" i="1" lang="ru-RU" sz="2800" spc="-1" strike="noStrike">
                <a:solidFill>
                  <a:srgbClr val="9f293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цели-ориентиры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выпускник научитс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выпускник получит возможность научить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ммуникативные результа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цели-ориентиры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выпускник научитс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выпускник получит возможность научить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метные результа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цели-ориентиры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выпускник научитс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выпускник получит возможность научить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109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Verdana"/>
              </a:rPr>
              <a:t>Планируемые результаты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109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Цели-ориентиры (общие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1094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109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сфере личностных универсальных учебных действий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удут сформированы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1094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нутренняя позиция школьника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1094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адекватная мотивация учебной деятельности, включая учебные и познавательные мотивы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1094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риентация на моральные нормы и их выполнени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-171360" y="-182520"/>
            <a:ext cx="84074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0" y="76464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109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-ориентир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09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09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сфере регулятивных универсальных учебных действий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1094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пускники должны овладеть всеми типами учебных действий, включая способность принимать и сохранять учебную цель и задачу, планировать ее реализацию, контролировать и оценивать свои действия, вносить соответствующие коррективы в их выполнени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1094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109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-ориентир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09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09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фере познавательных универсальных учебных действи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09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ускники научатс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094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ть знаково-символические средств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094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владеют действием моделирования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094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гическими операциями, включая общие приемы решения зада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094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65040" indent="-255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включает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язательную част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асть, формируемую участниками образовательного процес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еурочную деятельность по направления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(10 часов в неделю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ортивно-оздоровительное (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портивные секци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уховно-нравственное (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оенно-патриотические, экологические,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раеведческие клубы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щеинтеллектуальное (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дметные кружки, факультативы,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ектная деятельнос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щекультурное (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узыкальные кружки, театральная студия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циальное  (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луб «Забота», кружок «Рукоделие», кружок «Этикет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 А до Я»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Заголовок 2" descr=""/>
          <p:cNvPicPr/>
          <p:nvPr/>
        </p:nvPicPr>
        <p:blipFill>
          <a:blip r:embed="rId1"/>
          <a:stretch/>
        </p:blipFill>
        <p:spPr>
          <a:xfrm>
            <a:off x="-189000" y="-401760"/>
            <a:ext cx="8425080" cy="1243080"/>
          </a:xfrm>
          <a:prstGeom prst="rect">
            <a:avLst/>
          </a:prstGeom>
          <a:ln w="0">
            <a:noFill/>
          </a:ln>
        </p:spPr>
      </p:pic>
      <p:sp>
        <p:nvSpPr>
          <p:cNvPr id="325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ADB2-5691-42E1-B406-2618F9D07590}" type="slidenum">
              <a:rPr b="0" lang="ru-RU" sz="1000" spc="-1" strike="noStrike">
                <a:solidFill>
                  <a:srgbClr val="000000"/>
                </a:solidFill>
                <a:latin typeface="Bookman Old Styl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stand_"/>
          <p:cNvPicPr/>
          <p:nvPr/>
        </p:nvPicPr>
        <p:blipFill>
          <a:blip r:embed="rId2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неурочная деятельность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уетс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правления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звития лич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спортивно-оздоровительное, духовно-нравственное, социальное, общеинтеллектуальное, общекультурно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таких формах как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ружок, клуб, студия, секция, научное общество учащихся, малая академия наук, круглый стол, конференция, диспут, олимпиада, поисковое и научное исследование, общественно полезная практика, экскурс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0E3E-229F-44D6-A02F-F4593FC38FE3}" type="slidenum">
              <a:rPr b="0" lang="ru-RU" sz="1000" spc="-1" strike="noStrike">
                <a:solidFill>
                  <a:srgbClr val="000000"/>
                </a:solidFill>
                <a:latin typeface="Bookman Old Styl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Rectangle 3" descr=""/>
          <p:cNvPicPr/>
          <p:nvPr/>
        </p:nvPicPr>
        <p:blipFill>
          <a:blip r:embed="rId1"/>
          <a:stretch/>
        </p:blipFill>
        <p:spPr>
          <a:xfrm>
            <a:off x="-225360" y="225360"/>
            <a:ext cx="8515440" cy="762120"/>
          </a:xfrm>
          <a:prstGeom prst="rect">
            <a:avLst/>
          </a:prstGeom>
          <a:ln w="0">
            <a:noFill/>
          </a:ln>
        </p:spPr>
      </p:pic>
      <p:grpSp>
        <p:nvGrpSpPr>
          <p:cNvPr id="244" name="AutoShape 7"/>
          <p:cNvGrpSpPr/>
          <p:nvPr/>
        </p:nvGrpSpPr>
        <p:grpSpPr>
          <a:xfrm>
            <a:off x="5638680" y="1944720"/>
            <a:ext cx="3333960" cy="2462040"/>
            <a:chOff x="5638680" y="1944720"/>
            <a:chExt cx="3333960" cy="2462040"/>
          </a:xfrm>
        </p:grpSpPr>
        <p:pic>
          <p:nvPicPr>
            <p:cNvPr id="245" name="AutoShape 7" descr=""/>
            <p:cNvPicPr/>
            <p:nvPr/>
          </p:nvPicPr>
          <p:blipFill>
            <a:blip r:embed="rId2"/>
            <a:stretch/>
          </p:blipFill>
          <p:spPr>
            <a:xfrm>
              <a:off x="5638680" y="1944720"/>
              <a:ext cx="3333960" cy="24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837400" y="2101680"/>
              <a:ext cx="2943000" cy="20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7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Методологическая осно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AutoShape 8"/>
          <p:cNvGrpSpPr/>
          <p:nvPr/>
        </p:nvGrpSpPr>
        <p:grpSpPr>
          <a:xfrm>
            <a:off x="165240" y="1944720"/>
            <a:ext cx="3260520" cy="2462040"/>
            <a:chOff x="165240" y="1944720"/>
            <a:chExt cx="3260520" cy="2462040"/>
          </a:xfrm>
        </p:grpSpPr>
        <p:pic>
          <p:nvPicPr>
            <p:cNvPr id="248" name="AutoShape 8" descr=""/>
            <p:cNvPicPr/>
            <p:nvPr/>
          </p:nvPicPr>
          <p:blipFill>
            <a:blip r:embed="rId3"/>
            <a:stretch/>
          </p:blipFill>
          <p:spPr>
            <a:xfrm>
              <a:off x="165240" y="1944720"/>
              <a:ext cx="3260520" cy="24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363600" y="2101680"/>
              <a:ext cx="2870280" cy="20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7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Идеологическая 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осно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AutoShape 9"/>
          <p:cNvSpPr/>
          <p:nvPr/>
        </p:nvSpPr>
        <p:spPr>
          <a:xfrm>
            <a:off x="611280" y="2708280"/>
            <a:ext cx="273672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3232"/>
                </a:solidFill>
                <a:latin typeface="Lucida Sans Unicode"/>
                <a:ea typeface="Arial"/>
              </a:rPr>
              <a:t>Концеп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3232"/>
                </a:solidFill>
                <a:latin typeface="Lucida Sans Unicode"/>
                <a:ea typeface="Arial"/>
              </a:rPr>
              <a:t>духов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3232"/>
                </a:solidFill>
                <a:latin typeface="Lucida Sans Unicode"/>
                <a:ea typeface="Arial"/>
              </a:rPr>
              <a:t>нравств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3232"/>
                </a:solidFill>
                <a:latin typeface="Lucida Sans Unicode"/>
                <a:ea typeface="Arial"/>
              </a:rPr>
              <a:t>развития и воспит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3232"/>
                </a:solidFill>
                <a:latin typeface="Lucida Sans Unicode"/>
                <a:ea typeface="Arial"/>
              </a:rPr>
              <a:t>личности граждан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3232"/>
                </a:solidFill>
                <a:latin typeface="Lucida Sans Unicode"/>
                <a:ea typeface="Arial"/>
              </a:rPr>
              <a:t>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0"/>
          <p:cNvSpPr/>
          <p:nvPr/>
        </p:nvSpPr>
        <p:spPr>
          <a:xfrm>
            <a:off x="6227640" y="2637000"/>
            <a:ext cx="2665440" cy="165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3232"/>
                </a:solidFill>
                <a:latin typeface="Lucida Sans Unicode"/>
                <a:ea typeface="Arial"/>
              </a:rPr>
              <a:t>Системн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3232"/>
                </a:solidFill>
                <a:latin typeface="Lucida Sans Unicode"/>
                <a:ea typeface="Arial"/>
              </a:rPr>
              <a:t>деятельност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3232"/>
                </a:solidFill>
                <a:latin typeface="Lucida Sans Unicode"/>
                <a:ea typeface="Arial"/>
              </a:rPr>
              <a:t>подх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7"/>
          <p:cNvSpPr/>
          <p:nvPr/>
        </p:nvSpPr>
        <p:spPr>
          <a:xfrm rot="2548800">
            <a:off x="2339640" y="44557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42480">
            <a:solidFill>
              <a:srgbClr val="4e85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3"/>
          <p:cNvSpPr/>
          <p:nvPr/>
        </p:nvSpPr>
        <p:spPr>
          <a:xfrm rot="8523600">
            <a:off x="5682960" y="44557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42480">
            <a:solidFill>
              <a:srgbClr val="4e85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6"/>
          <p:cNvSpPr/>
          <p:nvPr/>
        </p:nvSpPr>
        <p:spPr>
          <a:xfrm>
            <a:off x="3357720" y="981000"/>
            <a:ext cx="25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Arial"/>
              </a:rPr>
              <a:t>Стратегия 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Arial"/>
              </a:rPr>
              <a:t>Националь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Arial"/>
              </a:rPr>
              <a:t>образователь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Arial"/>
              </a:rPr>
              <a:t>инициати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Arial"/>
              </a:rPr>
              <a:t>«Наша новая шко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7"/>
          <p:cNvSpPr/>
          <p:nvPr/>
        </p:nvSpPr>
        <p:spPr>
          <a:xfrm rot="5400000">
            <a:off x="4214160" y="3000240"/>
            <a:ext cx="719280" cy="57636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42480">
            <a:solidFill>
              <a:srgbClr val="4e85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395280" y="5661000"/>
            <a:ext cx="813744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691e"/>
              </a:gs>
              <a:gs pos="100000">
                <a:srgbClr val="65ba57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  <a:ea typeface="Arial"/>
              </a:rPr>
              <a:t>Общественный договор – социальный запрос семь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  <a:ea typeface="Arial"/>
              </a:rPr>
              <a:t>общества и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3357720" y="4132440"/>
            <a:ext cx="2376360" cy="129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3232"/>
                </a:solidFill>
                <a:latin typeface="Arial"/>
                <a:ea typeface="Arial"/>
              </a:rPr>
              <a:t>Федера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3232"/>
                </a:solidFill>
                <a:latin typeface="Arial"/>
                <a:ea typeface="Arial"/>
              </a:rPr>
              <a:t>государстве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3232"/>
                </a:solidFill>
                <a:latin typeface="Arial"/>
                <a:ea typeface="Arial"/>
              </a:rPr>
              <a:t>образова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3232"/>
                </a:solidFill>
                <a:latin typeface="Arial"/>
                <a:ea typeface="Arial"/>
              </a:rPr>
              <a:t>стандарт общ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3232"/>
                </a:solidFill>
                <a:latin typeface="Arial"/>
                <a:ea typeface="Arial"/>
              </a:rPr>
              <a:t>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1619280" y="274680"/>
            <a:ext cx="5554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Глоссарий </a:t>
            </a:r>
            <a:r>
              <a:rPr b="1" lang="ru-RU" sz="2800" spc="-1" strike="noStrike">
                <a:solidFill>
                  <a:srgbClr val="32323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60200" y="903240"/>
            <a:ext cx="878544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ружок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783f04"/>
                </a:solidFill>
                <a:uFillTx/>
                <a:latin typeface="Arial"/>
              </a:rPr>
              <a:t>г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упп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ц с общими интересами, объединившихся для постоянных совместных занятий чем-ни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луб – </a:t>
            </a:r>
            <a:r>
              <a:rPr b="0" lang="ru-RU" sz="3200" spc="-1" strike="noStrike">
                <a:solidFill>
                  <a:srgbClr val="783f04"/>
                </a:solidFill>
                <a:latin typeface="Arial"/>
              </a:rPr>
              <a:t>общественная организ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добровольно объединяющая группы людей по интересам для отдыха и развлечения, со строгим член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араметры клуб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пециальный стиль клуба, характеристика института членства, устав клуба, специфическое клубное пространство, стиль клуба (стиль поведения, имидж членов клуба), наличие собственной темы клуба, организация самоуправления, общение как основа клубной самоорганиз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1"/>
          <p:cNvSpPr/>
          <p:nvPr/>
        </p:nvSpPr>
        <p:spPr>
          <a:xfrm>
            <a:off x="611280" y="723960"/>
            <a:ext cx="7993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2"/>
          <p:cNvSpPr/>
          <p:nvPr/>
        </p:nvSpPr>
        <p:spPr>
          <a:xfrm>
            <a:off x="0" y="189000"/>
            <a:ext cx="90360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Факультатив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язательный учебный курс или предмет, изучаемый учащимися по их желанию </a:t>
            </a:r>
            <a:r>
              <a:rPr b="0" lang="ru-RU" sz="3200" spc="-1" strike="noStrike">
                <a:solidFill>
                  <a:srgbClr val="783f04"/>
                </a:solidFill>
                <a:latin typeface="Arial"/>
              </a:rPr>
              <a:t>для углубления и расширения научно-теоретических зна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тудия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мастерская живописца или скульптора 2) школа, готовящая художников или актер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название некоторых театральных коллективов молодых актер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предприятие по производству кино- или телефильм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екция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разделение в составе учреждения, организации или съезде для занятий определённым кругом работ, </a:t>
            </a:r>
            <a:r>
              <a:rPr b="0" lang="ru-RU" sz="3200" spc="-1" strike="noStrike">
                <a:solidFill>
                  <a:srgbClr val="0d0d0d"/>
                </a:solidFill>
                <a:latin typeface="Arial"/>
              </a:rPr>
              <a:t>организация участников для занятий определённым видом спор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60200" y="903240"/>
            <a:ext cx="878544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ек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(о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лат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la-VA" sz="3200" spc="-1" strike="noStrike">
                <a:solidFill>
                  <a:srgbClr val="000000"/>
                </a:solidFill>
                <a:latin typeface="Arial"/>
              </a:rPr>
              <a:t>projectus</a:t>
            </a:r>
            <a:r>
              <a:rPr b="0" lang="la-V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— «брошенный вперед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 — это уникальная деятельность, имеющая начало и конец во времени, направленная на достижение заранее определённог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езульта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е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оздание определённого, уникальног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дук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ли услуги, при заданных ограничениях по ресурсам и срокам, а также требованиям к качест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Проект должен порождать уникальные результаты, достижения, продук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1"/>
          <p:cNvSpPr/>
          <p:nvPr/>
        </p:nvSpPr>
        <p:spPr>
          <a:xfrm>
            <a:off x="395280" y="620640"/>
            <a:ext cx="806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оект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“пять П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блема – Проектирование (планирование) – Поиск информации – Продукт – Презент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естое “П” проекта – ег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тфоли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.е. папка, в которой собраны все рабочие материалы проекта, в том числе черновики, дневные планы и отчеты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ое правил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каждый этап работы над проектом должен иметь свой конкретный продук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Формой подведения итогов работ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того или иного объединения детей может быть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выставка, выставка-ярмарка, слёт, конференция, соревнование, конкурс, фестиваль, отчётный концер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т.п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организации внеурочной деятельности обучающихся образовательным учреждением могут использовать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зможности образовательных учреждений дополнительного образова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етей, организаций культуры и спорта, а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период каникул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могут проводиться тематические лагерные смены, организовываться летние школы на базе общеобразовательных учреждений и образовательных учреждений дополнительного образования детей («интенсив»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5" descr=""/>
          <p:cNvPicPr/>
          <p:nvPr/>
        </p:nvPicPr>
        <p:blipFill>
          <a:blip r:embed="rId1"/>
          <a:stretch/>
        </p:blipFill>
        <p:spPr>
          <a:xfrm>
            <a:off x="-225360" y="225360"/>
            <a:ext cx="8931240" cy="7621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progr_univ-d"/>
          <p:cNvPicPr/>
          <p:nvPr/>
        </p:nvPicPr>
        <p:blipFill>
          <a:blip r:embed="rId2"/>
          <a:stretch/>
        </p:blipFill>
        <p:spPr>
          <a:xfrm>
            <a:off x="0" y="1700280"/>
            <a:ext cx="2041560" cy="33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8" name=""/>
          <p:cNvSpPr txBox="1"/>
          <p:nvPr/>
        </p:nvSpPr>
        <p:spPr>
          <a:xfrm>
            <a:off x="2735280" y="1197000"/>
            <a:ext cx="6408720" cy="54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ды универсальных учебных действ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ичностные-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амоопределение, смыслообразование, нравственно-этическая ориент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гулятивные -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елеполагание, планирование, коррекция, оценка, саморегуля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знавательные-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общеучебные, логические учебные действия, постановка и решение проблемы (работа с информацией, с учебными моделями, использование знаково –символических средст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муникативные-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ланирование учебного сотрудничества, умение полно и точ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выражать свои мысли, разрешение конфлик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F5B4-1391-426A-857D-76BC3533D9A3}" type="slidenum">
              <a:rPr b="0" lang="ru-RU" sz="1000" spc="-1" strike="noStrike">
                <a:solidFill>
                  <a:srgbClr val="000000"/>
                </a:solidFill>
                <a:latin typeface="Bookman Old Styl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2" descr=""/>
          <p:cNvPicPr/>
          <p:nvPr/>
        </p:nvPicPr>
        <p:blipFill>
          <a:blip r:embed="rId1"/>
          <a:stretch/>
        </p:blipFill>
        <p:spPr>
          <a:xfrm>
            <a:off x="-189000" y="255600"/>
            <a:ext cx="9339480" cy="11653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021200" y="1444320"/>
            <a:ext cx="5122800" cy="4360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2000"/>
          </a:bodyPr>
          <a:p>
            <a:pPr marL="335520" indent="-235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Включают разде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520" indent="-235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520" indent="-235080">
              <a:lnSpc>
                <a:spcPct val="90000"/>
              </a:lnSpc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520" indent="-235080">
              <a:lnSpc>
                <a:spcPct val="90000"/>
              </a:lnSpc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ое содержание учебного предм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520" indent="-235080">
              <a:lnSpc>
                <a:spcPct val="90000"/>
              </a:lnSpc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рианты тематического планир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520" indent="-235080">
              <a:lnSpc>
                <a:spcPct val="90000"/>
              </a:lnSpc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комендации по материально-техническому обеспечению учебного предм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49D8-E990-41A0-9ACD-8BB87C407F67}" type="slidenum">
              <a:rPr b="0" lang="ru-RU" sz="10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X:\Мускатиньев Владимир Викторович\16.04.09\стандарты\Прогр_2ч.jpg"/>
          <p:cNvPicPr/>
          <p:nvPr/>
        </p:nvPicPr>
        <p:blipFill>
          <a:blip r:embed="rId2"/>
          <a:stretch/>
        </p:blipFill>
        <p:spPr>
          <a:xfrm>
            <a:off x="1835280" y="2276640"/>
            <a:ext cx="1630080" cy="2392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4" name="Picture 5" descr="progr"/>
          <p:cNvPicPr/>
          <p:nvPr/>
        </p:nvPicPr>
        <p:blipFill>
          <a:blip r:embed="rId3"/>
          <a:stretch/>
        </p:blipFill>
        <p:spPr>
          <a:xfrm>
            <a:off x="611280" y="1484280"/>
            <a:ext cx="1579320" cy="220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2" descr=""/>
          <p:cNvPicPr/>
          <p:nvPr/>
        </p:nvPicPr>
        <p:blipFill>
          <a:blip r:embed="rId1"/>
          <a:stretch/>
        </p:blipFill>
        <p:spPr>
          <a:xfrm>
            <a:off x="725400" y="171360"/>
            <a:ext cx="8425080" cy="11638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2735280" y="1444680"/>
            <a:ext cx="6408720" cy="4937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9000"/>
          </a:bodyPr>
          <a:p>
            <a:pPr marL="361080" indent="-25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итоговую оценку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носятся только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етапредметные и предметные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обуч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сский язы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дной язы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тоговая комплексная работа на межпредметной основ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1080" indent="-25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ичностные результаты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цениваются в ходе неперсонифицированных мониторинговых исследова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Picture 14" descr="C:\Documents and Settings\EKnyazeva\Рабочий стол\ПРОЕКТ_Продвижение Стандарта\Standart\Начал шк\2.jpg"/>
          <p:cNvPicPr/>
          <p:nvPr/>
        </p:nvPicPr>
        <p:blipFill>
          <a:blip r:embed="rId2"/>
          <a:stretch/>
        </p:blipFill>
        <p:spPr>
          <a:xfrm>
            <a:off x="0" y="1413000"/>
            <a:ext cx="1871640" cy="2808000"/>
          </a:xfrm>
          <a:prstGeom prst="rect">
            <a:avLst/>
          </a:prstGeom>
          <a:ln w="0">
            <a:noFill/>
          </a:ln>
        </p:spPr>
      </p:pic>
      <p:sp>
        <p:nvSpPr>
          <p:cNvPr id="348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1D23-093A-4C7C-B113-299900FC0EFE}" type="slidenum">
              <a:rPr b="0" lang="ru-RU" sz="10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Итоговая оценка качества освоения обучающимися основной образовательной программы начального общего образования осуществляется образовательным учреждение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cc3300"/>
                </a:solidFill>
                <a:latin typeface="Verdana"/>
              </a:rPr>
              <a:t>Федеральный государственный образовательный стандарт начального общего образ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представляет соб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Verdana"/>
              </a:rPr>
              <a:t>	</a:t>
            </a:r>
            <a:r>
              <a:rPr b="1" lang="ru-RU" sz="2800" spc="-1" strike="noStrike" u="sng">
                <a:solidFill>
                  <a:srgbClr val="9f2936"/>
                </a:solidFill>
                <a:uFillTx/>
                <a:latin typeface="Verdana"/>
              </a:rPr>
              <a:t>совокупность требований,</a:t>
            </a:r>
            <a:r>
              <a:rPr b="1" lang="ru-RU" sz="2800" spc="-1" strike="noStrike">
                <a:solidFill>
                  <a:srgbClr val="9f2936"/>
                </a:solidFill>
                <a:latin typeface="Verdana"/>
              </a:rPr>
              <a:t> обязательных при реализации ООП НО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образовательными учреждениями, имеющими государственную аккредитацию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94920" y="836640"/>
            <a:ext cx="8302680" cy="518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Verdana"/>
              </a:rPr>
              <a:t>В итоговой оценке должны быть выделены две составляющие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промежуточной аттестации обучающихс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тражающие динамику их индивидуальных образовательных достижений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одвижение в достижении планируемых результатов освоения основной образовательной программы начального общего образов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итоговых рабо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характеризующие уровень освоения обучающимися основных формируемых способов действий в отношении к опорной системе знаний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необходимых для обучения на следующей ступени общего образова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процессе оцен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стижения планируемых результатов освоения основной образовательной программы начального общего образования должны использовать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знообразные методы и формы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заимно дополняющие друг друга </a:t>
            </a:r>
            <a:r>
              <a:rPr b="1" lang="ru-RU" sz="2800" spc="-1" strike="noStrike">
                <a:solidFill>
                  <a:srgbClr val="003399"/>
                </a:solidFill>
                <a:latin typeface="Verdana"/>
              </a:rPr>
              <a:t>(стандартизированные письменные и устные работы, проекты, практические работы, творческие работы, самоанализ и самооценка, наблюдения и др.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ТРЕБОВАНИЯ ФГОС К УСЛОВИЯМ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Verdana"/>
              </a:rPr>
              <a:t>Требования к условиям реализации ООП НОО представляют соб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3399"/>
                </a:solidFill>
                <a:latin typeface="Verdana"/>
              </a:rPr>
              <a:t>систему требований</a:t>
            </a:r>
            <a:r>
              <a:rPr b="0" lang="ru-RU" sz="2800" spc="-1" strike="noStrike">
                <a:solidFill>
                  <a:srgbClr val="003399"/>
                </a:solidFill>
                <a:latin typeface="Verdana"/>
              </a:rPr>
              <a:t> к кадровым, финансовым, материально-техническим и иным услови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Инновации нового стандар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динство учебной и внеучебн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вторая половина дня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ндивидуальные учебные планы («индивидуальные образовательные маршруты»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зрабатываются с участием детей и родител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ьютор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тьютор – научный руководитель, наставник, консультант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Направления реализации Стандарт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71680" indent="-57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андарт направлен на обеспече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вных возможносте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лучения качественного начального общего образова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уховно-нравственного развития и воспитания обучающих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3. На обеспече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еемственност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х образовательных программ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школьного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чального общего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ого общего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еднего (полного) общего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чального профессионального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еднего профессионального 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шего профессионального образова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5. На обеспече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динства образовательного пространства Российской Федерации в условиях многообразия образовательных систе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видов образовательных учреждений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5000"/>
          </a:bodyPr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обеспече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ловий для освое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учающимися основной образовательной программы начального общего образования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том числ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еспечение условий для индивидуального развити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сех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учающихся, в особенности тех, кто в наибольшей степени нуждается в специальных условиях обучения, –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даренных детей и детей с ограниченными возможностями здоровь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а формирование у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иверсальных учебных действ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умений учиться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24000" y="2565360"/>
            <a:ext cx="8229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Творческих успех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3419640" y="3284640"/>
            <a:ext cx="6192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f2936"/>
                </a:solidFill>
                <a:latin typeface="Arial"/>
              </a:rPr>
              <a:t>и хорошего  настроения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" descr="IMG_0065"/>
          <p:cNvPicPr/>
          <p:nvPr/>
        </p:nvPicPr>
        <p:blipFill>
          <a:blip r:embed="rId1"/>
          <a:stretch/>
        </p:blipFill>
        <p:spPr>
          <a:xfrm>
            <a:off x="250920" y="4005360"/>
            <a:ext cx="2665440" cy="1547640"/>
          </a:xfrm>
          <a:prstGeom prst="rect">
            <a:avLst/>
          </a:prstGeom>
          <a:ln w="28440">
            <a:solidFill>
              <a:srgbClr val="6666ff"/>
            </a:solidFill>
            <a:miter/>
          </a:ln>
        </p:spPr>
      </p:pic>
      <p:pic>
        <p:nvPicPr>
          <p:cNvPr id="365" name="Picture 5" descr="IMG_0067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300720" y="549360"/>
            <a:ext cx="2232000" cy="1673280"/>
          </a:xfrm>
          <a:prstGeom prst="rect">
            <a:avLst/>
          </a:prstGeom>
          <a:ln w="28440">
            <a:solidFill>
              <a:srgbClr val="ff7c80"/>
            </a:solidFill>
            <a:miter/>
          </a:ln>
        </p:spPr>
      </p:pic>
      <p:pic>
        <p:nvPicPr>
          <p:cNvPr id="366" name="Picture 6" descr="IMG_0070"/>
          <p:cNvPicPr/>
          <p:nvPr/>
        </p:nvPicPr>
        <p:blipFill>
          <a:blip r:embed="rId3"/>
          <a:stretch/>
        </p:blipFill>
        <p:spPr>
          <a:xfrm>
            <a:off x="6300720" y="4292640"/>
            <a:ext cx="2590920" cy="1942920"/>
          </a:xfrm>
          <a:prstGeom prst="rect">
            <a:avLst/>
          </a:prstGeom>
          <a:ln w="28440">
            <a:solidFill>
              <a:srgbClr val="0000cc"/>
            </a:solidFill>
            <a:miter/>
          </a:ln>
        </p:spPr>
      </p:pic>
      <p:pic>
        <p:nvPicPr>
          <p:cNvPr id="367" name="Picture 7" descr="IMG_0089"/>
          <p:cNvPicPr/>
          <p:nvPr/>
        </p:nvPicPr>
        <p:blipFill>
          <a:blip r:embed="rId4"/>
          <a:stretch/>
        </p:blipFill>
        <p:spPr>
          <a:xfrm>
            <a:off x="539640" y="549360"/>
            <a:ext cx="2232000" cy="1674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68" name="Picture 9" descr="MCj04281170000[1]"/>
          <p:cNvPicPr/>
          <p:nvPr/>
        </p:nvPicPr>
        <p:blipFill>
          <a:blip r:embed="rId5"/>
          <a:stretch/>
        </p:blipFill>
        <p:spPr>
          <a:xfrm>
            <a:off x="3851280" y="4149720"/>
            <a:ext cx="151272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2936"/>
                </a:solidFill>
                <a:latin typeface="Verdana"/>
              </a:rPr>
              <a:t>Федеральный государственный образовательный стандарт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lvl="4" marL="2093760" indent="-3981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cc3300"/>
                </a:solidFill>
                <a:latin typeface="Verdana"/>
              </a:rPr>
              <a:t>Треб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к</a:t>
            </a:r>
            <a:r>
              <a:rPr b="0" lang="ru-RU" sz="4400" spc="-1" strike="noStrike">
                <a:solidFill>
                  <a:srgbClr val="9f293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результатам освоен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к структур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f2936"/>
                </a:solidFill>
                <a:latin typeface="Verdana"/>
              </a:rPr>
              <a:t>к условиям реал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ой образовательной программы начального общего образ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AutoShape 6"/>
          <p:cNvSpPr/>
          <p:nvPr/>
        </p:nvSpPr>
        <p:spPr>
          <a:xfrm>
            <a:off x="214200" y="285840"/>
            <a:ext cx="8712360" cy="57600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3ded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3232"/>
                </a:solidFill>
                <a:latin typeface="Verdana"/>
              </a:rPr>
              <a:t>Системно-деятельностный под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9"/>
          <p:cNvSpPr/>
          <p:nvPr/>
        </p:nvSpPr>
        <p:spPr>
          <a:xfrm>
            <a:off x="108000" y="981000"/>
            <a:ext cx="4032360" cy="1224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сновной результат –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личности ребенка на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чеб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0"/>
          <p:cNvSpPr/>
          <p:nvPr/>
        </p:nvSpPr>
        <p:spPr>
          <a:xfrm>
            <a:off x="4751280" y="944640"/>
            <a:ext cx="4248360" cy="1224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Начальная школа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: пре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внешней предмет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во внутренню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0" y="2168640"/>
            <a:ext cx="91440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Основная педагогическая задача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создание и организация условий, инициирующих детское 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5"/>
          <p:cNvSpPr/>
          <p:nvPr/>
        </p:nvSpPr>
        <p:spPr>
          <a:xfrm>
            <a:off x="0" y="342900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Чему 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держ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384720" y="3429000"/>
            <a:ext cx="2339640" cy="23400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Ради ч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ц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6372360" y="342900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Как 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0" y="5786280"/>
            <a:ext cx="9144000" cy="87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92929"/>
                </a:solidFill>
                <a:latin typeface="Calibri"/>
              </a:rPr>
              <a:t>становление ученического сообщества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92929"/>
                </a:solidFill>
                <a:latin typeface="Calibri"/>
              </a:rPr>
              <a:t>формирование универсальных способов действи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AutoShape 2"/>
          <p:cNvSpPr/>
          <p:nvPr/>
        </p:nvSpPr>
        <p:spPr>
          <a:xfrm>
            <a:off x="216000" y="189000"/>
            <a:ext cx="8712000" cy="107928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3ded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3232"/>
                </a:solidFill>
                <a:latin typeface="Verdana"/>
              </a:rPr>
              <a:t>Основные 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3232"/>
                </a:solidFill>
                <a:latin typeface="Verdana"/>
              </a:rPr>
              <a:t>начального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0" y="1621800"/>
            <a:ext cx="900108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Aft>
                <a:spcPts val="17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формирование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порной системы знаний, пред-метных и универсальных способов действи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беспечивающих возможность продолжения образования в основной шко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оспитание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умения учить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способности 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организации с целью решения учебных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ндивидуальный прогресс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основных сфе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чностного развития – эмоциональной, позна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льной, саморегуля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0" y="5786280"/>
            <a:ext cx="9144000" cy="83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92929"/>
                </a:solidFill>
                <a:latin typeface="Calibri"/>
              </a:rPr>
              <a:t>Развитие личности учащегося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92929"/>
                </a:solidFill>
                <a:latin typeface="Calibri"/>
              </a:rPr>
              <a:t>формирование «компетентности к обновлению компетенций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2"/>
          <p:cNvSpPr/>
          <p:nvPr/>
        </p:nvSpPr>
        <p:spPr>
          <a:xfrm>
            <a:off x="611280" y="404640"/>
            <a:ext cx="7848360" cy="98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62000" y="2133720"/>
            <a:ext cx="2251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f2936"/>
                </a:solidFill>
                <a:uFillTx/>
                <a:latin typeface="Arial"/>
              </a:rPr>
              <a:t>Личнос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f2936"/>
                </a:solidFill>
                <a:uFillTx/>
                <a:latin typeface="Arial"/>
              </a:rPr>
              <a:t>результаты</a:t>
            </a:r>
            <a:r>
              <a:rPr b="0" i="1" lang="ru-RU" sz="2400" spc="-1" strike="noStrike">
                <a:solidFill>
                  <a:srgbClr val="000a1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товность и способность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учающихся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саморазвити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х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терес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ебна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тивац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ичностные качества, базовые ц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2700360" y="2781360"/>
            <a:ext cx="387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f2936"/>
                </a:solidFill>
                <a:uFillTx/>
                <a:latin typeface="Arial"/>
              </a:rPr>
              <a:t>Метапредме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f2936"/>
                </a:solidFill>
                <a:uFillTx/>
                <a:latin typeface="Arial"/>
              </a:rPr>
              <a:t>результаты</a:t>
            </a:r>
            <a:r>
              <a:rPr b="1" lang="ru-RU" sz="2400" spc="-1" strike="noStrike">
                <a:solidFill>
                  <a:srgbClr val="9f293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ниверсальные учебные действия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оставляющие основу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умения учиться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бота с текстом, с информацией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тивное использование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средств ИК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6686640" y="2168640"/>
            <a:ext cx="225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f2936"/>
                </a:solidFill>
                <a:uFillTx/>
                <a:latin typeface="Arial"/>
              </a:rPr>
              <a:t>Предме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f2936"/>
                </a:solidFill>
                <a:uFillTx/>
                <a:latin typeface="Arial"/>
              </a:rPr>
              <a:t>результаты</a:t>
            </a:r>
            <a:r>
              <a:rPr b="1" lang="ru-RU" sz="2400" spc="-1" strike="noStrike">
                <a:solidFill>
                  <a:srgbClr val="000a1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нания, ум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ецифические для данной предметной обла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a10"/>
                </a:solidFill>
                <a:latin typeface="Calibri"/>
              </a:rPr>
              <a:t>опыт твор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a10"/>
                </a:solidFill>
                <a:latin typeface="Calibri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142920"/>
            <a:ext cx="8424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f2936"/>
                </a:solidFill>
                <a:latin typeface="Verdana"/>
              </a:rPr>
              <a:t>ТРЕБОВАНИЯ ФГОС К РЕЗУЛЬТАТАМ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4643280" y="1341360"/>
            <a:ext cx="0" cy="11509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 flipH="1">
            <a:off x="1692360" y="1224000"/>
            <a:ext cx="1393920" cy="9000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6416640" y="1224000"/>
            <a:ext cx="1620720" cy="8557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Личностные результаты</a:t>
            </a:r>
            <a:r>
              <a:rPr b="1" lang="ru-RU" sz="2400" spc="-1" strike="noStrike">
                <a:solidFill>
                  <a:srgbClr val="9f2936"/>
                </a:solidFill>
                <a:latin typeface="Verdana"/>
              </a:rPr>
              <a:t> освоения основной образовательной программы начального общего образования должны отражать: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700280"/>
            <a:ext cx="8229600" cy="4657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0000"/>
          </a:bodyPr>
          <a:p>
            <a:pPr marL="238320" indent="-2383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формирование основ российской гражданской идентичности: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увства гордости за свою Родину, российский народ и историю России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сознание своей этнической и национальной принадлежности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формирование ценностей  многонационального российского общества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тановление гуманистических и демократических ценностных ориентаций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формирование целостного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взгляда на мир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в его единстве и разнообразии природы, народов, культур и религий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формирование уважительного отношения к иному мнению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, истории и культуре других народов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овладение начальными навыками адаптации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в динамично изменяющемся и развивающемся мире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)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ятие и освоение социальной роли обучающегося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развитие мотивов учебной деятельности и формирование личностного смысла учения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6000"/>
          </a:bodyPr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6)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звитие самостоятельности и личной ответственности за свои поступк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в том числе в информационной деятельности, на основе представлений о нравственных нормах, социальной справедливости и свободе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7)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формирование эстетических потребностей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ценностей и чувств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8)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звитие этических чувств, доброжелательност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и эмоционально-нравственной отзывчивости, понимания и сопереживания чувствам других люде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9)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звитие навыков сотрудничеств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со взрослыми и сверстниками в разных социальных ситуациях, умения не создавать конфликтов и находить выходы из спорных ситуац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0)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формирование установки на безопасный, здоровый образ жизн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наличие мотивации к творческому труду, работе на результат, бережному отношению к материальным и духовным ценностям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фа</dc:creator>
  <dc:description/>
  <dc:language>en-US</dc:language>
  <cp:lastModifiedBy>admin</cp:lastModifiedBy>
  <dcterms:modified xsi:type="dcterms:W3CDTF">2016-03-26T07:34:46Z</dcterms:modified>
  <cp:revision>24</cp:revision>
  <dc:subject/>
  <dc:title>СОДЕРЖАНИЕ ФГОС. СТРУКТУРА  ООП  НОО</dc:title>
</cp:coreProperties>
</file>