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485-8FD4-4725-9AC5-AE50E6C6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A2A-01CC-421B-9749-3509577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852-4B1A-4678-9D3A-34634EFF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DE8-2B12-40A0-B956-AF406029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551B-EF08-464D-8FD3-94AC4A41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9097-0A4B-4EE7-BFE5-0E252EF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070D-D3CC-47EC-86C4-80EE368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317E-5889-41B0-AB59-8E7551C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B6D-0801-4E6B-B956-CB5829BE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DF3-327C-4326-8790-CD76DB34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E85-DBC7-4F5C-8727-D2203E9C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C3A-4EAF-4E04-8F26-AA0985C7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807F-DF72-4D21-9015-89EB2A8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C0BD-D51C-4171-BF8A-85F691F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480-56F8-4430-8E37-B2D4289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D29-9DFC-4375-8BE2-A3524C0F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352C-68B0-460E-B59C-65A8CA83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D28-4C59-433A-84B3-A2C2936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A9B-BCFE-49C9-80D6-A160404F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D4-C83A-430D-97E0-8C4AD256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E40-2683-49E8-89B4-0DB6BE1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C48-F656-4239-984D-73AD3507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782-B428-411B-B314-72E7482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173-890F-4AAE-9C21-77B3569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64A-450E-4689-8D76-E21E7287CE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5073-FD87-4D18-A827-10F555A4CF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Зачем нужны псевдонимы?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ы 6 «А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рионовой Татьяны Никола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ь Т.А. Михайда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на Ахматова (Анна Горенк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057480" cy="388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011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Чехов (Антоша Чехонте, Некто, Человек без селезенки; Шампанский; Юный старец, Брат моего брата; Врач без пациентов; Вспыльчивый человек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рис Акунин (Григорий Шалвович Чхартишвили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2992320"/>
            <a:ext cx="4751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лит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ладимир Ленин (Владимир Ульян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828960" cy="382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222588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осиф Сталин (Иосиф Джугашвил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66672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сновные причины появления псевдоним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язнь своего дебю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лагозвучные фамил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пуск сатирических произведений, за которые грозило наказ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пуск литературы несоответствующей имиджу писа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прет на писательскую деятельность реальному челове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удобства сла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Цель работы -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ть, зачем люди использ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евдони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Задачи исследова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Выяснить значение слова «псевдони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Узнать, кто из известных людей (писателей, политиков и др.) использовал псевдони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Прочитать информацию о псевдонимах, причинах их появления в жизни людей в справочной литературе, Интерне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Объект исследования -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юди, использующие псевдони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едмет исследования -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евдонимы знаменитых люд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Гипотеза работ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изучу информацию по данной теме, я узнаю, почему люди заменяют собственные имена на псевдони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севдони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мышленное имя, используемое человеком в жизне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Толковый словарь русского языка " С.И.Ожегова: "Это вымышленное имя, которое иногда принимают писатели, артисты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ово «псевдоним»  заимствовано в 19 веке из французского языка и греческого и переводится как «ложное им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исате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сим Горький (Алексей Пешков)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30542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ркадий Гайд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Аркадий Голик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383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09:57:25Z</dcterms:created>
  <dc:creator>User</dc:creator>
  <dc:description/>
  <dc:language>en-US</dc:language>
  <cp:lastModifiedBy>User</cp:lastModifiedBy>
  <dcterms:modified xsi:type="dcterms:W3CDTF">2016-10-25T10:22:29Z</dcterms:modified>
  <cp:revision>2</cp:revision>
  <dc:subject/>
  <dc:title>Зачем нужны псевдонимы? </dc:title>
</cp:coreProperties>
</file>