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5.wmf" ContentType="image/x-wmf"/>
  <Override PartName="/ppt/media/image14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CEB4-0EB0-49DA-B33D-8AAFD5B479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86BD-2DFE-4F6E-BC26-2C5B8B90E846}" type="slidenum"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6480-5B1A-4774-A4D8-B298FB22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AA3-0BC0-44C1-B160-286FBA8F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A29B-4F5D-4AAB-9C1E-2F2728FD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FBF0-0C9C-4E2D-9962-CB29194C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442D-8E59-447F-AEFC-8D24F842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AC41-F10D-4F23-8298-64A7E792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C1E9-0B8E-4080-B7DE-66C757CD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65E1-2A27-44F9-92E6-F8D8183C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1496-A591-48D2-9E0E-C06802BD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8D2F-BA88-4CD4-8258-0B4A00D0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AA49-303A-42F7-A08E-0B3E6368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A2D-44CF-4734-8C08-FCDBE15E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3704-D6BC-4505-BA7D-E43CA6A5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AB7B-15C8-44DF-96F9-6AB8AAE5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87DD-00F8-44D8-B8A2-267687AF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40CA-87E4-48A1-B490-12FD0C14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6803-6FDF-4BA1-8069-619FAC16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A621-7147-4F8B-B52C-806BA751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2AC6-60BB-42E1-AEB5-2E564040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687-7991-4FE8-A118-7333EAFB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E492-34AF-4C35-9D3D-50595FD4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7F3A-E890-40A0-B697-D4A13BB0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9ECB-2231-4FE3-9C9B-E23BE8BC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A3B0-940C-499A-83B5-39E95CC2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CF36-23A0-4052-842D-0F6DC282125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8B9E-E8AD-4C1A-9D86-7F0D5324378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20840" y="1347840"/>
            <a:ext cx="8315280" cy="2023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08640"/>
            <a:ext cx="830592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математик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КОУ «Вилинская СОШ № 1»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лик Ирина Анатольевн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78920" y="1557000"/>
            <a:ext cx="8137800" cy="3313080"/>
          </a:xfrm>
          <a:prstGeom prst="rect">
            <a:avLst/>
          </a:prstGeom>
          <a:solidFill>
            <a:srgbClr val="ffccff"/>
          </a:solidFill>
          <a:ln w="15840">
            <a:solidFill>
              <a:srgbClr val="3d9553"/>
            </a:solidFill>
            <a:miter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ных результат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т сформированность у обучающего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ивных, коммуникативны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навательных  универсальных действ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таких умственных действий обучающихся, которы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на анализ и управление своей познавательной деятельностью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5788080" y="4365720"/>
            <a:ext cx="3009960" cy="2257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https://encrypted-tbn2.gstatic.com/images?q=tbn:ANd9GcS3Pd4rQ3EkvYZCf_8UO0hL9N51NWRPyAHQR16xAUCnPze3eeqzug"/>
          <p:cNvPicPr/>
          <p:nvPr/>
        </p:nvPicPr>
        <p:blipFill>
          <a:blip r:embed="rId2"/>
          <a:stretch/>
        </p:blipFill>
        <p:spPr>
          <a:xfrm>
            <a:off x="7763040" y="404640"/>
            <a:ext cx="1114200" cy="49536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1"/>
          <p:cNvSpPr/>
          <p:nvPr/>
        </p:nvSpPr>
        <p:spPr>
          <a:xfrm>
            <a:off x="1557360" y="76500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объектом  оцен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17000" cy="1139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394920" y="1413000"/>
            <a:ext cx="8358120" cy="51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беспечивает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ереход к целостному образному восприятию мира, к метадеятельност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тапредметные (компетентностные) результат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формирование целостной картины мира в сознании ученик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формирование подхода к изучаемому предмету как к системе знаний о мир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числах и фигурах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79280" y="227160"/>
          <a:ext cx="8640720" cy="6806880"/>
        </p:xfrm>
        <a:graphic>
          <a:graphicData uri="http://schemas.openxmlformats.org/drawingml/2006/table">
            <a:tbl>
              <a:tblPr/>
              <a:tblGrid>
                <a:gridCol w="4168800"/>
                <a:gridCol w="4471920"/>
              </a:tblGrid>
              <a:tr h="934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nstantia"/>
                          <a:ea typeface="MS Gothic"/>
                        </a:rPr>
                        <a:t>ЗУН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nstantia"/>
                          <a:ea typeface="MS Gothic"/>
                        </a:rPr>
                        <a:t>УУД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  <a:ea typeface="MS Gothic"/>
                        </a:rPr>
                        <a:t>ЗН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  <a:ea typeface="MS Gothic"/>
                        </a:rPr>
                        <a:t>«информация, присвоенная человеком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  <a:ea typeface="MS Gothic"/>
                        </a:rPr>
                        <a:t>КОМПЕТЕНТ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  <a:ea typeface="MS Gothic"/>
                        </a:rPr>
                        <a:t>существует в форме реальной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6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  <a:ea typeface="MS Gothic"/>
                        </a:rPr>
                        <a:t>УМ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  <a:ea typeface="MS Gothic"/>
                        </a:rPr>
                        <a:t>«подготовленность к практическим и теоретическим действиям, выполняемым точно быстро и сознательно на основе усвоенных знаний и жизненного опыта, которые, совершенствуясь и автоматизируясь, превращаются в навы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nstantia"/>
                          <a:ea typeface="MS Gothic"/>
                        </a:rPr>
                        <a:t>совершенствуется по пути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  <a:ea typeface="MS Gothic"/>
                        </a:rPr>
                        <a:t>интеграции с другими компетентностями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nstantia"/>
                          <a:ea typeface="MS Gothic"/>
                        </a:rPr>
                        <a:t>: через осознание общей основы деятельности наращивается компетенция,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  <a:ea typeface="MS Gothic"/>
                        </a:rPr>
                        <a:t>способ действия включается в базу внутренних ресур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  <a:ea typeface="MS Gothic"/>
                        </a:rPr>
                        <a:t>НАВЫ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  <a:ea typeface="MS Gothic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  <a:ea typeface="MS Gothic"/>
                        </a:rPr>
                        <a:t>«действия, выполняемые автоматичес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nstantia"/>
                          <a:ea typeface="MS Gothic"/>
                        </a:rPr>
                        <a:t>осознан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  <a:ea typeface="MS Gothic"/>
                        </a:rPr>
                        <a:t>ЭЛЕМЕНТЫ ФУНКЦИОНАЛЬНОЙ ГРАМОТНОСТ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  <a:ea typeface="MS Gothic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  <a:ea typeface="MS Gothic"/>
                        </a:rPr>
                        <a:t>«присвоенные алгоритмы, позволяющие человеку быть адекватным социальной ситуаци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  <a:ea typeface="MS Gothic"/>
                        </a:rPr>
                        <a:t>позволяет решать целый класс зада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Заголовок 1" descr=""/>
          <p:cNvPicPr/>
          <p:nvPr/>
        </p:nvPicPr>
        <p:blipFill>
          <a:blip r:embed="rId1"/>
          <a:stretch/>
        </p:blipFill>
        <p:spPr>
          <a:xfrm>
            <a:off x="542880" y="469800"/>
            <a:ext cx="8083440" cy="925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0" y="1915920"/>
            <a:ext cx="8856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пособность ученика проектировать предстоящую деятельность, быть её субъектом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бучение через открыти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личие дискуссий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развитие личности учащегося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осознание учеником своей деятельности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ученик испытывает радость от преодоленной трудности учения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Rectangle 2" descr=""/>
          <p:cNvPicPr/>
          <p:nvPr/>
        </p:nvPicPr>
        <p:blipFill>
          <a:blip r:embed="rId1"/>
          <a:stretch/>
        </p:blipFill>
        <p:spPr>
          <a:xfrm>
            <a:off x="841320" y="231840"/>
            <a:ext cx="7620120" cy="1457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609480" y="2057400"/>
            <a:ext cx="8153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 Процесс важнее результ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 Полученный опыт ценне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риобретенного навы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 Содержательный пример богач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бщего вы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Заголовок 1" descr=""/>
          <p:cNvPicPr/>
          <p:nvPr/>
        </p:nvPicPr>
        <p:blipFill>
          <a:blip r:embed="rId1"/>
          <a:stretch/>
        </p:blipFill>
        <p:spPr>
          <a:xfrm>
            <a:off x="500040" y="334800"/>
            <a:ext cx="8643960" cy="1140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395280" y="1341000"/>
            <a:ext cx="854568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Constantia"/>
              </a:rPr>
              <a:t>Этап 1: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66ff"/>
                </a:solidFill>
                <a:latin typeface="Arial Black"/>
              </a:rPr>
              <a:t>Мотивирование к учебной деятельности. Знакомство с проблем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onstantia"/>
              </a:rPr>
              <a:t>Учитель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еспечивает познавательный интерес к теме уро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здает учебную ситуацию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буждает школьников применить знания и опыт, соответствующие данной ситуаци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могает ученикам осознать проблему, сформулировать  вопрос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Заголовок 1" descr=""/>
          <p:cNvPicPr/>
          <p:nvPr/>
        </p:nvPicPr>
        <p:blipFill>
          <a:blip r:embed="rId1"/>
          <a:stretch/>
        </p:blipFill>
        <p:spPr>
          <a:xfrm>
            <a:off x="500040" y="212760"/>
            <a:ext cx="8643960" cy="11462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323640" y="1773360"/>
            <a:ext cx="832932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nstantia"/>
              </a:rPr>
              <a:t>Этап 2:</a:t>
            </a:r>
            <a:r>
              <a:rPr b="0" lang="ru-RU" sz="36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 Black"/>
              </a:rPr>
              <a:t>Построение нового зна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onstantia"/>
              </a:rPr>
              <a:t>Учитель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рганизует освоение содержания учебной тем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едоставляет ученикам материал для изучения, наблюдени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Заголовок 1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04280" cy="17859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68000" y="2060280"/>
            <a:ext cx="8297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Задание должно быть интересно ученику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Тема задания должна быть выполним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Тема должна быть оригинальной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Формулировка задания должна быть конкретной и четкой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5" name="Picture 5" descr="C:\Users\Галина\Desktop\картинки с шаттерстока\shutterstock_19393759.jpg"/>
          <p:cNvPicPr/>
          <p:nvPr/>
        </p:nvPicPr>
        <p:blipFill>
          <a:blip r:embed="rId2"/>
          <a:stretch/>
        </p:blipFill>
        <p:spPr>
          <a:xfrm>
            <a:off x="6732720" y="5445000"/>
            <a:ext cx="181116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Заголовок 1" descr=""/>
          <p:cNvPicPr/>
          <p:nvPr/>
        </p:nvPicPr>
        <p:blipFill>
          <a:blip r:embed="rId1"/>
          <a:stretch/>
        </p:blipFill>
        <p:spPr>
          <a:xfrm>
            <a:off x="500040" y="189000"/>
            <a:ext cx="8467920" cy="11397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250560" y="1268280"/>
            <a:ext cx="8535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nstantia"/>
              </a:rPr>
              <a:t>Этап 3:</a:t>
            </a:r>
            <a:r>
              <a:rPr b="0" lang="ru-RU" sz="36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 Black"/>
              </a:rPr>
              <a:t>Применение полученных знани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ae51"/>
                </a:solidFill>
                <a:latin typeface="Constantia"/>
              </a:rPr>
              <a:t>Ученик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ыбирает уровень выполнения задания - информативный, импровизированный, эвристически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ыбирает способ деятельности - индивидуальный, коллективны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амоорганизуется для выполнения ситуативного зада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ыполняет ситуативное зада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Заголовок 1" descr=""/>
          <p:cNvPicPr/>
          <p:nvPr/>
        </p:nvPicPr>
        <p:blipFill>
          <a:blip r:embed="rId1"/>
          <a:stretch/>
        </p:blipFill>
        <p:spPr>
          <a:xfrm>
            <a:off x="500040" y="212760"/>
            <a:ext cx="8643960" cy="1146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394920" y="1628640"/>
            <a:ext cx="853596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Constantia"/>
              </a:rPr>
              <a:t>Этап 4:</a:t>
            </a:r>
            <a:r>
              <a:rPr b="0" lang="ru-RU" sz="33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66ff"/>
                </a:solidFill>
                <a:latin typeface="Arial Black"/>
              </a:rPr>
              <a:t>Рефлексия учебной деятельн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b050"/>
                </a:solidFill>
                <a:latin typeface="Constantia"/>
              </a:rPr>
              <a:t>Ученик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относит полученный результат с поставленной целью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водит самоанализ и самооценку собственной деятельн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TextBox 1"/>
          <p:cNvGrpSpPr/>
          <p:nvPr/>
        </p:nvGrpSpPr>
        <p:grpSpPr>
          <a:xfrm>
            <a:off x="353880" y="73080"/>
            <a:ext cx="8094960" cy="1798560"/>
            <a:chOff x="353880" y="73080"/>
            <a:chExt cx="8094960" cy="1798560"/>
          </a:xfrm>
        </p:grpSpPr>
        <p:pic>
          <p:nvPicPr>
            <p:cNvPr id="92" name="TextBox 1" descr=""/>
            <p:cNvPicPr/>
            <p:nvPr/>
          </p:nvPicPr>
          <p:blipFill>
            <a:blip r:embed="rId1"/>
            <a:stretch/>
          </p:blipFill>
          <p:spPr>
            <a:xfrm>
              <a:off x="353880" y="73080"/>
              <a:ext cx="80949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1200" y="241200"/>
              <a:ext cx="7516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83763"/>
                  </a:solidFill>
                  <a:latin typeface="Times New Roman"/>
                  <a:ea typeface="Times New Roman"/>
                </a:rPr>
                <a:t>Универсальные учебные действия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83763"/>
                  </a:solidFill>
                  <a:latin typeface="Times New Roman"/>
                  <a:ea typeface="Times New Roman"/>
                </a:rPr>
                <a:t>для ученика выстраиваютс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TextBox 2"/>
          <p:cNvSpPr/>
          <p:nvPr/>
        </p:nvSpPr>
        <p:spPr>
          <a:xfrm>
            <a:off x="730080" y="2781360"/>
            <a:ext cx="3327480" cy="70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от действ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5659560" y="2795760"/>
            <a:ext cx="2538360" cy="70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к мыс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Стрелка вниз 4"/>
          <p:cNvSpPr/>
          <p:nvPr/>
        </p:nvSpPr>
        <p:spPr>
          <a:xfrm>
            <a:off x="1574640" y="1442880"/>
            <a:ext cx="1114560" cy="133848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Стрелка вниз 5"/>
          <p:cNvSpPr/>
          <p:nvPr/>
        </p:nvSpPr>
        <p:spPr>
          <a:xfrm rot="16200000">
            <a:off x="4317840" y="2337840"/>
            <a:ext cx="1081080" cy="16020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3346560" y="3505320"/>
            <a:ext cx="2809800" cy="2950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s://encrypted-tbn2.gstatic.com/images?q=tbn:ANd9GcS3Pd4rQ3EkvYZCf_8UO0hL9N51NWRPyAHQR16xAUCnPze3eeqzug"/>
          <p:cNvPicPr/>
          <p:nvPr/>
        </p:nvPicPr>
        <p:blipFill>
          <a:blip r:embed="rId3"/>
          <a:stretch/>
        </p:blipFill>
        <p:spPr>
          <a:xfrm>
            <a:off x="8028000" y="-6480"/>
            <a:ext cx="1116000" cy="4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759880" cy="1133280"/>
          </a:xfrm>
          <a:prstGeom prst="rect">
            <a:avLst/>
          </a:prstGeom>
          <a:ln w="0">
            <a:noFill/>
          </a:ln>
        </p:spPr>
      </p:pic>
      <p:pic>
        <p:nvPicPr>
          <p:cNvPr id="171" name="Object 3" descr=""/>
          <p:cNvPicPr/>
          <p:nvPr/>
        </p:nvPicPr>
        <p:blipFill>
          <a:blip r:embed="rId2"/>
          <a:stretch/>
        </p:blipFill>
        <p:spPr>
          <a:xfrm>
            <a:off x="304920" y="1787400"/>
            <a:ext cx="8453160" cy="42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оугольник 1"/>
          <p:cNvGrpSpPr/>
          <p:nvPr/>
        </p:nvGrpSpPr>
        <p:grpSpPr>
          <a:xfrm>
            <a:off x="1822320" y="189000"/>
            <a:ext cx="5127840" cy="884160"/>
            <a:chOff x="1822320" y="189000"/>
            <a:chExt cx="5127840" cy="884160"/>
          </a:xfrm>
        </p:grpSpPr>
        <p:pic>
          <p:nvPicPr>
            <p:cNvPr id="101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822320" y="189000"/>
              <a:ext cx="51278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865160" y="214200"/>
              <a:ext cx="504072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Times New Roman"/>
                  <a:ea typeface="Times New Roman"/>
                </a:rPr>
                <a:t>Универсальные учебные действи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Times New Roman"/>
                  <a:ea typeface="Times New Roman"/>
                </a:rPr>
                <a:t>(УУД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Прямоугольник 2"/>
          <p:cNvSpPr/>
          <p:nvPr/>
        </p:nvSpPr>
        <p:spPr>
          <a:xfrm>
            <a:off x="214200" y="1071720"/>
            <a:ext cx="87868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  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окупность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собов действия учащегося,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вязанных с ними навыков учебной работы, обеспечивающих способность к самостоятельному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воению новых знаний и умений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включая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ю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тельного проце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Стрелка вниз 3"/>
          <p:cNvSpPr/>
          <p:nvPr/>
        </p:nvSpPr>
        <p:spPr>
          <a:xfrm>
            <a:off x="3427560" y="2357280"/>
            <a:ext cx="1439640" cy="785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2000160" y="3143160"/>
            <a:ext cx="4896000" cy="914400"/>
          </a:xfrm>
          <a:prstGeom prst="rect">
            <a:avLst/>
          </a:prstGeom>
          <a:solidFill>
            <a:srgbClr val="e2d700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Умение учи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Стрелка вверх 5"/>
          <p:cNvSpPr/>
          <p:nvPr/>
        </p:nvSpPr>
        <p:spPr>
          <a:xfrm>
            <a:off x="3462480" y="4062240"/>
            <a:ext cx="1493640" cy="8575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2003400" y="4919760"/>
            <a:ext cx="4897440" cy="914400"/>
          </a:xfrm>
          <a:prstGeom prst="rect">
            <a:avLst/>
          </a:prstGeom>
          <a:solidFill>
            <a:srgbClr val="e2d700"/>
          </a:solidFill>
          <a:ln w="15840">
            <a:solidFill>
              <a:srgbClr val="7492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Деятельность физическая и интеллектуаль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https://encrypted-tbn2.gstatic.com/images?q=tbn:ANd9GcS3Pd4rQ3EkvYZCf_8UO0hL9N51NWRPyAHQR16xAUCnPze3eeqzug"/>
          <p:cNvPicPr/>
          <p:nvPr/>
        </p:nvPicPr>
        <p:blipFill>
          <a:blip r:embed="rId2"/>
          <a:stretch/>
        </p:blipFill>
        <p:spPr>
          <a:xfrm>
            <a:off x="8028000" y="-6480"/>
            <a:ext cx="1116000" cy="4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МЕТАПРЕДМЕТНЫЕ КОМПЕТЕНЦИ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гулятивные (организация учебной деятельности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знавательные (общеучебные, логические, постановка и решение проблемы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оммуникативные (социальная компетентность и учёт позиции других людей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Развивается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ультура сотрудничества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ультура работы с информацией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диагностика, коррекция и развитие познавательных процессов как психологическое сопровождение формирования исследовательской деятельности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мение как творческий процесс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чение как саморазвити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Уровень развития  метапредметных компетенций проявляется в образовательных продуктах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33"/>
                </a:solidFill>
                <a:latin typeface="Constantia"/>
              </a:rPr>
              <a:t>а) внешних</a:t>
            </a:r>
            <a:r>
              <a:rPr b="0" lang="ru-RU" sz="2000" spc="-1" strike="noStrike">
                <a:solidFill>
                  <a:srgbClr val="99ff33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сследовательские работы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рефераты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нижк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акеты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задачник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езентаци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арты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ценические постановк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оделки и т.п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https://encrypted-tbn2.gstatic.com/images?q=tbn:ANd9GcS3Pd4rQ3EkvYZCf_8UO0hL9N51NWRPyAHQR16xAUCnPze3eeqzug"/>
          <p:cNvPicPr/>
          <p:nvPr/>
        </p:nvPicPr>
        <p:blipFill>
          <a:blip r:embed="rId1"/>
          <a:stretch/>
        </p:blipFill>
        <p:spPr>
          <a:xfrm>
            <a:off x="8028000" y="-6480"/>
            <a:ext cx="1116000" cy="49716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2" descr=""/>
          <p:cNvPicPr/>
          <p:nvPr/>
        </p:nvPicPr>
        <p:blipFill>
          <a:blip r:embed="rId2"/>
          <a:stretch/>
        </p:blipFill>
        <p:spPr>
          <a:xfrm>
            <a:off x="2919240" y="-139680"/>
            <a:ext cx="26226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17" name="Группа 3"/>
          <p:cNvGrpSpPr/>
          <p:nvPr/>
        </p:nvGrpSpPr>
        <p:grpSpPr>
          <a:xfrm>
            <a:off x="1797120" y="1109520"/>
            <a:ext cx="5138640" cy="1024200"/>
            <a:chOff x="1797120" y="1109520"/>
            <a:chExt cx="5138640" cy="1024200"/>
          </a:xfrm>
        </p:grpSpPr>
        <p:sp>
          <p:nvSpPr>
            <p:cNvPr id="118" name="Скругленный прямоугольник 4"/>
            <p:cNvSpPr/>
            <p:nvPr/>
          </p:nvSpPr>
          <p:spPr>
            <a:xfrm>
              <a:off x="1797120" y="1109520"/>
              <a:ext cx="5138640" cy="10242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5840">
              <a:solidFill>
                <a:srgbClr val="1c82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Скругленный прямоугольник 4"/>
            <p:cNvSpPr/>
            <p:nvPr/>
          </p:nvSpPr>
          <p:spPr>
            <a:xfrm>
              <a:off x="1797120" y="1109520"/>
              <a:ext cx="5038920" cy="924480"/>
            </a:xfrm>
            <a:prstGeom prst="rect">
              <a:avLst/>
            </a:prstGeom>
            <a:solidFill>
              <a:srgbClr val="ffccff"/>
            </a:solidFill>
            <a:ln w="15840">
              <a:solidFill>
                <a:srgbClr val="1c82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Регулятивные</a:t>
              </a:r>
              <a:r>
                <a:rPr b="0" lang="ru-RU" sz="2400" spc="-1" strike="noStrike">
                  <a:solidFill>
                    <a:srgbClr val="af9524"/>
                  </a:solidFill>
                  <a:latin typeface="Times New Roman"/>
                  <a:ea typeface="Times New Roman"/>
                </a:rPr>
                <a:t>: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Группа 6"/>
          <p:cNvGrpSpPr/>
          <p:nvPr/>
        </p:nvGrpSpPr>
        <p:grpSpPr>
          <a:xfrm>
            <a:off x="1747800" y="2205000"/>
            <a:ext cx="5138640" cy="1224000"/>
            <a:chOff x="1747800" y="2205000"/>
            <a:chExt cx="5138640" cy="1224000"/>
          </a:xfrm>
        </p:grpSpPr>
        <p:sp>
          <p:nvSpPr>
            <p:cNvPr id="121" name="Скругленный прямоугольник 7"/>
            <p:cNvSpPr/>
            <p:nvPr/>
          </p:nvSpPr>
          <p:spPr>
            <a:xfrm>
              <a:off x="1747800" y="2406600"/>
              <a:ext cx="5138640" cy="10224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5840">
              <a:solidFill>
                <a:srgbClr val="1c82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Скругленный прямоугольник 4"/>
            <p:cNvSpPr/>
            <p:nvPr/>
          </p:nvSpPr>
          <p:spPr>
            <a:xfrm>
              <a:off x="1796760" y="2205000"/>
              <a:ext cx="5040360" cy="1224000"/>
            </a:xfrm>
            <a:prstGeom prst="rect">
              <a:avLst/>
            </a:prstGeom>
            <a:solidFill>
              <a:srgbClr val="ffccff"/>
            </a:solidFill>
            <a:ln w="15840">
              <a:solidFill>
                <a:srgbClr val="1c82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ознавательные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ru-RU" sz="1800" spc="-1" strike="noStrike">
                  <a:solidFill>
                    <a:srgbClr val="3b5009"/>
                  </a:solidFill>
                  <a:latin typeface="Cambria"/>
                </a:rPr>
                <a:t>умения результативно мыслить и работа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ru-RU" sz="1800" spc="-1" strike="noStrike">
                  <a:solidFill>
                    <a:srgbClr val="3b5009"/>
                  </a:solidFill>
                  <a:latin typeface="Cambria"/>
                </a:rPr>
                <a:t>с информацие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Группа 9"/>
          <p:cNvGrpSpPr/>
          <p:nvPr/>
        </p:nvGrpSpPr>
        <p:grpSpPr>
          <a:xfrm>
            <a:off x="1760400" y="3573360"/>
            <a:ext cx="5203800" cy="1295640"/>
            <a:chOff x="1760400" y="3573360"/>
            <a:chExt cx="5203800" cy="1295640"/>
          </a:xfrm>
        </p:grpSpPr>
        <p:sp>
          <p:nvSpPr>
            <p:cNvPr id="124" name="Скругленный прямоугольник 10"/>
            <p:cNvSpPr/>
            <p:nvPr/>
          </p:nvSpPr>
          <p:spPr>
            <a:xfrm>
              <a:off x="1779120" y="3846240"/>
              <a:ext cx="5185080" cy="10227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5840">
              <a:solidFill>
                <a:srgbClr val="1c82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Скругленный прямоугольник 4"/>
            <p:cNvSpPr/>
            <p:nvPr/>
          </p:nvSpPr>
          <p:spPr>
            <a:xfrm>
              <a:off x="1760400" y="3573360"/>
              <a:ext cx="5085000" cy="1105200"/>
            </a:xfrm>
            <a:prstGeom prst="rect">
              <a:avLst/>
            </a:prstGeom>
            <a:solidFill>
              <a:srgbClr val="ffccff"/>
            </a:solidFill>
            <a:ln w="15840">
              <a:solidFill>
                <a:srgbClr val="1c82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Личностные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ru-RU" sz="2000" spc="-1" strike="noStrike">
                  <a:solidFill>
                    <a:srgbClr val="3b5009"/>
                  </a:solidFill>
                  <a:latin typeface="Times New Roman"/>
                  <a:ea typeface="Times New Roman"/>
                </a:rPr>
                <a:t>умения самостоятельно делать выбор в мире ценностей и поступков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ru-RU" sz="2000" spc="-1" strike="noStrike">
                  <a:solidFill>
                    <a:srgbClr val="3b5009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Группа 12"/>
          <p:cNvGrpSpPr/>
          <p:nvPr/>
        </p:nvGrpSpPr>
        <p:grpSpPr>
          <a:xfrm>
            <a:off x="1725480" y="5013360"/>
            <a:ext cx="5281920" cy="1359000"/>
            <a:chOff x="1725480" y="5013360"/>
            <a:chExt cx="5281920" cy="1359000"/>
          </a:xfrm>
        </p:grpSpPr>
        <p:sp>
          <p:nvSpPr>
            <p:cNvPr id="127" name="Скругленный прямоугольник 13"/>
            <p:cNvSpPr/>
            <p:nvPr/>
          </p:nvSpPr>
          <p:spPr>
            <a:xfrm>
              <a:off x="1747440" y="5013360"/>
              <a:ext cx="5259960" cy="7304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5840">
              <a:solidFill>
                <a:srgbClr val="1c82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Скругленный прямоугольник 4"/>
            <p:cNvSpPr/>
            <p:nvPr/>
          </p:nvSpPr>
          <p:spPr>
            <a:xfrm>
              <a:off x="1725480" y="5013360"/>
              <a:ext cx="5158080" cy="1359000"/>
            </a:xfrm>
            <a:prstGeom prst="rect">
              <a:avLst/>
            </a:prstGeom>
            <a:solidFill>
              <a:srgbClr val="ffccff"/>
            </a:solidFill>
            <a:ln w="15840">
              <a:solidFill>
                <a:srgbClr val="1c82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3000"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Коммуникативные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ru-RU" sz="2400" spc="-1" strike="noStrike">
                  <a:solidFill>
                    <a:srgbClr val="af9524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000" spc="-1" strike="noStrike">
                  <a:solidFill>
                    <a:srgbClr val="3b5009"/>
                  </a:solidFill>
                  <a:latin typeface="Times New Roman"/>
                  <a:ea typeface="Times New Roman"/>
                </a:rPr>
                <a:t>умения общаться, взаимодействовать с людьм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ru-RU" sz="2400" spc="-1" strike="noStrike">
                  <a:solidFill>
                    <a:srgbClr val="af9524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TextBox 16"/>
          <p:cNvSpPr/>
          <p:nvPr/>
        </p:nvSpPr>
        <p:spPr>
          <a:xfrm>
            <a:off x="2714040" y="1571760"/>
            <a:ext cx="3048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5009"/>
                </a:solidFill>
                <a:latin typeface="Arial"/>
              </a:rPr>
              <a:t>организация 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Прямоугольник 4"/>
          <p:cNvGrpSpPr/>
          <p:nvPr/>
        </p:nvGrpSpPr>
        <p:grpSpPr>
          <a:xfrm>
            <a:off x="291960" y="4035600"/>
            <a:ext cx="4273560" cy="2919240"/>
            <a:chOff x="291960" y="4035600"/>
            <a:chExt cx="4273560" cy="2919240"/>
          </a:xfrm>
        </p:grpSpPr>
        <p:pic>
          <p:nvPicPr>
            <p:cNvPr id="131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91960" y="4035600"/>
              <a:ext cx="4273560" cy="29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95280" y="4133880"/>
              <a:ext cx="3948120" cy="247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83360"/>
                  <a:tab algn="l" pos="5689440"/>
                  <a:tab algn="l" pos="6095880"/>
                  <a:tab algn="l" pos="6502320"/>
                  <a:tab algn="l" pos="6908760"/>
                  <a:tab algn="l" pos="7315200"/>
                  <a:tab algn="l" pos="7721640"/>
                  <a:tab algn="l" pos="8128080"/>
                  <a:tab algn="l" pos="853452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Arial"/>
                  <a:ea typeface="MS Gothic"/>
                </a:rPr>
                <a:t>Регулятивные 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-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 действия, с помощью которых учащиеся </a:t>
              </a: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MS Gothic"/>
                </a:rPr>
                <a:t>организуют учебную деятельность: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1436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83360"/>
                  <a:tab algn="l" pos="5689440"/>
                  <a:tab algn="l" pos="6095880"/>
                  <a:tab algn="l" pos="6502320"/>
                  <a:tab algn="l" pos="6908760"/>
                  <a:tab algn="l" pos="7315200"/>
                  <a:tab algn="l" pos="7721640"/>
                  <a:tab algn="l" pos="8128080"/>
                  <a:tab algn="l" pos="853452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целеполагание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;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1436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83360"/>
                  <a:tab algn="l" pos="5689440"/>
                  <a:tab algn="l" pos="6095880"/>
                  <a:tab algn="l" pos="6502320"/>
                  <a:tab algn="l" pos="6908760"/>
                  <a:tab algn="l" pos="7315200"/>
                  <a:tab algn="l" pos="7721640"/>
                  <a:tab algn="l" pos="8128080"/>
                  <a:tab algn="l" pos="853452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планирование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1436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83360"/>
                  <a:tab algn="l" pos="5689440"/>
                  <a:tab algn="l" pos="6095880"/>
                  <a:tab algn="l" pos="6502320"/>
                  <a:tab algn="l" pos="6908760"/>
                  <a:tab algn="l" pos="7315200"/>
                  <a:tab algn="l" pos="7721640"/>
                  <a:tab algn="l" pos="8128080"/>
                  <a:tab algn="l" pos="853452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прогнозирование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;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1436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83360"/>
                  <a:tab algn="l" pos="5689440"/>
                  <a:tab algn="l" pos="6095880"/>
                  <a:tab algn="l" pos="6502320"/>
                  <a:tab algn="l" pos="6908760"/>
                  <a:tab algn="l" pos="7315200"/>
                  <a:tab algn="l" pos="7721640"/>
                  <a:tab algn="l" pos="8128080"/>
                  <a:tab algn="l" pos="853452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контроль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1436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83360"/>
                  <a:tab algn="l" pos="5689440"/>
                  <a:tab algn="l" pos="6095880"/>
                  <a:tab algn="l" pos="6502320"/>
                  <a:tab algn="l" pos="6908760"/>
                  <a:tab algn="l" pos="7315200"/>
                  <a:tab algn="l" pos="7721640"/>
                  <a:tab algn="l" pos="8128080"/>
                  <a:tab algn="l" pos="853452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коррекция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;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1436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83360"/>
                  <a:tab algn="l" pos="5689440"/>
                  <a:tab algn="l" pos="6095880"/>
                  <a:tab algn="l" pos="6502320"/>
                  <a:tab algn="l" pos="6908760"/>
                  <a:tab algn="l" pos="7315200"/>
                  <a:tab algn="l" pos="7721640"/>
                  <a:tab algn="l" pos="8128080"/>
                  <a:tab algn="l" pos="853452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оценка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;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1436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83360"/>
                  <a:tab algn="l" pos="5689440"/>
                  <a:tab algn="l" pos="6095880"/>
                  <a:tab algn="l" pos="6502320"/>
                  <a:tab algn="l" pos="6908760"/>
                  <a:tab algn="l" pos="7315200"/>
                  <a:tab algn="l" pos="7721640"/>
                  <a:tab algn="l" pos="8128080"/>
                  <a:tab algn="l" pos="853452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 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саморегуляция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Стрелка вправо 6"/>
          <p:cNvSpPr/>
          <p:nvPr/>
        </p:nvSpPr>
        <p:spPr>
          <a:xfrm rot="7556400">
            <a:off x="3166920" y="2788920"/>
            <a:ext cx="3500280" cy="268560"/>
          </a:xfrm>
          <a:prstGeom prst="rightArrow">
            <a:avLst>
              <a:gd name="adj1" fmla="val 50000"/>
              <a:gd name="adj2" fmla="val 5008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Скругленный прямоугольник 1"/>
          <p:cNvGrpSpPr/>
          <p:nvPr/>
        </p:nvGrpSpPr>
        <p:grpSpPr>
          <a:xfrm>
            <a:off x="5499000" y="-225360"/>
            <a:ext cx="3700440" cy="2401920"/>
            <a:chOff x="5499000" y="-225360"/>
            <a:chExt cx="3700440" cy="2401920"/>
          </a:xfrm>
        </p:grpSpPr>
        <p:pic>
          <p:nvPicPr>
            <p:cNvPr id="135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5499000" y="-225360"/>
              <a:ext cx="370044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681520" y="185760"/>
              <a:ext cx="319104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0644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83360"/>
                  <a:tab algn="l" pos="5689440"/>
                  <a:tab algn="l" pos="6095880"/>
                  <a:tab algn="l" pos="6502320"/>
                  <a:tab algn="l" pos="6908760"/>
                  <a:tab algn="l" pos="7315200"/>
                  <a:tab algn="l" pos="7721640"/>
                  <a:tab algn="l" pos="8128080"/>
                </a:tabLst>
              </a:pPr>
              <a:r>
                <a:rPr b="0" lang="ru-RU" sz="8000" spc="-1" strike="noStrike">
                  <a:solidFill>
                    <a:srgbClr val="000000"/>
                  </a:solidFill>
                  <a:latin typeface="Arial Black"/>
                </a:rPr>
                <a:t>УУД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Прямоугольник 2"/>
          <p:cNvGrpSpPr/>
          <p:nvPr/>
        </p:nvGrpSpPr>
        <p:grpSpPr>
          <a:xfrm>
            <a:off x="152280" y="122400"/>
            <a:ext cx="4627800" cy="3968640"/>
            <a:chOff x="152280" y="122400"/>
            <a:chExt cx="4627800" cy="3968640"/>
          </a:xfrm>
        </p:grpSpPr>
        <p:pic>
          <p:nvPicPr>
            <p:cNvPr id="138" name="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152280" y="122400"/>
              <a:ext cx="4627800" cy="39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79280" y="149400"/>
              <a:ext cx="4572000" cy="36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83360"/>
                  <a:tab algn="l" pos="5689440"/>
                  <a:tab algn="l" pos="6095880"/>
                  <a:tab algn="l" pos="6502320"/>
                  <a:tab algn="l" pos="6908760"/>
                  <a:tab algn="l" pos="7315200"/>
                  <a:tab algn="l" pos="7721640"/>
                  <a:tab algn="l" pos="8128080"/>
                  <a:tab algn="l" pos="853452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  <a:ea typeface="MS Gothic"/>
                </a:rPr>
                <a:t>Познавательные  -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  <a:ea typeface="MS Gothic"/>
                </a:rPr>
                <a:t>   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действия, с помощью которых учащиеся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  <a:ea typeface="MS Gothic"/>
                </a:rPr>
                <a:t>осуществляют процесс познания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1436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83360"/>
                  <a:tab algn="l" pos="5689440"/>
                  <a:tab algn="l" pos="6095880"/>
                  <a:tab algn="l" pos="6502320"/>
                  <a:tab algn="l" pos="6908760"/>
                  <a:tab algn="l" pos="7315200"/>
                  <a:tab algn="l" pos="7721640"/>
                  <a:tab algn="l" pos="8128080"/>
                  <a:tab algn="l" pos="8534520"/>
                </a:tabLst>
              </a:pPr>
              <a:r>
                <a:rPr b="1" i="1" lang="ru-RU" sz="1800" spc="-1" strike="noStrike" u="sng">
                  <a:solidFill>
                    <a:srgbClr val="000000"/>
                  </a:solidFill>
                  <a:uFillTx/>
                  <a:latin typeface="Arial"/>
                  <a:ea typeface="MS Gothic"/>
                </a:rPr>
                <a:t>общеучебные универсальные действия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(самостоятельное формулирование познавательной цели; поиск необходимой информации; структурирование знаний и др.)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1436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83360"/>
                  <a:tab algn="l" pos="5689440"/>
                  <a:tab algn="l" pos="6095880"/>
                  <a:tab algn="l" pos="6502320"/>
                  <a:tab algn="l" pos="6908760"/>
                  <a:tab algn="l" pos="7315200"/>
                  <a:tab algn="l" pos="7721640"/>
                  <a:tab algn="l" pos="8128080"/>
                  <a:tab algn="l" pos="8534520"/>
                </a:tabLst>
              </a:pPr>
              <a:r>
                <a:rPr b="1" i="1" lang="ru-RU" sz="1800" spc="-1" strike="noStrike" u="sng">
                  <a:solidFill>
                    <a:srgbClr val="000000"/>
                  </a:solidFill>
                  <a:uFillTx/>
                  <a:latin typeface="Arial"/>
                  <a:ea typeface="MS Gothic"/>
                </a:rPr>
                <a:t>логические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 (анализ; синтез;  доказательство; выбор оснований и критериев для сравнения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и др.)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1436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83360"/>
                  <a:tab algn="l" pos="5689440"/>
                  <a:tab algn="l" pos="6095880"/>
                  <a:tab algn="l" pos="6502320"/>
                  <a:tab algn="l" pos="6908760"/>
                  <a:tab algn="l" pos="7315200"/>
                  <a:tab algn="l" pos="7721640"/>
                  <a:tab algn="l" pos="8128080"/>
                  <a:tab algn="l" pos="8534520"/>
                </a:tabLst>
              </a:pPr>
              <a:r>
                <a:rPr b="1" i="1" lang="ru-RU" sz="1800" spc="-1" strike="noStrike" u="sng">
                  <a:solidFill>
                    <a:srgbClr val="000000"/>
                  </a:solidFill>
                  <a:uFillTx/>
                  <a:latin typeface="Arial"/>
                  <a:ea typeface="MS Gothic"/>
                </a:rPr>
                <a:t>постановка и решение проблемы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Прямоугольник 3"/>
          <p:cNvGrpSpPr/>
          <p:nvPr/>
        </p:nvGrpSpPr>
        <p:grpSpPr>
          <a:xfrm>
            <a:off x="4522680" y="2828880"/>
            <a:ext cx="4992840" cy="4394160"/>
            <a:chOff x="4522680" y="2828880"/>
            <a:chExt cx="4992840" cy="4394160"/>
          </a:xfrm>
        </p:grpSpPr>
        <p:pic>
          <p:nvPicPr>
            <p:cNvPr id="141" name="Прямоугольник 3" descr=""/>
            <p:cNvPicPr/>
            <p:nvPr/>
          </p:nvPicPr>
          <p:blipFill>
            <a:blip r:embed="rId4"/>
            <a:stretch/>
          </p:blipFill>
          <p:spPr>
            <a:xfrm>
              <a:off x="4522680" y="2828880"/>
              <a:ext cx="4992840" cy="439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572000" y="2852640"/>
              <a:ext cx="4572000" cy="38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83360"/>
                  <a:tab algn="l" pos="5689440"/>
                  <a:tab algn="l" pos="6095880"/>
                  <a:tab algn="l" pos="6502320"/>
                  <a:tab algn="l" pos="6908760"/>
                  <a:tab algn="l" pos="7315200"/>
                  <a:tab algn="l" pos="7721640"/>
                  <a:tab algn="l" pos="8128080"/>
                  <a:tab algn="l" pos="853452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Calibri"/>
                  <a:ea typeface="MS Gothic"/>
                </a:rPr>
                <a:t>К</a:t>
              </a: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  <a:ea typeface="MS Gothic"/>
                </a:rPr>
                <a:t>оммуникативные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-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 действия, с помощью которых учащиеся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  <a:ea typeface="MS Gothic"/>
                </a:rPr>
                <a:t>налаживают общение с разными людьми для решения учебных задач 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1436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83360"/>
                  <a:tab algn="l" pos="5689440"/>
                  <a:tab algn="l" pos="6095880"/>
                  <a:tab algn="l" pos="6502320"/>
                  <a:tab algn="l" pos="6908760"/>
                  <a:tab algn="l" pos="7315200"/>
                  <a:tab algn="l" pos="7721640"/>
                  <a:tab algn="l" pos="8128080"/>
                  <a:tab algn="l" pos="8534520"/>
                </a:tabLst>
              </a:pPr>
              <a:r>
                <a:rPr b="1" i="1" lang="ru-RU" sz="1800" spc="-1" strike="noStrike" u="sng">
                  <a:solidFill>
                    <a:srgbClr val="000000"/>
                  </a:solidFill>
                  <a:uFillTx/>
                  <a:latin typeface="Arial"/>
                  <a:ea typeface="MS Gothic"/>
                </a:rPr>
                <a:t>планирование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 учебного сотрудничества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с учителем и сверстниками;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1436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83360"/>
                  <a:tab algn="l" pos="5689440"/>
                  <a:tab algn="l" pos="6095880"/>
                  <a:tab algn="l" pos="6502320"/>
                  <a:tab algn="l" pos="6908760"/>
                  <a:tab algn="l" pos="7315200"/>
                  <a:tab algn="l" pos="7721640"/>
                  <a:tab algn="l" pos="8128080"/>
                  <a:tab algn="l" pos="8534520"/>
                </a:tabLst>
              </a:pPr>
              <a:r>
                <a:rPr b="1" i="1" lang="ru-RU" sz="1800" spc="-1" strike="noStrike" u="sng">
                  <a:solidFill>
                    <a:srgbClr val="000000"/>
                  </a:solidFill>
                  <a:uFillTx/>
                  <a:latin typeface="Arial"/>
                  <a:ea typeface="MS Gothic"/>
                </a:rPr>
                <a:t>постановка вопросов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;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1436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83360"/>
                  <a:tab algn="l" pos="5689440"/>
                  <a:tab algn="l" pos="6095880"/>
                  <a:tab algn="l" pos="6502320"/>
                  <a:tab algn="l" pos="6908760"/>
                  <a:tab algn="l" pos="7315200"/>
                  <a:tab algn="l" pos="7721640"/>
                  <a:tab algn="l" pos="8128080"/>
                  <a:tab algn="l" pos="8534520"/>
                </a:tabLst>
              </a:pPr>
              <a:r>
                <a:rPr b="1" i="1" lang="ru-RU" sz="1800" spc="-1" strike="noStrike" u="sng">
                  <a:solidFill>
                    <a:srgbClr val="000000"/>
                  </a:solidFill>
                  <a:uFillTx/>
                  <a:latin typeface="Arial"/>
                  <a:ea typeface="MS Gothic"/>
                </a:rPr>
                <a:t>разрешение конфликтов</a:t>
              </a: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Arial"/>
                  <a:ea typeface="MS Gothic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1436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83360"/>
                  <a:tab algn="l" pos="5689440"/>
                  <a:tab algn="l" pos="6095880"/>
                  <a:tab algn="l" pos="6502320"/>
                  <a:tab algn="l" pos="6908760"/>
                  <a:tab algn="l" pos="7315200"/>
                  <a:tab algn="l" pos="7721640"/>
                  <a:tab algn="l" pos="8128080"/>
                  <a:tab algn="l" pos="8534520"/>
                </a:tabLst>
              </a:pPr>
              <a:r>
                <a:rPr b="1" i="1" lang="ru-RU" sz="1800" spc="-1" strike="noStrike" u="sng">
                  <a:solidFill>
                    <a:srgbClr val="000000"/>
                  </a:solidFill>
                  <a:uFillTx/>
                  <a:latin typeface="Arial"/>
                  <a:ea typeface="MS Gothic"/>
                </a:rPr>
                <a:t>управление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поведением партнера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14360"/>
                  <a:tab algn="l" pos="812880"/>
                  <a:tab algn="l" pos="1219320"/>
                  <a:tab algn="l" pos="1625760"/>
                  <a:tab algn="l" pos="2031840"/>
                  <a:tab algn="l" pos="2438280"/>
                  <a:tab algn="l" pos="2844720"/>
                  <a:tab algn="l" pos="3251160"/>
                  <a:tab algn="l" pos="3657600"/>
                  <a:tab algn="l" pos="4064040"/>
                  <a:tab algn="l" pos="4470480"/>
                  <a:tab algn="l" pos="4876920"/>
                  <a:tab algn="l" pos="5283360"/>
                  <a:tab algn="l" pos="5689440"/>
                  <a:tab algn="l" pos="6095880"/>
                  <a:tab algn="l" pos="6502320"/>
                  <a:tab algn="l" pos="6908760"/>
                  <a:tab algn="l" pos="7315200"/>
                  <a:tab algn="l" pos="7721640"/>
                  <a:tab algn="l" pos="8128080"/>
                  <a:tab algn="l" pos="8534520"/>
                </a:tabLst>
              </a:pPr>
              <a:r>
                <a:rPr b="1" i="1" lang="ru-RU" sz="1800" spc="-1" strike="noStrike" u="sng">
                  <a:solidFill>
                    <a:srgbClr val="000000"/>
                  </a:solidFill>
                  <a:uFillTx/>
                  <a:latin typeface="Arial"/>
                  <a:ea typeface="MS Gothic"/>
                </a:rPr>
                <a:t>умение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с достаточной полнотой и точностью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выражать свои мысли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MS Gothic"/>
                </a:rPr>
                <a:t>в соответствии с задачами,  условиями коммуникации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Стрелка вправо 5"/>
          <p:cNvSpPr/>
          <p:nvPr/>
        </p:nvSpPr>
        <p:spPr>
          <a:xfrm rot="8884800">
            <a:off x="4657320" y="1495080"/>
            <a:ext cx="1036800" cy="249120"/>
          </a:xfrm>
          <a:prstGeom prst="rightArrow">
            <a:avLst>
              <a:gd name="adj1" fmla="val 50000"/>
              <a:gd name="adj2" fmla="val 5019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трелка вниз 7"/>
          <p:cNvSpPr/>
          <p:nvPr/>
        </p:nvSpPr>
        <p:spPr>
          <a:xfrm>
            <a:off x="6156360" y="1589040"/>
            <a:ext cx="262080" cy="1263600"/>
          </a:xfrm>
          <a:prstGeom prst="downArrow">
            <a:avLst>
              <a:gd name="adj1" fmla="val 50000"/>
              <a:gd name="adj2" fmla="val 4982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греческого «мета» - то, что стоит  «за»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й известный  метапредмет – «Метафизика»  Аристотел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 практике часто очень сложно провести четкую грань между метапредметным и межпредметным подходами. «Мета» - «над», «всеобщее», «интегрирующее», а «Меж» - «близко к тому и к другому», «в смеси с чем-то». Очевидно, что в определении этих двух понятий прослеживаются различия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6" name="Picture 4" descr="https://encrypted-tbn2.gstatic.com/images?q=tbn:ANd9GcS3Pd4rQ3EkvYZCf_8UO0hL9N51NWRPyAHQR16xAUCnPze3eeqzug"/>
          <p:cNvPicPr/>
          <p:nvPr/>
        </p:nvPicPr>
        <p:blipFill>
          <a:blip r:embed="rId1"/>
          <a:stretch/>
        </p:blipFill>
        <p:spPr>
          <a:xfrm>
            <a:off x="8028000" y="-6480"/>
            <a:ext cx="1116000" cy="49716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1"/>
          <p:cNvSpPr/>
          <p:nvPr/>
        </p:nvSpPr>
        <p:spPr>
          <a:xfrm>
            <a:off x="746280" y="620640"/>
            <a:ext cx="648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етапредмет.  Метапредмет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9:11:07Z</dcterms:created>
  <dc:creator>Елена</dc:creator>
  <dc:description/>
  <dc:language>en-US</dc:language>
  <cp:lastModifiedBy>kulik</cp:lastModifiedBy>
  <dcterms:modified xsi:type="dcterms:W3CDTF">2016-11-25T15:18:14Z</dcterms:modified>
  <cp:revision>48</cp:revision>
  <dc:subject/>
  <dc:title>Формирование метапредметных компетенций у обучающихся на уроках математики</dc:title>
</cp:coreProperties>
</file>