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66B87-4BEF-4019-9794-37DBF41CF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5996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3960"/>
            <a:ext cx="885996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B94FB-5434-4645-83C9-3AF202AEF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360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3240" y="1768320"/>
            <a:ext cx="432360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3960"/>
            <a:ext cx="432360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3240" y="4053960"/>
            <a:ext cx="432360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5FE30-93BC-496F-90AF-A424DDCA0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264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98480" y="1768320"/>
            <a:ext cx="285264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4400" y="1768320"/>
            <a:ext cx="285264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3960"/>
            <a:ext cx="285264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98480" y="4053960"/>
            <a:ext cx="285264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4400" y="4053960"/>
            <a:ext cx="285264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A1E0D-5D3F-4395-9F26-02B9A1BC5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59960" cy="437544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E0C42-8049-4FBB-B051-25D5E3CBE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59960" cy="4375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D515C-BB5A-4085-9D01-381C07734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3600" cy="4375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3240" y="1768320"/>
            <a:ext cx="4323600" cy="4375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27E79-58C9-451A-B31B-FE0C183BA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CF9A9-884C-4E7C-9D0F-977C9B219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7D875-B8C2-452C-8920-3F8B2B074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360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3240" y="1768320"/>
            <a:ext cx="4323600" cy="4375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3960"/>
            <a:ext cx="432360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2288-F914-4C65-AEE9-F1E72072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3600" cy="4375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3240" y="1768320"/>
            <a:ext cx="432360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3240" y="4053960"/>
            <a:ext cx="432360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BC974-3185-4466-8AA9-97BEAFF50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360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3240" y="1768320"/>
            <a:ext cx="432360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3960"/>
            <a:ext cx="8859960" cy="2086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89EDB-46C1-4D6F-8040-F887AC7C1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59960" cy="43754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CF4A9B-955E-46D5-A7B7-36C40981A318}"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28720" y="1584360"/>
            <a:ext cx="7702560" cy="3454200"/>
          </a:xfrm>
          <a:prstGeom prst="rect">
            <a:avLst/>
          </a:prstGeom>
          <a:noFill/>
          <a:ln w="0">
            <a:noFill/>
          </a:ln>
        </p:spPr>
        <p:style>
          <a:lnRef idx="0"/>
          <a:fillRef idx="0"/>
          <a:effectRef idx="0"/>
          <a:fontRef idx="minor"/>
        </p:style>
        <p:txBody>
          <a:bodyPr lIns="90000" rIns="90000" tIns="7668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94476b"/>
                </a:solidFill>
                <a:latin typeface="Arial"/>
              </a:rPr>
              <a:t>«Обучение решению задач </a:t>
            </a:r>
            <a:endParaRPr b="0" lang="en-US" sz="32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94476b"/>
                </a:solidFill>
                <a:latin typeface="Arial"/>
              </a:rPr>
              <a:t>как средство формирования мыслительных операций «сравнение», «анализ» и «синтез»</a:t>
            </a:r>
            <a:endParaRPr b="0" lang="en-US" sz="32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94476b"/>
                </a:solidFill>
                <a:latin typeface="Arial"/>
              </a:rPr>
              <a:t> </a:t>
            </a:r>
            <a:r>
              <a:rPr b="1" lang="ru-RU" sz="3200" spc="-1" strike="noStrike">
                <a:solidFill>
                  <a:srgbClr val="94476b"/>
                </a:solidFill>
                <a:latin typeface="Arial"/>
              </a:rPr>
              <a:t>(на примере темы</a:t>
            </a:r>
            <a:endParaRPr b="0" lang="en-US" sz="32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94476b"/>
                </a:solidFill>
                <a:latin typeface="Arial"/>
              </a:rPr>
              <a:t> </a:t>
            </a:r>
            <a:r>
              <a:rPr b="1" lang="ru-RU" sz="3200" spc="-1" strike="noStrike">
                <a:solidFill>
                  <a:srgbClr val="94476b"/>
                </a:solidFill>
                <a:latin typeface="Arial"/>
              </a:rPr>
              <a:t>«Молекулярная физика»)»</a:t>
            </a:r>
            <a:endParaRPr b="0" lang="en-US" sz="3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42" name=""/>
          <p:cNvSpPr/>
          <p:nvPr/>
        </p:nvSpPr>
        <p:spPr>
          <a:xfrm>
            <a:off x="1584360" y="5824440"/>
            <a:ext cx="8783640" cy="13748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Яковлева Татьяна Юрьевна, </a:t>
            </a:r>
            <a:endParaRPr b="0" lang="en-US" sz="20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ГБОУ СОШ № 377 </a:t>
            </a:r>
            <a:endParaRPr b="0" lang="en-US" sz="20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Санкт-Петербург</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68200" y="360360"/>
            <a:ext cx="9523440" cy="65563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400" spc="-1" strike="noStrike">
                <a:solidFill>
                  <a:srgbClr val="ff3366"/>
                </a:solidFill>
                <a:latin typeface="Arial"/>
              </a:rPr>
              <a:t>Физическая учебная задача</a:t>
            </a:r>
            <a:r>
              <a:rPr b="0" lang="ru-RU" sz="2400" spc="-1" strike="noStrike">
                <a:solidFill>
                  <a:srgbClr val="000000"/>
                </a:solidFill>
                <a:latin typeface="Arial"/>
              </a:rPr>
              <a:t> — это специально созданная проблемная ситуация, для решения которой учащиеся должны осуществить некоторые действия (как мыслительные, так и практические), базирующиеся на знании физики, предназначенная для лучшего понимания физических явлений, законов, закономерностей. </a:t>
            </a:r>
            <a:endParaRPr b="0" lang="en-US" sz="2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400" spc="-1" strike="noStrike">
                <a:solidFill>
                  <a:srgbClr val="ff3366"/>
                </a:solidFill>
                <a:latin typeface="Arial"/>
              </a:rPr>
              <a:t>Познавательный характер учебных физических задач</a:t>
            </a:r>
            <a:r>
              <a:rPr b="0" lang="ru-RU" sz="2400" spc="-1" strike="noStrike">
                <a:solidFill>
                  <a:srgbClr val="000000"/>
                </a:solidFill>
                <a:latin typeface="Arial"/>
              </a:rPr>
              <a:t> определяется тем, что при их решении происходит более глубокое формирование физических понятий, понимание физических явлений, развитие физического мышления и способности учащихся применять полученные знания на практике. </a:t>
            </a:r>
            <a:endParaRPr b="0" lang="en-US" sz="2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400" spc="-1" strike="noStrike">
                <a:solidFill>
                  <a:srgbClr val="000000"/>
                </a:solidFill>
                <a:latin typeface="Arial"/>
              </a:rPr>
              <a:t>Чтобы заинтересовать учащихся процессом решения задач, соответствующих определенным требованиям (новизны, практической ценности, наличия познавательного и исследовательского элемента и др.), важно правильно подобрать методику обучения.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60360" y="287280"/>
            <a:ext cx="8928000" cy="7543800"/>
          </a:xfrm>
          <a:prstGeom prst="rect">
            <a:avLst/>
          </a:prstGeom>
          <a:noFill/>
          <a:ln w="0">
            <a:noFill/>
          </a:ln>
        </p:spPr>
        <p:style>
          <a:lnRef idx="0"/>
          <a:fillRef idx="0"/>
          <a:effectRef idx="0"/>
          <a:fontRef idx="minor"/>
        </p:style>
        <p:txBody>
          <a:bodyPr lIns="90000" rIns="90000" tIns="644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ff3366"/>
                </a:solidFill>
                <a:latin typeface="Arial"/>
                <a:ea typeface="Times New Roman"/>
              </a:rPr>
              <a:t>Задача формирования положительных мотивов учения </a:t>
            </a:r>
            <a:r>
              <a:rPr b="0" lang="ru-RU" sz="2400" spc="-1" strike="noStrike">
                <a:solidFill>
                  <a:srgbClr val="000000"/>
                </a:solidFill>
                <a:latin typeface="Arial"/>
                <a:ea typeface="Times New Roman"/>
              </a:rPr>
              <a:t>- главная в обучении физике, ибо высокий уровень мотивации учебной деятельности на уроке и интереса к учебному предмету – это первый фактор, указывающий на эффективность современного урока.</a:t>
            </a: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Как традиционные, так и нетрадиционные методы и средства являются важным средством активизации мыслительной деятельности, а их применение - актуальной проблемой.</a:t>
            </a:r>
            <a:endParaRPr b="0" lang="en-US" sz="2400" spc="-1" strike="noStrike">
              <a:solidFill>
                <a:srgbClr val="000000"/>
              </a:solidFill>
              <a:latin typeface="Arial"/>
            </a:endParaRPr>
          </a:p>
          <a:p>
            <a:pPr algn="just">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Учитель должен создать благоприятные условия на уроке для творческого развития ребенка.</a:t>
            </a:r>
            <a:endParaRPr b="0" lang="en-US" sz="24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720720" y="144360"/>
          <a:ext cx="8494560" cy="7272000"/>
        </p:xfrm>
        <a:graphic>
          <a:graphicData uri="http://schemas.openxmlformats.org/drawingml/2006/table">
            <a:tbl>
              <a:tblPr/>
              <a:tblGrid>
                <a:gridCol w="2374920"/>
                <a:gridCol w="6119640"/>
              </a:tblGrid>
              <a:tr h="689040">
                <a:tc>
                  <a:txBody>
                    <a:bodyPr lIns="90000" rIns="90000" tIns="698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Arial"/>
                        </a:rPr>
                        <a:t>Признаки классификации</a:t>
                      </a:r>
                      <a:endParaRPr b="0" lang="en-US" sz="14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698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Arial"/>
                        </a:rPr>
                        <a:t>Виды задач</a:t>
                      </a:r>
                      <a:endParaRPr b="0" lang="en-US" sz="1400" spc="-1" strike="noStrike">
                        <a:solidFill>
                          <a:srgbClr val="000000"/>
                        </a:solidFill>
                        <a:latin typeface="Arial"/>
                      </a:endParaRPr>
                    </a:p>
                  </a:txBody>
                  <a:tcPr anchor="t" marL="90000" marR="90000">
                    <a:lnL>
                      <a:noFill/>
                    </a:lnL>
                    <a:lnR>
                      <a:noFill/>
                    </a:lnR>
                    <a:lnT>
                      <a:noFill/>
                    </a:lnT>
                    <a:lnB>
                      <a:noFill/>
                    </a:lnB>
                    <a:solidFill>
                      <a:srgbClr val="b3b3b3"/>
                    </a:solidFill>
                  </a:tcPr>
                </a:tc>
              </a:tr>
              <a:tr h="1386360">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По способам задания условия</a:t>
                      </a:r>
                      <a:endParaRPr b="0" lang="en-US" sz="14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текстовые,</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графические,</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дачи-рисунки,</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экспериментальные задачи</a:t>
                      </a:r>
                      <a:endParaRPr b="0" lang="en-US" sz="1400" spc="-1" strike="noStrike">
                        <a:solidFill>
                          <a:srgbClr val="000000"/>
                        </a:solidFill>
                        <a:latin typeface="Arial"/>
                      </a:endParaRPr>
                    </a:p>
                  </a:txBody>
                  <a:tcPr anchor="t" marL="90000" marR="90000">
                    <a:lnL>
                      <a:noFill/>
                    </a:lnL>
                    <a:lnR>
                      <a:noFill/>
                    </a:lnR>
                    <a:lnT>
                      <a:noFill/>
                    </a:lnT>
                    <a:lnB>
                      <a:noFill/>
                    </a:lnB>
                    <a:solidFill>
                      <a:srgbClr val="cccccc"/>
                    </a:solidFill>
                  </a:tcPr>
                </a:tc>
              </a:tr>
              <a:tr h="689040">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По степени сложности</a:t>
                      </a:r>
                      <a:endParaRPr b="0" lang="en-US" sz="1400" spc="-1" strike="noStrike">
                        <a:solidFill>
                          <a:srgbClr val="000000"/>
                        </a:solidFill>
                        <a:latin typeface="Arial"/>
                      </a:endParaRPr>
                    </a:p>
                  </a:txBody>
                  <a:tcPr anchor="t" marL="90000" marR="90000">
                    <a:lnL>
                      <a:noFill/>
                    </a:lnL>
                    <a:lnR>
                      <a:noFill/>
                    </a:lnR>
                    <a:lnT>
                      <a:noFill/>
                    </a:lnT>
                    <a:lnB>
                      <a:noFill/>
                    </a:lnB>
                    <a:solidFill>
                      <a:srgbClr val="e6e6e6"/>
                    </a:solidFill>
                  </a:tcPr>
                </a:tc>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простые,</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сложные</a:t>
                      </a:r>
                      <a:endParaRPr b="0" lang="en-US" sz="1400" spc="-1" strike="noStrike">
                        <a:solidFill>
                          <a:srgbClr val="000000"/>
                        </a:solidFill>
                        <a:latin typeface="Arial"/>
                      </a:endParaRPr>
                    </a:p>
                  </a:txBody>
                  <a:tcPr anchor="t" marL="90000" marR="90000">
                    <a:lnL>
                      <a:noFill/>
                    </a:lnL>
                    <a:lnR>
                      <a:noFill/>
                    </a:lnR>
                    <a:lnT>
                      <a:noFill/>
                    </a:lnT>
                    <a:lnB>
                      <a:noFill/>
                    </a:lnB>
                    <a:solidFill>
                      <a:srgbClr val="e6e6e6"/>
                    </a:solidFill>
                  </a:tcPr>
                </a:tc>
              </a:tr>
              <a:tr h="1386000">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По характеру и методу исследования вопросов</a:t>
                      </a:r>
                      <a:endParaRPr b="0" lang="en-US" sz="14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качественные,</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количественные</a:t>
                      </a:r>
                      <a:endParaRPr b="0" lang="en-US" sz="1400" spc="-1" strike="noStrike">
                        <a:solidFill>
                          <a:srgbClr val="000000"/>
                        </a:solidFill>
                        <a:latin typeface="Arial"/>
                      </a:endParaRPr>
                    </a:p>
                  </a:txBody>
                  <a:tcPr anchor="t" marL="90000" marR="90000">
                    <a:lnL>
                      <a:noFill/>
                    </a:lnL>
                    <a:lnR>
                      <a:noFill/>
                    </a:lnR>
                    <a:lnT>
                      <a:noFill/>
                    </a:lnT>
                    <a:lnB>
                      <a:noFill/>
                    </a:lnB>
                    <a:solidFill>
                      <a:srgbClr val="cccccc"/>
                    </a:solidFill>
                  </a:tcPr>
                </a:tc>
              </a:tr>
              <a:tr h="2083320">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По содержанию</a:t>
                      </a:r>
                      <a:endParaRPr b="0" lang="en-US" sz="1400" spc="-1" strike="noStrike">
                        <a:solidFill>
                          <a:srgbClr val="000000"/>
                        </a:solidFill>
                        <a:latin typeface="Arial"/>
                      </a:endParaRPr>
                    </a:p>
                  </a:txBody>
                  <a:tcPr anchor="t" marL="90000" marR="90000">
                    <a:lnL>
                      <a:noFill/>
                    </a:lnL>
                    <a:lnR>
                      <a:noFill/>
                    </a:lnR>
                    <a:lnT>
                      <a:noFill/>
                    </a:lnT>
                    <a:lnB>
                      <a:noFill/>
                    </a:lnB>
                    <a:solidFill>
                      <a:srgbClr val="e6e6e6"/>
                    </a:solidFill>
                  </a:tcPr>
                </a:tc>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дачи с конкретным физическим содержанием;</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дачи с абстрактным содержанием;</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дачи с техническим содержанием;</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дачи с историческим содержанием;</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нимательные задачи</a:t>
                      </a:r>
                      <a:endParaRPr b="0" lang="en-US" sz="1400" spc="-1" strike="noStrike">
                        <a:solidFill>
                          <a:srgbClr val="000000"/>
                        </a:solidFill>
                        <a:latin typeface="Arial"/>
                      </a:endParaRPr>
                    </a:p>
                  </a:txBody>
                  <a:tcPr anchor="t" marL="90000" marR="90000">
                    <a:lnL>
                      <a:noFill/>
                    </a:lnL>
                    <a:lnR>
                      <a:noFill/>
                    </a:lnR>
                    <a:lnT>
                      <a:noFill/>
                    </a:lnT>
                    <a:lnB>
                      <a:noFill/>
                    </a:lnB>
                    <a:solidFill>
                      <a:srgbClr val="e6e6e6"/>
                    </a:solidFill>
                  </a:tcPr>
                </a:tc>
              </a:tr>
              <a:tr h="1038240">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По основному способу решения</a:t>
                      </a:r>
                      <a:endParaRPr b="0" lang="en-US" sz="14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вычислительные,</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экспериментальные,</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логические</a:t>
                      </a:r>
                      <a:endParaRPr b="0" lang="en-US" sz="1400" spc="-1" strike="noStrike">
                        <a:solidFill>
                          <a:srgbClr val="000000"/>
                        </a:solidFill>
                        <a:latin typeface="Arial"/>
                      </a:endParaRPr>
                    </a:p>
                  </a:txBody>
                  <a:tcPr anchor="t" marL="90000" marR="90000">
                    <a:lnL>
                      <a:noFill/>
                    </a:lnL>
                    <a:lnR>
                      <a:noFill/>
                    </a:lnR>
                    <a:lnT>
                      <a:noFill/>
                    </a:lnT>
                    <a:lnB>
                      <a:noFill/>
                    </a:lnB>
                    <a:solidFill>
                      <a:srgbClr val="cccccc"/>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503280" y="287280"/>
          <a:ext cx="8866080" cy="7007400"/>
        </p:xfrm>
        <a:graphic>
          <a:graphicData uri="http://schemas.openxmlformats.org/drawingml/2006/table">
            <a:tbl>
              <a:tblPr/>
              <a:tblGrid>
                <a:gridCol w="2054160"/>
                <a:gridCol w="6811920"/>
              </a:tblGrid>
              <a:tr h="662040">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По целевому назначению</a:t>
                      </a:r>
                      <a:endParaRPr b="0" lang="en-US" sz="1400" spc="-1" strike="noStrike">
                        <a:solidFill>
                          <a:srgbClr val="000000"/>
                        </a:solidFill>
                        <a:latin typeface="Arial"/>
                      </a:endParaRPr>
                    </a:p>
                  </a:txBody>
                  <a:tcPr anchor="t" marL="90000" marR="90000">
                    <a:lnL>
                      <a:noFill/>
                    </a:lnL>
                    <a:lnR>
                      <a:noFill/>
                    </a:lnR>
                    <a:lnT>
                      <a:noFill/>
                    </a:lnT>
                    <a:lnB>
                      <a:noFill/>
                    </a:lnB>
                    <a:solidFill>
                      <a:srgbClr val="b3b3b3"/>
                    </a:solidFill>
                  </a:tcPr>
                </a:tc>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тренировочные,</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контрольные</a:t>
                      </a:r>
                      <a:endParaRPr b="0" lang="en-US" sz="1400" spc="-1" strike="noStrike">
                        <a:solidFill>
                          <a:srgbClr val="000000"/>
                        </a:solidFill>
                        <a:latin typeface="Arial"/>
                      </a:endParaRPr>
                    </a:p>
                  </a:txBody>
                  <a:tcPr anchor="t" marL="90000" marR="90000">
                    <a:lnL>
                      <a:noFill/>
                    </a:lnL>
                    <a:lnR>
                      <a:noFill/>
                    </a:lnR>
                    <a:lnT>
                      <a:noFill/>
                    </a:lnT>
                    <a:lnB>
                      <a:noFill/>
                    </a:lnB>
                    <a:solidFill>
                      <a:srgbClr val="b3b3b3"/>
                    </a:solidFill>
                  </a:tcPr>
                </a:tc>
              </a:tr>
              <a:tr h="6345360">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По роли в формировании физических понятий</a:t>
                      </a:r>
                      <a:endParaRPr b="0" lang="en-US" sz="14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69840" bIns="46800" anchor="t">
                      <a:no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дачи, в процессе решения которых осуществляется уточнение признаков понятий; к ним относятся задачи простые и абстрактные;</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дачи, в процессе решения которых осуществляется уточнение объема и конкретизация понятий;</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дачи, основной целью которых является дифференцировка понятий. Сюда относятся логические задачи;</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дачи, основной целью которых является установление и закрепление нового понятия. К ним относятся все вычислительные и графические задачи, задачи-рисунки, доказательства;</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дачи, основной целью которых является систематизация понятий и формирование у учащихся умения классифицировать их, правильно соотносить друг с другом;</a:t>
                      </a:r>
                      <a:endParaRPr b="0" lang="en-US" sz="1400" spc="-1" strike="noStrike">
                        <a:solidFill>
                          <a:srgbClr val="000000"/>
                        </a:solidFill>
                        <a:latin typeface="Arial"/>
                      </a:endParaRPr>
                    </a:p>
                    <a:p>
                      <a:pPr algn="just">
                        <a:lnSpc>
                          <a:spcPct val="13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Arial"/>
                        </a:rPr>
                        <a:t>задачи, основной целью которых является формирование у учащихся умения применять понятия в различных ситуациях, для объяснения и предсказания явлений, решения проблем научного и практического характера; к данному типу задач необходимо отнести задачи с конкретным содержанием, т.е. задачи с производственно-техническим и научно-техническим содержанием.[ http://otherreferats.allbest.ru/pedagogics/00138102_1.html - «Методика обучения решению задач по физике.»]</a:t>
                      </a:r>
                      <a:endParaRPr b="0" lang="en-US" sz="1400" spc="-1" strike="noStrike">
                        <a:solidFill>
                          <a:srgbClr val="000000"/>
                        </a:solidFill>
                        <a:latin typeface="Arial"/>
                      </a:endParaRPr>
                    </a:p>
                  </a:txBody>
                  <a:tcPr anchor="t" marL="90000" marR="90000">
                    <a:lnL>
                      <a:noFill/>
                    </a:lnL>
                    <a:lnR>
                      <a:noFill/>
                    </a:lnR>
                    <a:lnT>
                      <a:noFill/>
                    </a:lnT>
                    <a:lnB>
                      <a:noFill/>
                    </a:lnB>
                    <a:solidFill>
                      <a:srgbClr val="cccccc"/>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60360" y="503280"/>
            <a:ext cx="9288360" cy="534024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В свете введения нового образовательного стандарта особо следует выделить два типа задач.</a:t>
            </a:r>
            <a:endParaRPr b="0" lang="en-US" sz="2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Arial"/>
              </a:rPr>
              <a:t>Экспериментальные задачи</a:t>
            </a:r>
            <a:r>
              <a:rPr b="0" lang="ru-RU" sz="2400" spc="-1" strike="noStrike">
                <a:solidFill>
                  <a:srgbClr val="000000"/>
                </a:solidFill>
                <a:latin typeface="Arial"/>
              </a:rPr>
              <a:t> (с разными способами вовлечения эксперимента — для иллюстрации явления, создания особой задачной ситуации, для оценки корректности решения) в наибольшей степени способствуют развитию не только умений физического плана, но и навыков социализации, планирования результатов своего труда, формированию профессионально и социально значимых компетенций. </a:t>
            </a:r>
            <a:endParaRPr b="0" lang="en-US" sz="2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Arial"/>
              </a:rPr>
              <a:t>Логические (или качественные) задачи</a:t>
            </a:r>
            <a:r>
              <a:rPr b="0" lang="ru-RU" sz="2400" spc="-1" strike="noStrike">
                <a:solidFill>
                  <a:srgbClr val="000000"/>
                </a:solidFill>
                <a:latin typeface="Arial"/>
              </a:rPr>
              <a:t> особенно ценны для формирования, уточнения понятий, а также позволяют вовлечь в решение задач учеников, не слишком сильных в математике</a:t>
            </a:r>
            <a:endParaRPr b="0" lang="en-US" sz="2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60360" y="144360"/>
            <a:ext cx="9360000" cy="72327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Физика как учебный предмет обладает мощным развивающим потенциалом и оказывает глубокое влияние на все сферы развития: психофизическую, психосоциальную и когнитивную, т. е. способствует всестороннему развитию школьников.</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ff3366"/>
                </a:solidFill>
                <a:latin typeface="Arial"/>
              </a:rPr>
              <a:t>Основное направление развития мышления в школьном возрасте — переход от конкретно-образного к абстрактно-логическому мышлению.</a:t>
            </a:r>
            <a:r>
              <a:rPr b="1" lang="ru-RU" sz="2200" spc="-1" strike="noStrike">
                <a:solidFill>
                  <a:srgbClr val="000000"/>
                </a:solidFill>
                <a:latin typeface="Arial"/>
              </a:rPr>
              <a:t> </a:t>
            </a:r>
            <a:r>
              <a:rPr b="0" lang="ru-RU" sz="2200" spc="-1" strike="noStrike">
                <a:solidFill>
                  <a:srgbClr val="000000"/>
                </a:solidFill>
                <a:latin typeface="Arial"/>
              </a:rPr>
              <a:t>Мышление осуществляется при помощи последовательно усложняющихся мыслительных операций. </a:t>
            </a:r>
            <a:r>
              <a:rPr b="1" lang="ru-RU" sz="2200" spc="-1" strike="noStrike">
                <a:solidFill>
                  <a:srgbClr val="000000"/>
                </a:solidFill>
                <a:latin typeface="Arial"/>
              </a:rPr>
              <a:t>Необходимым условием для формирования абстрактно-логического мышления является овладение мыслительными операциями</a:t>
            </a:r>
            <a:r>
              <a:rPr b="0" lang="ru-RU" sz="2200" spc="-1" strike="noStrike">
                <a:solidFill>
                  <a:srgbClr val="000000"/>
                </a:solidFill>
                <a:latin typeface="Arial"/>
              </a:rPr>
              <a:t> (сравнение, анализ, синтез, индукция, дедукция, обобщение, классификация, систематизация и конкретизация и др.) </a:t>
            </a:r>
            <a:r>
              <a:rPr b="1" lang="ru-RU" sz="2200" spc="-1" strike="noStrike">
                <a:solidFill>
                  <a:srgbClr val="000000"/>
                </a:solidFill>
                <a:latin typeface="Arial"/>
              </a:rPr>
              <a:t>сначала на конкретном уровне</a:t>
            </a:r>
            <a:r>
              <a:rPr b="0" lang="ru-RU" sz="2200" spc="-1" strike="noStrike">
                <a:solidFill>
                  <a:srgbClr val="000000"/>
                </a:solidFill>
                <a:latin typeface="Arial"/>
              </a:rPr>
              <a:t> (каждая из этих операций, кроме двух последних, может выполняться в применении и к конкретным, и к абстрактным объектам). </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ff3366"/>
                </a:solidFill>
                <a:latin typeface="Arial"/>
              </a:rPr>
              <a:t>Последовательное и систематическое использование демонстрационного и фронтального эксперимента на уроках физики способствует эффективному развитию у учащихся конкретно-образного мышления и в дальнейшем восхождение к абстрактно-логическому мышлению.</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60360" y="144360"/>
            <a:ext cx="9575640" cy="716148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000" spc="-1" strike="noStrike">
                <a:solidFill>
                  <a:srgbClr val="000000"/>
                </a:solidFill>
                <a:latin typeface="Arial"/>
              </a:rPr>
              <a:t>В настоящее время ни у кого не вызывает сомнения, что мышление учащегося следует развивать с помощью обучения. Если учение происходит вслед за учителем, под его непосредственным руководством и контролируется по конечному результату, то тут нет самостоятельности мыслительной деятельности, это репродуктивное обучение. Если учение происходит с использованием полученной в готовом виде от учителя ориентировочной основы усваиваемого действия, то у учащихся наблюдается явный развивающий эффект. Если же учащимся удалось осуществлять обобщение не просто на основе общего в предметах, а научиться различать и оценивать внутренние строения и свойства объектов, то в этом случае достигается мощный эффект в развитии мышления.</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000" spc="-1" strike="noStrike">
                <a:solidFill>
                  <a:srgbClr val="000000"/>
                </a:solidFill>
                <a:latin typeface="Arial"/>
              </a:rPr>
              <a:t>Экспериментальные работы, лабораторный и логический практикум подготавливают учащихся к самостоятельным учебным и научным исследованиям. В старших классах исследовательская работа обогащается новыми, более сложными взаимосвязями между понятиями, усложняются и дифференцируются задачи исследования, привлекаются методы исследования из смежных с физикой наук, дополняются психологическими методами исследования и философскими обобщениями. </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000" spc="-1" strike="noStrike">
                <a:solidFill>
                  <a:srgbClr val="000000"/>
                </a:solidFill>
                <a:latin typeface="Arial"/>
              </a:rPr>
              <a:t>За выполнением экспериментально-исследовательских работ учащимися должен вестись контроль учителем, который одновременно стимулирует обучение учащихся. </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63640" y="503280"/>
            <a:ext cx="8928000" cy="414000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Arial"/>
              </a:rPr>
              <a:t>Для того, чтобы заинтересовать учащихся, рекомендуется им предложить занимательные опыты, которые повысят интерес к физике и будут способствовать ее лучшему усвоению. Возможно проведение вечеров занимательной физики, тематических и физических вечеров и других внеклассных мероприятий с проведением на них опытов.  Мыслительный процесс учащихся резко активизируется.</a:t>
            </a:r>
            <a:endParaRPr b="0" lang="en-US" sz="26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20720" y="216000"/>
            <a:ext cx="8928000" cy="6767280"/>
          </a:xfrm>
          <a:prstGeom prst="rect">
            <a:avLst/>
          </a:prstGeom>
          <a:noFill/>
          <a:ln w="0">
            <a:noFill/>
          </a:ln>
        </p:spPr>
        <p:style>
          <a:lnRef idx="0"/>
          <a:fillRef idx="0"/>
          <a:effectRef idx="0"/>
          <a:fontRef idx="minor"/>
        </p:style>
        <p:txBody>
          <a:bodyPr lIns="90000" rIns="90000" tIns="662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Arial"/>
              </a:rPr>
              <a:t>Работа с книгой</a:t>
            </a:r>
            <a:endParaRPr b="0" lang="en-US" sz="24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	</a:t>
            </a:r>
            <a:r>
              <a:rPr b="1" lang="ru-RU" sz="2000" spc="-1" strike="noStrike">
                <a:solidFill>
                  <a:srgbClr val="000000"/>
                </a:solidFill>
                <a:latin typeface="Arial"/>
              </a:rPr>
              <a:t>Формированию и совершенствованию операций анализа и синтеза   способствует работа с учебной литературой как источником новых знаний.</a:t>
            </a: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	</a:t>
            </a: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	</a:t>
            </a:r>
            <a:r>
              <a:rPr b="1" lang="ru-RU" sz="2000" spc="-1" strike="noStrike">
                <a:solidFill>
                  <a:srgbClr val="000000"/>
                </a:solidFill>
                <a:latin typeface="Arial"/>
              </a:rPr>
              <a:t>Формированию операций анализа и синтеза во многом способствует работа с книгой. При этом используются такие наиболее распространенные приемы: выделение главной мысли, смысловая группировка, составление плана, конспекта, тезисов, схем, графиков, диаграмм, формулировка выводов, чтение-поиск, чтение-сортировка, ответы на вопросы по тексту, формулировка вопросов по тексту.</a:t>
            </a: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	</a:t>
            </a: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	</a:t>
            </a:r>
            <a:r>
              <a:rPr b="1" lang="ru-RU" sz="2000" spc="-1" strike="noStrike">
                <a:solidFill>
                  <a:srgbClr val="000000"/>
                </a:solidFill>
                <a:latin typeface="Arial"/>
              </a:rPr>
              <a:t>При чтении книги важна установка на определенный характер работы: знакомство с содержанием или запоминание его, усвоение главных идей или выводов, выделение тех фактов, на основе которых строятся доказательства, изучение способов доказательства.</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92000" y="328680"/>
            <a:ext cx="9215640" cy="6146640"/>
          </a:xfrm>
          <a:prstGeom prst="rect">
            <a:avLst/>
          </a:prstGeom>
          <a:noFill/>
          <a:ln w="0">
            <a:noFill/>
          </a:ln>
        </p:spPr>
        <p:style>
          <a:lnRef idx="0"/>
          <a:fillRef idx="0"/>
          <a:effectRef idx="0"/>
          <a:fontRef idx="minor"/>
        </p:style>
        <p:txBody>
          <a:bodyPr lIns="90000" rIns="90000" tIns="662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Arial"/>
              </a:rPr>
              <a:t>При чтении текста следует придерживаться правил:</a:t>
            </a:r>
            <a:endParaRPr b="0" lang="en-US" sz="2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1. Необходимо читать весь текст полностью без пропусков, внимательно относиться к каждому слову, понятию, предложению, чертежу, графику, рисунку.</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2. Следует правильно понять текст, для этого нужно сосредоточиться на том, что читаешь и стараться понять смысл всех слов, терминов, выражений.</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3. Необходимо внимательно следить за логикой изложения, вникать в методы доказательства, объяснения или опровержения.</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4. Оценивать с необходимой объективностью содержание текста, выделять в нем самое главное и существенное.</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5. Определять основную идею текста и, кратко сформулировав ее, постараться запомнить.</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6. Устанавливать какие новые идеи, мысли, факты, методы доказательства содержит изучаемый текст.</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60360" y="431640"/>
            <a:ext cx="9431280" cy="600876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spcBef>
                <a:spcPts val="575"/>
              </a:spcBef>
              <a:spcAft>
                <a:spcPts val="575"/>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9408960"/>
                <a:tab algn="l" pos="9433080"/>
                <a:tab algn="l" pos="9882360"/>
                <a:tab algn="l" pos="10331280"/>
                <a:tab algn="l" pos="10780560"/>
                <a:tab algn="l" pos="10782360"/>
              </a:tabLst>
            </a:pPr>
            <a:r>
              <a:rPr b="1" lang="ru-RU" sz="2200" spc="-1" strike="noStrike">
                <a:solidFill>
                  <a:srgbClr val="000000"/>
                </a:solidFill>
                <a:latin typeface="Times New Roman"/>
              </a:rPr>
              <a:t>	</a:t>
            </a:r>
            <a:r>
              <a:rPr b="1" lang="ru-RU" sz="2400" spc="-1" strike="noStrike">
                <a:solidFill>
                  <a:srgbClr val="000000"/>
                </a:solidFill>
                <a:latin typeface="Times New Roman"/>
              </a:rPr>
              <a:t>Мышление – это сложный психический процесс познания действительности, в ходе которого в сознании человека формируются представления о свойствах, связях и отношениях между предметами и явлениями окружающего его мира. </a:t>
            </a:r>
            <a:endParaRPr b="0" lang="en-US" sz="2400" spc="-1" strike="noStrike">
              <a:solidFill>
                <a:srgbClr val="000000"/>
              </a:solidFill>
              <a:latin typeface="Arial"/>
            </a:endParaRPr>
          </a:p>
          <a:p>
            <a:pPr algn="just">
              <a:lnSpc>
                <a:spcPct val="100000"/>
              </a:lnSpc>
              <a:spcBef>
                <a:spcPts val="575"/>
              </a:spcBef>
              <a:spcAft>
                <a:spcPts val="575"/>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9408960"/>
                <a:tab algn="l" pos="9433080"/>
                <a:tab algn="l" pos="9882360"/>
                <a:tab algn="l" pos="10331280"/>
                <a:tab algn="l" pos="10780560"/>
                <a:tab algn="l" pos="10782360"/>
              </a:tabLst>
            </a:pPr>
            <a:r>
              <a:rPr b="1" lang="ru-RU" sz="2400" spc="-1" strike="noStrike">
                <a:solidFill>
                  <a:srgbClr val="000000"/>
                </a:solidFill>
                <a:latin typeface="Times New Roman"/>
              </a:rPr>
              <a:t>	</a:t>
            </a:r>
            <a:r>
              <a:rPr b="1" lang="ru-RU" sz="2400" spc="-1" strike="noStrike">
                <a:solidFill>
                  <a:srgbClr val="000000"/>
                </a:solidFill>
                <a:latin typeface="Times New Roman"/>
              </a:rPr>
              <a:t>Процесс мышления приводит к осознанию наиболее общих и значимых свойств явлений и предметов, а также позволяет установить существенные отношения и связи между ними. </a:t>
            </a:r>
            <a:endParaRPr b="0" lang="en-US" sz="2400" spc="-1" strike="noStrike">
              <a:solidFill>
                <a:srgbClr val="000000"/>
              </a:solidFill>
              <a:latin typeface="Arial"/>
            </a:endParaRPr>
          </a:p>
          <a:p>
            <a:pPr algn="just">
              <a:lnSpc>
                <a:spcPct val="100000"/>
              </a:lnSpc>
              <a:spcBef>
                <a:spcPts val="575"/>
              </a:spcBef>
              <a:spcAft>
                <a:spcPts val="575"/>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9408960"/>
                <a:tab algn="l" pos="9433080"/>
                <a:tab algn="l" pos="9882360"/>
                <a:tab algn="l" pos="10331280"/>
                <a:tab algn="l" pos="10780560"/>
                <a:tab algn="l" pos="10782360"/>
              </a:tabLst>
            </a:pPr>
            <a:r>
              <a:rPr b="1" lang="ru-RU" sz="2400" spc="-1" strike="noStrike">
                <a:solidFill>
                  <a:srgbClr val="000000"/>
                </a:solidFill>
                <a:latin typeface="Times New Roman"/>
              </a:rPr>
              <a:t>Для установления закономерности необходимо не только выявить связь между явлениями, но и убедиться, что эта связь является закономерной, т.е. общей и повторяющейся в разных ситуациях</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a:lnSpc>
                <a:spcPct val="100000"/>
              </a:lnSpc>
              <a:spcBef>
                <a:spcPts val="575"/>
              </a:spcBef>
              <a:spcAft>
                <a:spcPts val="575"/>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9408960"/>
                <a:tab algn="l" pos="9433080"/>
                <a:tab algn="l" pos="9882360"/>
                <a:tab algn="l" pos="10331280"/>
                <a:tab algn="l" pos="10780560"/>
                <a:tab algn="l" pos="10782360"/>
              </a:tabLst>
            </a:pPr>
            <a:r>
              <a:rPr b="1" lang="ru-RU" sz="2400" spc="-1" strike="noStrike">
                <a:solidFill>
                  <a:srgbClr val="000000"/>
                </a:solidFill>
                <a:latin typeface="Times New Roman"/>
                <a:ea typeface="Times New Roman"/>
              </a:rPr>
              <a:t>Мышление осуществляется посредством умственных действий, которые называют логическими мыслительными операциями. В психологии обычно выделяют такие операции как сравнение, анализ и синтез, абстрагирование, обобщение.</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44360" y="166680"/>
            <a:ext cx="9904680" cy="7459560"/>
          </a:xfrm>
          <a:prstGeom prst="rect">
            <a:avLst/>
          </a:prstGeom>
          <a:noFill/>
          <a:ln w="0">
            <a:noFill/>
          </a:ln>
        </p:spPr>
        <p:style>
          <a:lnRef idx="0"/>
          <a:fillRef idx="0"/>
          <a:effectRef idx="0"/>
          <a:fontRef idx="minor"/>
        </p:style>
        <p:txBody>
          <a:bodyPr lIns="90000" rIns="90000" tIns="680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600" spc="-1" strike="noStrike">
                <a:solidFill>
                  <a:srgbClr val="000000"/>
                </a:solidFill>
                <a:latin typeface="Arial"/>
              </a:rPr>
              <a:t>Составление плана</a:t>
            </a: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Для составления плана ученик выделяет главные мысли текста, делит его на смысловые части, находит связи между ними и дает им названия. Все это формирует у школьников мыслительные операции и методы использования анализа и синтеза. Полезно предлагать ребятам специальные задания по определению смысла читаемого текста: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Что является главным в статье? О чем говорится в данном абзаце?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Какая мысль заключена в данном отрывке? Какой заголовок можно дать данному отрывку? Какие логические связи можно выделить между отдельными частями данного текста?</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Чтобы научить школьников составлять план текста, </a:t>
            </a:r>
            <a:r>
              <a:rPr b="1" lang="ru-RU" sz="2200" spc="-1" strike="noStrike">
                <a:solidFill>
                  <a:srgbClr val="000000"/>
                </a:solidFill>
                <a:latin typeface="Arial"/>
              </a:rPr>
              <a:t>рекомендуется учителю  проводить следующую подготовительную работу</a:t>
            </a:r>
            <a:r>
              <a:rPr b="0" lang="ru-RU" sz="2200" spc="-1" strike="noStrike">
                <a:solidFill>
                  <a:srgbClr val="000000"/>
                </a:solidFill>
                <a:latin typeface="Arial"/>
              </a:rPr>
              <a:t>: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1) учитель делит текст на смысловые части, а ученики придумывают для них заголовки;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2) учитель называет пункты плана, а ученики подбирают к ним соответствующие части текста;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3) учитель называет число пунктов плана, а ученики формулируют их названия;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4) учитель предлагает заведомо несовершенный план текста и рекомендует ученикам улучшить его;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5) учитель предлагает составить план текста, а затем все учащиеся обсуждают различные варианты плана и определяют наиболее удачный из них.</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87280" y="287280"/>
            <a:ext cx="9806040" cy="7032600"/>
          </a:xfrm>
          <a:prstGeom prst="rect">
            <a:avLst/>
          </a:prstGeom>
          <a:noFill/>
          <a:ln w="0">
            <a:noFill/>
          </a:ln>
        </p:spPr>
        <p:style>
          <a:lnRef idx="0"/>
          <a:fillRef idx="0"/>
          <a:effectRef idx="0"/>
          <a:fontRef idx="minor"/>
        </p:style>
        <p:txBody>
          <a:bodyPr lIns="90000" rIns="90000" tIns="680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600" spc="-1" strike="noStrike">
                <a:solidFill>
                  <a:srgbClr val="000000"/>
                </a:solidFill>
                <a:latin typeface="Arial"/>
              </a:rPr>
              <a:t>Тезисы</a:t>
            </a:r>
            <a:endParaRPr b="0" lang="en-US" sz="26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600" spc="-1" strike="noStrike">
                <a:solidFill>
                  <a:srgbClr val="000000"/>
                </a:solidFill>
                <a:latin typeface="Arial"/>
              </a:rPr>
              <a:t>Составление тезисов требует умения проводить анализ и синтез текста. </a:t>
            </a:r>
            <a:r>
              <a:rPr b="0" lang="ru-RU" sz="2600" spc="-1" strike="noStrike">
                <a:solidFill>
                  <a:srgbClr val="000000"/>
                </a:solidFill>
                <a:latin typeface="Arial"/>
              </a:rPr>
              <a:t>Тезисы более детально, чем план, расчленяют текст и оформляются в виде кратких утверждений, которые доказываются при помощи рассуждений. Тезисы позволяют выявить основные идеи текста, четко сформулировать их в определенной системе. </a:t>
            </a:r>
            <a:endParaRPr b="0" lang="en-US" sz="26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600" spc="-1" strike="noStrike">
                <a:solidFill>
                  <a:srgbClr val="000000"/>
                </a:solidFill>
                <a:latin typeface="Arial"/>
              </a:rPr>
              <a:t>Для составления тезисов школьники разбивают текст на несколько частей, выявляют в них самое существенное, определяют суть и значение каждой части текста и формулируют четкие положения, утверждающие или опровергающие какие-либо высказывания, содержащиеся в тексте.</a:t>
            </a:r>
            <a:endParaRPr b="0" lang="en-US" sz="26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87280" y="287280"/>
            <a:ext cx="9806040" cy="7032600"/>
          </a:xfrm>
          <a:prstGeom prst="rect">
            <a:avLst/>
          </a:prstGeom>
          <a:noFill/>
          <a:ln w="0">
            <a:noFill/>
          </a:ln>
        </p:spPr>
        <p:style>
          <a:lnRef idx="0"/>
          <a:fillRef idx="0"/>
          <a:effectRef idx="0"/>
          <a:fontRef idx="minor"/>
        </p:style>
        <p:txBody>
          <a:bodyPr lIns="90000" rIns="90000" tIns="680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600" spc="-1" strike="noStrike">
                <a:solidFill>
                  <a:srgbClr val="000000"/>
                </a:solidFill>
                <a:latin typeface="Arial"/>
                <a:ea typeface="Times New Roman"/>
              </a:rPr>
              <a:t>Творческие задания</a:t>
            </a: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600" spc="-1" strike="noStrike">
                <a:solidFill>
                  <a:srgbClr val="000000"/>
                </a:solidFill>
                <a:latin typeface="Arial"/>
                <a:ea typeface="Times New Roman"/>
              </a:rPr>
              <a:t>     </a:t>
            </a:r>
            <a:r>
              <a:rPr b="0" lang="ru-RU" sz="2600" spc="-1" strike="noStrike">
                <a:solidFill>
                  <a:srgbClr val="000000"/>
                </a:solidFill>
                <a:latin typeface="Arial"/>
                <a:ea typeface="Times New Roman"/>
              </a:rPr>
              <a:t>Для формирования операций анализа и синтеза целесообразно предлагать учащимся такие творческие задания: </a:t>
            </a: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600" spc="-1" strike="noStrike">
                <a:solidFill>
                  <a:srgbClr val="000000"/>
                </a:solidFill>
                <a:latin typeface="Arial"/>
                <a:ea typeface="Times New Roman"/>
              </a:rPr>
              <a:t>1) провести анализ полученных общих закономерностей, рассмотрев возможные частные случаи; </a:t>
            </a: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600" spc="-1" strike="noStrike">
                <a:solidFill>
                  <a:srgbClr val="000000"/>
                </a:solidFill>
                <a:latin typeface="Arial"/>
                <a:ea typeface="Times New Roman"/>
              </a:rPr>
              <a:t>2) сформулировать условия, при которых наблюдается тот или иной случай; </a:t>
            </a: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600" spc="-1" strike="noStrike">
                <a:solidFill>
                  <a:srgbClr val="000000"/>
                </a:solidFill>
                <a:latin typeface="Arial"/>
                <a:ea typeface="Times New Roman"/>
              </a:rPr>
              <a:t>3) обосновать или опровергнуть определенное утверждение. </a:t>
            </a:r>
            <a:endParaRPr b="0" lang="en-US" sz="26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87280" y="576360"/>
            <a:ext cx="9748800" cy="6381720"/>
          </a:xfrm>
          <a:prstGeom prst="rect">
            <a:avLst/>
          </a:prstGeom>
          <a:noFill/>
          <a:ln w="0">
            <a:noFill/>
          </a:ln>
        </p:spPr>
        <p:style>
          <a:lnRef idx="0"/>
          <a:fillRef idx="0"/>
          <a:effectRef idx="0"/>
          <a:fontRef idx="minor"/>
        </p:style>
        <p:txBody>
          <a:bodyPr lIns="90000" rIns="90000" tIns="680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600" spc="-1" strike="noStrike">
                <a:solidFill>
                  <a:srgbClr val="000000"/>
                </a:solidFill>
                <a:latin typeface="Arial"/>
              </a:rPr>
              <a:t>Рефераты</a:t>
            </a:r>
            <a:endParaRPr b="0" lang="en-US" sz="26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200" spc="-1" strike="noStrike">
                <a:solidFill>
                  <a:srgbClr val="000000"/>
                </a:solidFill>
                <a:latin typeface="Arial"/>
              </a:rPr>
              <a:t>Операции анализа и синтеза успешно формируются у школьников при рецензировании ответов учащихся и при работе над рефератами по физике.</a:t>
            </a:r>
            <a:r>
              <a:rPr b="0" lang="ru-RU" sz="2200" spc="-1" strike="noStrike">
                <a:solidFill>
                  <a:srgbClr val="000000"/>
                </a:solidFill>
                <a:latin typeface="Arial"/>
              </a:rPr>
              <a:t> Учитель предлагает школьникам темы рефератов и знакомит учащихся с основными требованиями, которые нужно соблюдать при написании рефератов. </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Текст реферата должен быть написан аккуратно и разборчиво, объем реферата должен быть в пределах 7-10 страниц. Реферат должен иметь план и список литературы, содержащий 5-7 источников. В реферате нужно выделить значение рассматриваемой проблемы, необходимо рассмотреть историю развития данного вопроса, различные точки зрения на эту проблему. По содержанию реферата подготовить рисунки, схемы или таблицы, сформулировать несколько вопросов. В конце реферата сформулировать краткие выводы. Защиту реферата осуществлять в форме рассказа, а не читать текст реферата.</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31640" y="503280"/>
            <a:ext cx="9718920" cy="6819840"/>
          </a:xfrm>
          <a:prstGeom prst="rect">
            <a:avLst/>
          </a:prstGeom>
          <a:noFill/>
          <a:ln w="0">
            <a:noFill/>
          </a:ln>
        </p:spPr>
        <p:style>
          <a:lnRef idx="0"/>
          <a:fillRef idx="0"/>
          <a:effectRef idx="0"/>
          <a:fontRef idx="minor"/>
        </p:style>
        <p:txBody>
          <a:bodyPr lIns="90000" rIns="90000" tIns="680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600" spc="-1" strike="noStrike">
                <a:solidFill>
                  <a:srgbClr val="000000"/>
                </a:solidFill>
                <a:latin typeface="Arial"/>
              </a:rPr>
              <a:t>Работа с учебником</a:t>
            </a: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Школьники будут вынуждены осуществлять операции анализа и синтеза, если при работе с учебником им предлагаются такие задания:</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1) прочитать определенный параграф учебника и сформулировать вопросы по этому тексту;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2) сформулировать вопросы и записать краткие ответы на эти вопросы по тексту учебника;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3) составить план ответа по тексту учебника;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4) записать тезисы, которые наиболее полно раскрывают содержание учебного материала;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5) прочитать определенный материал в учебнике и раскрыть его содержание в рисунках;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6) прочитать текст учебника и оформить опорный конспект по этому материалу;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7) раскрыть содержание конкретного понятия, пользуясь обобщенным планом и текстом учебника.</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6360" y="71280"/>
            <a:ext cx="9647280" cy="7199640"/>
          </a:xfrm>
          <a:prstGeom prst="rect">
            <a:avLst/>
          </a:prstGeom>
          <a:noFill/>
          <a:ln w="0">
            <a:noFill/>
          </a:ln>
        </p:spPr>
        <p:style>
          <a:lnRef idx="0"/>
          <a:fillRef idx="0"/>
          <a:effectRef idx="0"/>
          <a:fontRef idx="minor"/>
        </p:style>
        <p:txBody>
          <a:bodyPr lIns="90000" rIns="90000" tIns="64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 </a:t>
            </a:r>
            <a:r>
              <a:rPr b="1" lang="ru-RU" sz="2600" spc="-1" strike="noStrike">
                <a:solidFill>
                  <a:srgbClr val="000000"/>
                </a:solidFill>
                <a:latin typeface="Arial"/>
              </a:rPr>
              <a:t>Решение задач</a:t>
            </a: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Большие возможности в использовании анализа и синтеза представляются учителю физики при решении задач. Возникает ряд вопросов и необходимых действий: </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Какое физическое явление описывается в задаче? Какие объекты представлены в условии задачи? Что о них известно и не содержит ли условие скрытых данных? Краткая запись условия задачи в той группировке, которая выявилась в ходе анал</a:t>
            </a:r>
            <a:r>
              <a:rPr b="0" lang="ru-RU" sz="1900" spc="-1" strike="noStrike">
                <a:solidFill>
                  <a:srgbClr val="000000"/>
                </a:solidFill>
                <a:latin typeface="Arial"/>
              </a:rPr>
              <a:t>иза. </a:t>
            </a:r>
            <a:endParaRPr b="0" lang="en-US" sz="19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Существуют несколько приемов поиска</a:t>
            </a:r>
            <a:r>
              <a:rPr b="1" lang="ru-RU" sz="1900" spc="-1" strike="noStrike">
                <a:solidFill>
                  <a:srgbClr val="000000"/>
                </a:solidFill>
                <a:latin typeface="Arial"/>
              </a:rPr>
              <a:t> принципа решения задач: аналитико-синтетический, алгоритмический, эвристический.</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ea typeface="Times New Roman"/>
              </a:rPr>
              <a:t>Ход рассуждений при аналитико-синтетическом приеме начинается с вопроса: </a:t>
            </a:r>
            <a:r>
              <a:rPr b="0" lang="ru-RU" sz="1900" spc="-1" strike="noStrike">
                <a:solidFill>
                  <a:srgbClr val="000000"/>
                </a:solidFill>
                <a:latin typeface="Arial"/>
              </a:rPr>
              <a:t>Что нужно знать, чтобы ответить на вопрос задачи? </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Каких данных не хватает, чтобы ответить на вопрос задачи? </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Как их мож</a:t>
            </a:r>
            <a:r>
              <a:rPr b="0" lang="ru-RU" sz="1900" spc="-1" strike="noStrike">
                <a:solidFill>
                  <a:srgbClr val="000000"/>
                </a:solidFill>
                <a:latin typeface="Arial"/>
              </a:rPr>
              <a:t>но определить? </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1900" spc="-1" strike="noStrike">
                <a:solidFill>
                  <a:srgbClr val="000000"/>
                </a:solidFill>
                <a:latin typeface="Arial"/>
              </a:rPr>
              <a:t>Решение задачи</a:t>
            </a:r>
            <a:r>
              <a:rPr b="0" lang="ru-RU" sz="1900" spc="-1" strike="noStrike">
                <a:solidFill>
                  <a:srgbClr val="000000"/>
                </a:solidFill>
                <a:latin typeface="Arial"/>
              </a:rPr>
              <a:t>. Решена ли задача? </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Если нет, то, каких данных не хватает, чтобы ответить на вопрос задачи? </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Какие данные имеются, чтобы определить эти неизвестные величины? </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После написания уравнения выразить все неизвестные величины через известные и вывести общую формулу для определения искомой величины, проверить ее по действиям с наименованиями физических величин, подставить данные и получить ответ. </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Можно ли решить задачу другим способом? </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Проанализировать ответ задачи: Правдоподобен ли полученный ответ? </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Как изменился бы количественный результат, если изменить конкретные данные, уменьшить или увеличить их от минимума до максимума? </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Как изменится ответ задачи, если изменить ее некоторые условия?</a:t>
            </a:r>
            <a:endParaRPr b="0" lang="en-US" sz="1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16000" y="144360"/>
            <a:ext cx="9720000" cy="7239240"/>
          </a:xfrm>
          <a:prstGeom prst="rect">
            <a:avLst/>
          </a:prstGeom>
          <a:noFill/>
          <a:ln w="0">
            <a:noFill/>
          </a:ln>
        </p:spPr>
        <p:style>
          <a:lnRef idx="0"/>
          <a:fillRef idx="0"/>
          <a:effectRef idx="0"/>
          <a:fontRef idx="minor"/>
        </p:style>
        <p:txBody>
          <a:bodyPr lIns="90000" rIns="90000" tIns="64440" bIns="4500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В некоторых темах решение задачи возможно лишь на основе </a:t>
            </a:r>
            <a:r>
              <a:rPr b="1" lang="ru-RU" sz="2200" spc="-1" strike="noStrike">
                <a:solidFill>
                  <a:srgbClr val="000000"/>
                </a:solidFill>
                <a:latin typeface="Arial"/>
              </a:rPr>
              <a:t>эвристического приема.</a:t>
            </a:r>
            <a:endParaRPr b="0" lang="en-US" sz="2200" spc="-1" strike="noStrike">
              <a:solidFill>
                <a:srgbClr val="000000"/>
              </a:solidFill>
              <a:latin typeface="Arial"/>
            </a:endParaRPr>
          </a:p>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При эвристическом приеме ученик, после проведения анализа условия задачи и его записи, пытается найти ответ на такие вопросы: что требуется определить в задаче? Продвигает ли нахождение этой величины к достижению цели? Если нет, то в чем причина неудачи? Если да, то какую следующую величину можно определить? И т.д.</a:t>
            </a:r>
            <a:endParaRPr b="0" lang="en-US" sz="2200" spc="-1" strike="noStrike">
              <a:solidFill>
                <a:srgbClr val="000000"/>
              </a:solidFill>
              <a:latin typeface="Arial"/>
            </a:endParaRPr>
          </a:p>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Каким бы приемом не решалась физическая задача, она требует от решающего активной мыслительной деятельности.</a:t>
            </a:r>
            <a:endParaRPr b="0" lang="en-US" sz="2200" spc="-1" strike="noStrike">
              <a:solidFill>
                <a:srgbClr val="000000"/>
              </a:solidFill>
              <a:latin typeface="Arial"/>
            </a:endParaRPr>
          </a:p>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Однако решение задач способствует развитию мышления школьников лишь в том случае, если каждый ученик решает задачу сам, прилагая для этого определенные усилия.</a:t>
            </a:r>
            <a:endParaRPr b="0" lang="en-US" sz="2200" spc="-1" strike="noStrike">
              <a:solidFill>
                <a:srgbClr val="000000"/>
              </a:solidFill>
              <a:latin typeface="Arial"/>
            </a:endParaRPr>
          </a:p>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С целью развития мышления полезно предлагать учащимся задания по самостоятельному составлению задач. Такие задания могут быть весьма разнообразными. </a:t>
            </a:r>
            <a:endParaRPr b="0" lang="en-US" sz="2200" spc="-1" strike="noStrike">
              <a:solidFill>
                <a:srgbClr val="000000"/>
              </a:solidFill>
              <a:latin typeface="Arial"/>
            </a:endParaRPr>
          </a:p>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Например: </a:t>
            </a:r>
            <a:endParaRPr b="0" lang="en-US" sz="2200" spc="-1" strike="noStrike">
              <a:solidFill>
                <a:srgbClr val="000000"/>
              </a:solidFill>
              <a:latin typeface="Arial"/>
            </a:endParaRPr>
          </a:p>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составьте задачу, обратную той, что решена; </a:t>
            </a:r>
            <a:endParaRPr b="0" lang="en-US" sz="2200" spc="-1" strike="noStrike">
              <a:solidFill>
                <a:srgbClr val="000000"/>
              </a:solidFill>
              <a:latin typeface="Arial"/>
            </a:endParaRPr>
          </a:p>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составьте задачу на такую-то формулу и т.д.</a:t>
            </a:r>
            <a:endParaRPr b="0" lang="en-US" sz="2200" spc="-1" strike="noStrike">
              <a:solidFill>
                <a:srgbClr val="000000"/>
              </a:solidFill>
              <a:latin typeface="Arial"/>
            </a:endParaRPr>
          </a:p>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31640" y="287280"/>
            <a:ext cx="9144000" cy="4767480"/>
          </a:xfrm>
          <a:prstGeom prst="rect">
            <a:avLst/>
          </a:prstGeom>
          <a:noFill/>
          <a:ln w="0">
            <a:noFill/>
          </a:ln>
        </p:spPr>
        <p:style>
          <a:lnRef idx="0"/>
          <a:fillRef idx="0"/>
          <a:effectRef idx="0"/>
          <a:fontRef idx="minor"/>
        </p:style>
        <p:txBody>
          <a:bodyPr lIns="90000" rIns="90000" tIns="644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Хороший результат для развития мышления дает решение таких физических задач, которые </a:t>
            </a:r>
            <a:r>
              <a:rPr b="1" lang="ru-RU" sz="2200" spc="-1" strike="noStrike">
                <a:solidFill>
                  <a:srgbClr val="000000"/>
                </a:solidFill>
                <a:latin typeface="Arial"/>
              </a:rPr>
              <a:t>вынуждают учащихся применять большинство формул по определенной теме</a:t>
            </a:r>
            <a:r>
              <a:rPr b="0" lang="ru-RU" sz="2200" spc="-1" strike="noStrike">
                <a:solidFill>
                  <a:srgbClr val="000000"/>
                </a:solidFill>
                <a:latin typeface="Arial"/>
              </a:rPr>
              <a:t>. </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Приведем пример такой задачи. </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В баллоне объемом 4 м</a:t>
            </a:r>
            <a:r>
              <a:rPr b="0" lang="ru-RU" sz="2200" spc="-1" strike="noStrike" baseline="33000">
                <a:solidFill>
                  <a:srgbClr val="000000"/>
                </a:solidFill>
                <a:latin typeface="Arial"/>
              </a:rPr>
              <a:t>3</a:t>
            </a:r>
            <a:r>
              <a:rPr b="0" lang="ru-RU" sz="2200" spc="-1" strike="noStrike">
                <a:solidFill>
                  <a:srgbClr val="000000"/>
                </a:solidFill>
                <a:latin typeface="Arial"/>
              </a:rPr>
              <a:t> и находится кислород массой 15 кг под давлением 0,4 МПа. Найти все, что можно.</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Анализируя эту задачу, приходим к выводу, что можно найти температуру газа, его плотность, число молекул, концентрацию молекул, кинетическую энергию одной молекулы, среднюю квадратичную скорость молекулы, внутреннюю энергию газа, массу одной молекулы кислорода, объем кислорода при нормальных условиях.</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31640" y="431640"/>
            <a:ext cx="9504360" cy="669924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9408960"/>
                <a:tab algn="l" pos="9433080"/>
                <a:tab algn="l" pos="9882360"/>
                <a:tab algn="l" pos="10331280"/>
                <a:tab algn="l" pos="10780560"/>
                <a:tab algn="l" pos="10782360"/>
              </a:tabLst>
            </a:pPr>
            <a:r>
              <a:rPr b="1" lang="ru-RU" sz="2400" spc="-1" strike="noStrike">
                <a:solidFill>
                  <a:srgbClr val="000000"/>
                </a:solidFill>
                <a:latin typeface="Arial"/>
              </a:rPr>
              <a:t>	</a:t>
            </a:r>
            <a:r>
              <a:rPr b="1" lang="ru-RU" sz="2400" spc="-1" strike="noStrike">
                <a:solidFill>
                  <a:srgbClr val="000000"/>
                </a:solidFill>
                <a:latin typeface="Arial"/>
              </a:rPr>
              <a:t>Через создание положительных эмоций, возникающих при встрече с интересным материалом по предмету, можно заложить основы широкой образованности, эрудированности. </a:t>
            </a:r>
            <a:endParaRPr b="0" lang="en-US" sz="2400" spc="-1" strike="noStrike">
              <a:solidFill>
                <a:srgbClr val="000000"/>
              </a:solidFill>
              <a:latin typeface="Arial"/>
            </a:endParaRPr>
          </a:p>
          <a:p>
            <a:pPr>
              <a:lnSpc>
                <a:spcPct val="93000"/>
              </a:lnSpc>
              <a:spcBef>
                <a:spcPts val="1199"/>
              </a:spcBef>
              <a:spcAft>
                <a:spcPts val="1001"/>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9408960"/>
                <a:tab algn="l" pos="9433080"/>
                <a:tab algn="l" pos="9882360"/>
                <a:tab algn="l" pos="10331280"/>
                <a:tab algn="l" pos="10780560"/>
                <a:tab algn="l" pos="10782360"/>
              </a:tabLst>
            </a:pPr>
            <a:r>
              <a:rPr b="1" lang="ru-RU" sz="2400" spc="-1" strike="noStrike">
                <a:solidFill>
                  <a:srgbClr val="000000"/>
                </a:solidFill>
                <a:latin typeface="Arial"/>
              </a:rPr>
              <a:t>	</a:t>
            </a:r>
            <a:r>
              <a:rPr b="1" lang="ru-RU" sz="2400" spc="-1" strike="noStrike">
                <a:solidFill>
                  <a:srgbClr val="000000"/>
                </a:solidFill>
                <a:latin typeface="Arial"/>
              </a:rPr>
              <a:t>Учебным материалом можно заинтересовать разными способами, например, ребусом, кроссвордом, пословицами и поговорками, красочной фотографией, интересным рассказом, историческим анекдотом, научным фокусом, загадками, видео- и аудиозаписями, компьютерными технологиями, схемами и т. д. </a:t>
            </a:r>
            <a:endParaRPr b="0" lang="en-US" sz="2400" spc="-1" strike="noStrike">
              <a:solidFill>
                <a:srgbClr val="000000"/>
              </a:solidFill>
              <a:latin typeface="Arial"/>
            </a:endParaRPr>
          </a:p>
          <a:p>
            <a:pPr>
              <a:lnSpc>
                <a:spcPct val="93000"/>
              </a:lnSpc>
              <a:spcBef>
                <a:spcPts val="1199"/>
              </a:spcBef>
              <a:spcAft>
                <a:spcPts val="1001"/>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9408960"/>
                <a:tab algn="l" pos="9433080"/>
                <a:tab algn="l" pos="9882360"/>
                <a:tab algn="l" pos="10331280"/>
                <a:tab algn="l" pos="10780560"/>
                <a:tab algn="l" pos="10782360"/>
              </a:tabLst>
            </a:pPr>
            <a:r>
              <a:rPr b="1" lang="ru-RU" sz="2400" spc="-1" strike="noStrike">
                <a:solidFill>
                  <a:srgbClr val="000000"/>
                </a:solidFill>
                <a:latin typeface="Arial"/>
              </a:rPr>
              <a:t>	</a:t>
            </a:r>
            <a:r>
              <a:rPr b="1" lang="ru-RU" sz="2400" spc="-1" strike="noStrike">
                <a:solidFill>
                  <a:srgbClr val="000000"/>
                </a:solidFill>
                <a:latin typeface="Arial"/>
              </a:rPr>
              <a:t>Новый учебный материал должен быть привлекательным для учащихся, но надо помнить, что «Делу - время, потехе - час» и, используя любые возможности для включения занимательности в учебный процесс, не следует весь урок делать сплошным развлечением. </a:t>
            </a:r>
            <a:endParaRPr b="0" lang="en-US" sz="2400" spc="-1" strike="noStrike">
              <a:solidFill>
                <a:srgbClr val="000000"/>
              </a:solidFill>
              <a:latin typeface="Arial"/>
            </a:endParaRPr>
          </a:p>
          <a:p>
            <a:pPr>
              <a:lnSpc>
                <a:spcPct val="93000"/>
              </a:lnSpc>
              <a:spcBef>
                <a:spcPts val="1199"/>
              </a:spcBef>
              <a:spcAft>
                <a:spcPts val="1001"/>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9560"/>
                <a:tab algn="l" pos="5837400"/>
                <a:tab algn="l" pos="6286680"/>
                <a:tab algn="l" pos="6735600"/>
                <a:tab algn="l" pos="7184880"/>
                <a:tab algn="l" pos="7634160"/>
                <a:tab algn="l" pos="8083440"/>
                <a:tab algn="l" pos="8532720"/>
                <a:tab algn="l" pos="8982000"/>
                <a:tab algn="l" pos="9408960"/>
                <a:tab algn="l" pos="9433080"/>
                <a:tab algn="l" pos="9882360"/>
                <a:tab algn="l" pos="10331280"/>
                <a:tab algn="l" pos="10780560"/>
                <a:tab algn="l" pos="1078236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31640" y="0"/>
            <a:ext cx="9288720" cy="10231560"/>
          </a:xfrm>
          <a:prstGeom prst="rect">
            <a:avLst/>
          </a:prstGeom>
          <a:noFill/>
          <a:ln w="0">
            <a:noFill/>
          </a:ln>
        </p:spPr>
        <p:style>
          <a:lnRef idx="0"/>
          <a:fillRef idx="0"/>
          <a:effectRef idx="0"/>
          <a:fontRef idx="minor"/>
        </p:style>
        <p:txBody>
          <a:bodyPr lIns="90000" rIns="90000" tIns="680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000000"/>
                </a:solidFill>
                <a:latin typeface="Arial"/>
              </a:rPr>
              <a:t>Занимательность</a:t>
            </a:r>
            <a:endParaRPr b="0" lang="en-US" sz="26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Ва</a:t>
            </a:r>
            <a:r>
              <a:rPr b="0" lang="ru-RU" sz="2000" spc="-1" strike="noStrike">
                <a:solidFill>
                  <a:srgbClr val="000000"/>
                </a:solidFill>
                <a:latin typeface="Arial"/>
              </a:rPr>
              <a:t>жно, чтобы всем ученикам на каждом уроке физики было интересно. Тогда у многих из них первоначальная заинтересованность предметом перерастет в глубокий и стойкий интерес к физике.</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Используя свойства предметов и явлений, следует вызывать у учащихся чувство удивления, обострять их внимание и, воздействуя на эмоции учеников, способствовать созданию у них положительного настроя к учению и готовности к активной мыслительной деятельности независимо от их знаний, способностей и интересов. </a:t>
            </a:r>
            <a:endParaRPr b="0" lang="en-US" sz="2000" spc="-1" strike="noStrike">
              <a:solidFill>
                <a:srgbClr val="000000"/>
              </a:solidFill>
              <a:latin typeface="Arial"/>
            </a:endParaRPr>
          </a:p>
          <a:p>
            <a:pPr>
              <a:lnSpc>
                <a:spcPct val="93000"/>
              </a:lnSpc>
              <a:spcAft>
                <a:spcPts val="57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Место занимательности на уроке может быть различным. </a:t>
            </a:r>
            <a:r>
              <a:rPr b="0" lang="ru-RU" sz="2000" spc="-1" strike="noStrike">
                <a:solidFill>
                  <a:srgbClr val="000000"/>
                </a:solidFill>
                <a:latin typeface="Arial"/>
                <a:ea typeface="AR PL KaitiM GB"/>
              </a:rPr>
              <a:t>Обычно занимательность  связана  с  элементами  неожиданности,  в ней привлекает новизна материала. Поэтому уместно  использовать  занимательность при создании проблемной ситуации: проведении  занимательных  опытов,  сообщении  учащимся фактов,  поражающих  своей  неожиданностью,   странностью, несоответствием прежним представлениям.</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ea typeface="Times New Roman"/>
              </a:rPr>
              <a:t>Занимательность  может  быть  использована   при   объяснении   нового материала. Здесь ее применение неоднозначно. Учитель прибегает к ней  как  к своеобразной разрядке для учащихся при объяснении  большого  по  объему  или трудного материала.</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Занимательность может служить  эмоциональной  основой  для  восприятия наиболее трудных вопросов изучаемого материала.</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03280" y="71280"/>
            <a:ext cx="9360000" cy="73630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Aft>
                <a:spcPts val="8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000000"/>
                </a:solidFill>
                <a:latin typeface="Arial"/>
              </a:rPr>
              <a:t>Виды мыслительных операций.</a:t>
            </a: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3366"/>
                </a:solidFill>
                <a:latin typeface="Arial"/>
              </a:rPr>
              <a:t>Сравнение</a:t>
            </a:r>
            <a:r>
              <a:rPr b="1" lang="ru-RU" sz="2400" spc="-1" strike="noStrike">
                <a:solidFill>
                  <a:srgbClr val="c90016"/>
                </a:solidFill>
                <a:latin typeface="Arial"/>
              </a:rPr>
              <a:t> </a:t>
            </a:r>
            <a:r>
              <a:rPr b="1" lang="ru-RU" sz="2400" spc="-1" strike="noStrike">
                <a:solidFill>
                  <a:srgbClr val="000000"/>
                </a:solidFill>
                <a:latin typeface="Arial"/>
              </a:rPr>
              <a:t>— это логическая операция установления общих и различающихся свойств нескольких разнородных объектов при их сопоставлении друг с другом. </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3366"/>
                </a:solidFill>
                <a:latin typeface="Arial"/>
              </a:rPr>
              <a:t>Анализ</a:t>
            </a:r>
            <a:r>
              <a:rPr b="1" lang="ru-RU" sz="2400" spc="-1" strike="noStrike">
                <a:solidFill>
                  <a:srgbClr val="000000"/>
                </a:solidFill>
                <a:latin typeface="Arial"/>
              </a:rPr>
              <a:t> — это логическая операция разделения объекта на отдельные части, элементы, из которых он состоит, а также нахождения связей, существующих между этими частями, для определения внутренней структуры, строения сложного объекта.</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3366"/>
                </a:solidFill>
                <a:latin typeface="Arial"/>
              </a:rPr>
              <a:t>Синтез</a:t>
            </a:r>
            <a:r>
              <a:rPr b="1" lang="ru-RU" sz="2400" spc="-1" strike="noStrike">
                <a:solidFill>
                  <a:srgbClr val="000000"/>
                </a:solidFill>
                <a:latin typeface="Arial"/>
              </a:rPr>
              <a:t> — это логическая операция объединения частей или элементов объекта в единое целое для того, чтобы определить, как устроено сложное целое, чем оно отличается от элементов, из которых состоит.</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3366"/>
                </a:solidFill>
                <a:latin typeface="Arial"/>
              </a:rPr>
              <a:t>Абстрагирование</a:t>
            </a:r>
            <a:r>
              <a:rPr b="1" lang="ru-RU" sz="2400" spc="-1" strike="noStrike">
                <a:solidFill>
                  <a:srgbClr val="000000"/>
                </a:solidFill>
                <a:latin typeface="Arial"/>
              </a:rPr>
              <a:t> — это логическая операция выделения существенных в определенной задаче признаков объекта и отвлечения от других, не важных в условиях данной задачи, признаков.</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3366"/>
                </a:solidFill>
                <a:latin typeface="Arial"/>
              </a:rPr>
              <a:t>Обобщение </a:t>
            </a:r>
            <a:r>
              <a:rPr b="1" lang="ru-RU" sz="2400" spc="-1" strike="noStrike">
                <a:solidFill>
                  <a:srgbClr val="000000"/>
                </a:solidFill>
                <a:latin typeface="Arial"/>
              </a:rPr>
              <a:t>— это мыслительная операция объединения объектов и явлений по их общим признакам.</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87280" y="287280"/>
            <a:ext cx="9576000" cy="6997680"/>
          </a:xfrm>
          <a:prstGeom prst="rect">
            <a:avLst/>
          </a:prstGeom>
          <a:noFill/>
          <a:ln w="0">
            <a:noFill/>
          </a:ln>
        </p:spPr>
        <p:style>
          <a:lnRef idx="0"/>
          <a:fillRef idx="0"/>
          <a:effectRef idx="0"/>
          <a:fontRef idx="minor"/>
        </p:style>
        <p:txBody>
          <a:bodyPr lIns="90000" rIns="90000" tIns="680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600" spc="-1" strike="noStrike">
                <a:solidFill>
                  <a:srgbClr val="000000"/>
                </a:solidFill>
                <a:latin typeface="Arial"/>
              </a:rPr>
              <a:t>Занимательность</a:t>
            </a: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Требования к занимательному материалу, чтобы его использование на уроках дало прочный обучающий эффект:</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1. Занимательный материал должен привлекать внимание учеников постановк</a:t>
            </a:r>
            <a:r>
              <a:rPr b="0" lang="ru-RU" sz="1900" spc="-1" strike="noStrike">
                <a:solidFill>
                  <a:srgbClr val="000000"/>
                </a:solidFill>
                <a:latin typeface="Arial"/>
              </a:rPr>
              <a:t>ой вопроса и направлять мысль на поиск ответа. Он должен требовать напряженной деятельности воображения в сочетании с умением использовать полученные знания.</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2. Занимательный материал должен быть не развлекательной иллюстрацией к уроку,  а вызывать познавательную активность учащихся, помогать им выяснять причинно-следственные связи между явлениями. В противном случае занимательность не приведет к развитию у школьников устойчивых познавательных интересов. Поэтому, привлекая на уроке занимательный материал, учителю следует ставить перед учениками вопросы: ”Как?”, ”Почему?”, ”Отчего?”.</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3. Занимательный материал должен соответствовать возрастным особенностям учащихся, уровню их интеллектуального развития.</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4. Желательно, чтобы дополнительный материал, выбираемый учителем для урока, соответствовал увлечениям учеников. Это позволяет учителю формировать интерес к физике через уже имеющийся интерес к другому предмету и помогает сделать увлекательными повторительно-обобщающие уроки, на которых ученикам приводят примеры использования физических законов в интересующей их областях.</a:t>
            </a:r>
            <a:endParaRPr b="0" lang="en-US" sz="19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900" spc="-1" strike="noStrike">
                <a:solidFill>
                  <a:srgbClr val="000000"/>
                </a:solidFill>
                <a:latin typeface="Arial"/>
              </a:rPr>
              <a:t>5. Занимательный материал на уроке должен не требовать большой затраты времени, быть ярким, эмоциональным моментом урока. Целесообразнее привести на уроке один, два наиболее характерных примера, чем перечислить несколько эффективных, но малозначащих фактов.</a:t>
            </a:r>
            <a:endParaRPr b="0" lang="en-US" sz="1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36720" y="141120"/>
            <a:ext cx="9144000" cy="76597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И</a:t>
            </a:r>
            <a:r>
              <a:rPr b="1" lang="ru-RU" sz="2000" spc="-1" strike="noStrike">
                <a:solidFill>
                  <a:srgbClr val="000000"/>
                </a:solidFill>
                <a:latin typeface="Arial"/>
              </a:rPr>
              <a:t>нтерес у учащихся вызывает задание «Найди лишний термин»:</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Барометр, динамометр, миллиметр, амперметр.</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Манометр, насос воздушный, микрофон, давление.</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Термометр, объем, гигрометр психрометрический, магнит. </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Пресс гидравлический, термос, градус, шар Паскаля.</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Спидометр, джоуль, вольтметр, сосуды сообщающиеся.</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Сантиметр, ангстрем, микрон, микроскоп.</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Сила, ньютон, время, масса.</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Масса, давление, плотность, паскаль.</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Ускорение, вес, сила, масса.</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Плотность, давление, масса, вес.</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Миллиметр, часы, спидометр, барометр.</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Секундомер, лупа, диоптрия, линза.</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89080" y="431640"/>
            <a:ext cx="9791640" cy="7332840"/>
          </a:xfrm>
          <a:prstGeom prst="rect">
            <a:avLst/>
          </a:prstGeom>
          <a:noFill/>
          <a:ln w="0">
            <a:noFill/>
          </a:ln>
        </p:spPr>
        <p:style>
          <a:lnRef idx="0"/>
          <a:fillRef idx="0"/>
          <a:effectRef idx="0"/>
          <a:fontRef idx="minor"/>
        </p:style>
        <p:txBody>
          <a:bodyPr lIns="90000" rIns="90000" tIns="644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Ребусы»</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Ученики любят разгадывать ребусы, например, о физических величинах. </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Ответ: теплоемкость</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333333"/>
                </a:solidFill>
                <a:latin typeface="Arial"/>
                <a:ea typeface="Times New Roman"/>
              </a:rPr>
              <a:t>Ответ: градусы</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p:txBody>
      </p:sp>
      <p:pic>
        <p:nvPicPr>
          <p:cNvPr id="75" name="" descr=""/>
          <p:cNvPicPr/>
          <p:nvPr/>
        </p:nvPicPr>
        <p:blipFill>
          <a:blip r:embed="rId1"/>
          <a:stretch/>
        </p:blipFill>
        <p:spPr>
          <a:xfrm>
            <a:off x="2232000" y="1871640"/>
            <a:ext cx="5256360" cy="1944720"/>
          </a:xfrm>
          <a:prstGeom prst="rect">
            <a:avLst/>
          </a:prstGeom>
          <a:ln w="0">
            <a:noFill/>
          </a:ln>
        </p:spPr>
      </p:pic>
      <p:pic>
        <p:nvPicPr>
          <p:cNvPr id="76" name="" descr=""/>
          <p:cNvPicPr/>
          <p:nvPr/>
        </p:nvPicPr>
        <p:blipFill>
          <a:blip r:embed="rId2"/>
          <a:stretch/>
        </p:blipFill>
        <p:spPr>
          <a:xfrm>
            <a:off x="3306600" y="4967280"/>
            <a:ext cx="4397400" cy="2016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60360" y="293760"/>
            <a:ext cx="9504360" cy="7014960"/>
          </a:xfrm>
          <a:prstGeom prst="rect">
            <a:avLst/>
          </a:prstGeom>
          <a:noFill/>
          <a:ln w="0">
            <a:noFill/>
          </a:ln>
        </p:spPr>
        <p:style>
          <a:lnRef idx="0"/>
          <a:fillRef idx="0"/>
          <a:effectRef idx="0"/>
          <a:fontRef idx="minor"/>
        </p:style>
        <p:txBody>
          <a:bodyPr lIns="90000" rIns="90000" tIns="64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200" spc="-1" strike="noStrike">
                <a:solidFill>
                  <a:srgbClr val="000000"/>
                </a:solidFill>
                <a:latin typeface="Arial"/>
              </a:rPr>
              <a:t>"Объясни примету"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Человеку всегда нужно знать, какая будет погода, поскольку она влияет на самочувствие и деятельность. Наблюдая погоду, люди отмечали характерные признаки, предваряющие те или иные изменения погоды. Так появились многочисленные приметы - свидетели народной наблюдательности, сметливости и мудрости. " Погодные" приметы разнообразные. Одни подмечают поведение людей и животных, другие связаны с физическими явлениями, третьи с религиозными.</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Ученикам надо объяснить проявление физических явлений в данной примете:</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Соль мокнет - к дождю"</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Табак сыреет- к сырой погоде</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Если звёзды блестят ярко - к стуже"</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Мало звёзд на небе - к ненастью"</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Кольцо вокруг солнца- к ненастью"</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Солнце красно заходит- к ветру"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Обильная роса- к хорошей погоде"</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Осенний иней к сухой и солнечной погоде"</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 Туман утром стелется по воде - к хорошей погоде"</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 Ясный Млечный Путь - летом к вёдру"</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Если в поле далеко раздаётся голос, то будет дождь"</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Какой пень, какая колода, такая погода"</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31640" y="144360"/>
            <a:ext cx="9504360" cy="6912000"/>
          </a:xfrm>
          <a:prstGeom prst="rect">
            <a:avLst/>
          </a:prstGeom>
          <a:noFill/>
          <a:ln w="0">
            <a:noFill/>
          </a:ln>
        </p:spPr>
        <p:style>
          <a:lnRef idx="0"/>
          <a:fillRef idx="0"/>
          <a:effectRef idx="0"/>
          <a:fontRef idx="minor"/>
        </p:style>
        <p:txBody>
          <a:bodyPr lIns="90000" rIns="90000" tIns="662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rPr>
              <a:t>Загадки о физических явлениях и технических объектах.</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Нужно обратить внимание учащихся на то, что загадки часто содержат лишь намёки на загадываемое явление или предмет, и нужно проявить сообразительность, чтобы в образном, иносказательном описании узнать знакомое явление. Некоторые загадки носят шутливый характер, и не следует относиться к ним слишком серьёзно. Необходимо не только отгадать загадку но и ответить на следующие вопросы: </a:t>
            </a:r>
            <a:endParaRPr b="0" lang="en-US" sz="2200" spc="-1" strike="noStrike">
              <a:solidFill>
                <a:srgbClr val="000000"/>
              </a:solidFill>
              <a:latin typeface="Arial"/>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Какое физическое явление (объект) отражено в загадке?</a:t>
            </a:r>
            <a:endParaRPr b="0" lang="en-US" sz="2200" spc="-1" strike="noStrike">
              <a:solidFill>
                <a:srgbClr val="000000"/>
              </a:solidFill>
              <a:latin typeface="Arial"/>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Какие свойства загадываемого явления, объекта отражены в загадке а какие нет?</a:t>
            </a:r>
            <a:endParaRPr b="0" lang="en-US" sz="2200" spc="-1" strike="noStrike">
              <a:solidFill>
                <a:srgbClr val="000000"/>
              </a:solidFill>
              <a:latin typeface="Arial"/>
            </a:endParaRPr>
          </a:p>
          <a:p>
            <a:pPr>
              <a:lnSpc>
                <a:spcPct val="8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С каким явлением или объектом сравниваем загадываемое?</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Я под мышкой посижу</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И что делать укажу</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Или разрешу гулять</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Или уложу в кровать</a:t>
            </a:r>
            <a:r>
              <a:rPr b="0" i="1" lang="ru-RU" sz="1600" spc="-1" strike="noStrike">
                <a:solidFill>
                  <a:srgbClr val="000000"/>
                </a:solidFill>
                <a:latin typeface="Arial"/>
              </a:rPr>
              <a:t> (термометр)</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Через нос проходит в грудь</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И обратный держит путь</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Он не видимый и всё же</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Без него мы жить не можем. </a:t>
            </a:r>
            <a:r>
              <a:rPr b="0" i="1" lang="ru-RU" sz="1600" spc="-1" strike="noStrike">
                <a:solidFill>
                  <a:srgbClr val="000000"/>
                </a:solidFill>
                <a:latin typeface="Arial"/>
              </a:rPr>
              <a:t>(воздух)</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Летит - молчит,</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Лежит - молчит,</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Когда умрёт, тогда заревёт. </a:t>
            </a:r>
            <a:r>
              <a:rPr b="0" i="1" lang="ru-RU" sz="1600" spc="-1" strike="noStrike">
                <a:solidFill>
                  <a:srgbClr val="000000"/>
                </a:solidFill>
                <a:latin typeface="Arial"/>
              </a:rPr>
              <a:t>(снег)</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Две сестры качались,</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Правды добивались.</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А когда добились, то остановились. </a:t>
            </a:r>
            <a:r>
              <a:rPr b="0" i="1" lang="ru-RU" sz="1600" spc="-1" strike="noStrike">
                <a:solidFill>
                  <a:srgbClr val="000000"/>
                </a:solidFill>
                <a:latin typeface="Arial"/>
              </a:rPr>
              <a:t>(весы)</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Всем поведает хоть без языка</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Когда будет ясно, а когда облака. </a:t>
            </a:r>
            <a:r>
              <a:rPr b="0" i="1" lang="ru-RU" sz="1600" spc="-1" strike="noStrike">
                <a:solidFill>
                  <a:srgbClr val="000000"/>
                </a:solidFill>
                <a:latin typeface="Arial"/>
              </a:rPr>
              <a:t>(барометр)</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60360" y="71280"/>
            <a:ext cx="9575640" cy="790128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Пословица является малой формой народного поэтического творчества. Это краткое, ритмизованное изречение, поучение, несет в себе обобщённую мысль или вывод, иносказание с дидактическим уклоном. </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Следует предложить учащимся самим подобрать пословицы и поговорки, касающиеся тепловых явлений и молекулярной физики. Во время поиска подходящих пословиц активизируются мыслительные процессы, пословицы настолько интересны и глубокомысленны, что вызовут яркие ассоциации и запомнятся. </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Учащиеся вслух читают пословицы или поговорки и анализируют их по плану: </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О каком физическом явлении, понятии или законе идет речь в пословице или поговорке?</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В чем заключается физический смысл пословицы или поговорки?</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Соответствует ли житейский смысл пословицы или поговорки её физической сути? Верна ли пословица с точки зрения физики </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200" spc="-1" strike="noStrike">
                <a:solidFill>
                  <a:srgbClr val="000000"/>
                </a:solidFill>
                <a:latin typeface="Arial"/>
              </a:rPr>
              <a:t>Верна ли пословица или поговорка с точки зрения физики? </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60360" y="144360"/>
            <a:ext cx="9720360" cy="74883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1600" spc="-1" strike="noStrike">
                <a:solidFill>
                  <a:srgbClr val="000000"/>
                </a:solidFill>
                <a:latin typeface="Arial"/>
              </a:rPr>
              <a:t>Пословицы. Молекулярная физика и тепловые явления. Молекулярное строение вещества.</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Ложка дегтя и бочку меда испортит.(русская) "Ложка дёгтя в бочке мёда" - 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Нарезанный лук сильнее пахнет.(мальгашская) "</a:t>
            </a:r>
            <a:r>
              <a:rPr b="0" lang="ru-RU" sz="1300" spc="-1" strike="noStrike">
                <a:solidFill>
                  <a:srgbClr val="000000"/>
                </a:solidFill>
                <a:latin typeface="Arial"/>
              </a:rPr>
              <a:t>Нарезанный лук пахнет и жжёт глаза сильнее" -монгольская</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Тухлое яйцо портит всю кашу.(немец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Дружба, как стекло: разобьешь – не сложишь.(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На мешке с солью и веревка соленая.(корей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Рыбной лавке вывеска не нужна.(япо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Золотые цветы не пахнут.(тами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Капля яду ведро молока портит(тами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Запах мускуса не скроешь.(персид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Волка нюх кормит.(узбек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Подо льдом тёплой воды не бывает" - осети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Туман рассеивается - волку не по душе" - монг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Готовь сено пока солнце сияет" - англий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Металл хорошо отлит если долго кипит" -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У воды гибкая спина" – фи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Зло и добро, как вода и масло: они не могут смешаться" - монг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1600" spc="-1" strike="noStrike">
                <a:solidFill>
                  <a:srgbClr val="000000"/>
                </a:solidFill>
                <a:latin typeface="Arial"/>
              </a:rPr>
              <a:t>Теплота и работа. Тепловые явления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Вода в чайнике кипит, а ручка у него холодная. (монг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Снег – одеяло для пшеницы. (китай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Много снега - много хлеба" 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Быстро нагреется – быстро остынет. (япо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Ловко Степка печку склал: труба высокая, а дым в дом тянет. (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Одним факелом моря не нагреть.(индий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Работающей мельнице некогда замерзать.(япо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Как не горяча вода, она не спалит дома.(кре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При солнышке тепло, при матери добро.(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Чем огонь просить, лучше его высечь.(япо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Солнце греет сильнее. Когда нет облаков.(монг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Гвоздём моря не нагреешь" – 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Солнце греет сильнее, когда нет облаков" – монг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Три года на камне просидишь - камень нагреется" - японская</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60360" y="144360"/>
            <a:ext cx="9720360" cy="74883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1600" spc="-1" strike="noStrike">
                <a:solidFill>
                  <a:srgbClr val="000000"/>
                </a:solidFill>
                <a:latin typeface="Arial"/>
              </a:rPr>
              <a:t>Пословицы. Молекулярная физика и тепловые явления. Молекулярное строение вещества.</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Ложка дегтя и бочку меда испортит.(русская) "Ложка дёгтя в бочке мёда" - 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Нарезанный лук сильнее пахнет.(мальгашская) "</a:t>
            </a:r>
            <a:r>
              <a:rPr b="0" lang="ru-RU" sz="1300" spc="-1" strike="noStrike">
                <a:solidFill>
                  <a:srgbClr val="000000"/>
                </a:solidFill>
                <a:latin typeface="Arial"/>
              </a:rPr>
              <a:t>Нарезанный лук пахнет и жжёт глаза сильнее" -монгольская</a:t>
            </a:r>
            <a:endParaRPr b="0" lang="en-US" sz="13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Тухлое яйцо портит всю кашу.(немец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Дружба, как стекло: разобьешь – не сложишь.(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На мешке с солью и веревка соленая.(корей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Рыбной лавке вывеска не нужна.(япо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Золотые цветы не пахнут.(тами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Капля яду ведро молока портит(тами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Запах мускуса не скроешь.(персид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Волка нюх кормит.(узбек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Подо льдом тёплой воды не бывает" - осети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Туман рассеивается - волку не по душе" - монг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Готовь сено пока солнце сияет" - англий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Металл хорошо отлит если долго кипит" -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У воды гибкая спина" – фи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Зло и добро, как вода и масло: они не могут смешаться" - монг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1600" spc="-1" strike="noStrike">
                <a:solidFill>
                  <a:srgbClr val="000000"/>
                </a:solidFill>
                <a:latin typeface="Arial"/>
              </a:rPr>
              <a:t>Теплота и работа. Тепловые явления </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Вода в чайнике кипит, а ручка у него холодная. (монг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Снег – одеяло для пшеницы. (китай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Много снега - много хлеба" 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Быстро нагреется – быстро остынет. (япо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Ловко Степка печку склал: труба высокая, а дым в дом тянет. (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Одним факелом моря не нагреть.(индий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Работающей мельнице некогда замерзать.(япо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Как не горяча вода, она не спалит дома.(кре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При солнышке тепло, при матери добро.(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Чем огонь просить, лучше его высечь.(япон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Солнце греет сильнее. Когда нет облаков.(монг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Гвоздём моря не нагреешь" – рус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Солнце греет сильнее, когда нет облаков" – монгольская</a:t>
            </a:r>
            <a:endParaRPr b="0" lang="en-US" sz="1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600" spc="-1" strike="noStrike">
                <a:solidFill>
                  <a:srgbClr val="000000"/>
                </a:solidFill>
                <a:latin typeface="Arial"/>
              </a:rPr>
              <a:t>"Три года на камне просидишь - камень нагреется" - японская</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7320" y="503280"/>
            <a:ext cx="9878760" cy="59911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600" spc="-1" strike="noStrike">
                <a:solidFill>
                  <a:srgbClr val="000000"/>
                </a:solidFill>
                <a:latin typeface="Arial"/>
              </a:rPr>
              <a:t>Использование художественной литературы на уроках физики очень помогает повысить интерес учащихся к изучаемому предмету. Информация о физических явлениях становится более доходчивой, особенно для гуманитариев, если предложить учащимся проиллюстрировать отрывком из какого-либо литературного произведения явления природы или конкретные физические явления и законы физики. При этом обогащается образное мышление учащихся. </a:t>
            </a:r>
            <a:endParaRPr b="0" lang="en-US" sz="2600" spc="-1" strike="noStrike">
              <a:solidFill>
                <a:srgbClr val="000000"/>
              </a:solidFill>
              <a:latin typeface="Arial"/>
            </a:endParaRPr>
          </a:p>
          <a:p>
            <a:pPr algn="just">
              <a:lnSpc>
                <a:spcPct val="13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ru-RU" sz="2000" spc="-1" strike="noStrike">
                <a:solidFill>
                  <a:srgbClr val="000000"/>
                </a:solidFill>
                <a:latin typeface="Arial"/>
              </a:rPr>
              <a:t>Омар Хайям. Рубаи.</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Прощалась капля с морем -- вся в слезах! </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Смеялось вольно Море -- все в лучах! </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Взлетай на небо, упадай на землю, -</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Конец один: опять -- в моих волнах". </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Вопрос: О каком физическом явлении идет речь в рубаи? </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Ответ: Испарение, парообразование, конденсация.</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31640" y="360360"/>
            <a:ext cx="9431640" cy="6908760"/>
          </a:xfrm>
          <a:prstGeom prst="rect">
            <a:avLst/>
          </a:prstGeom>
          <a:noFill/>
          <a:ln w="0">
            <a:noFill/>
          </a:ln>
        </p:spPr>
        <p:style>
          <a:lnRef idx="0"/>
          <a:fillRef idx="0"/>
          <a:effectRef idx="0"/>
          <a:fontRef idx="minor"/>
        </p:style>
        <p:txBody>
          <a:bodyPr lIns="90000" rIns="90000" tIns="62640" bIns="45000" anchor="t">
            <a:noAutofit/>
          </a:bodyPr>
          <a:p>
            <a:pPr>
              <a:lnSpc>
                <a:spcPct val="100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ea typeface="Times New Roman"/>
              </a:rPr>
              <a:t>Основной способ формирования продуктивного мышления у учащихся состоит в том, чтобы включить школьников в различные виды творческой деятельности. </a:t>
            </a:r>
            <a:r>
              <a:rPr b="1" lang="ru-RU" sz="2400" spc="-1" strike="noStrike">
                <a:solidFill>
                  <a:srgbClr val="000000"/>
                </a:solidFill>
                <a:latin typeface="Arial"/>
              </a:rPr>
              <a:t>Изыскать возможности для формирования и совершенствования операций анализа и синтеза можно при работе с любым учебным материалом. </a:t>
            </a:r>
            <a:endParaRPr b="0" lang="en-US" sz="2400" spc="-1" strike="noStrike">
              <a:solidFill>
                <a:srgbClr val="000000"/>
              </a:solidFill>
              <a:latin typeface="Arial"/>
            </a:endParaRPr>
          </a:p>
          <a:p>
            <a:pPr>
              <a:lnSpc>
                <a:spcPct val="100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rPr>
              <a:t>Чтобы обучить анализу и синтезу школьников, им необходимо предлагать такие задания: разложить объекты на составные части, выделить существенные стороны объекта, изучить каждую часть объекта в отдельности как элемент целого, соединить части объекта в единое целое. </a:t>
            </a:r>
            <a:endParaRPr b="0" lang="en-US" sz="24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rPr>
              <a:t>Учащиеся на уроках устанавливают причинно-следственные связи.  Переходят от следствий к причинами и наоборот. </a:t>
            </a:r>
            <a:endParaRPr b="0" lang="en-US" sz="2400" spc="-1" strike="noStrike">
              <a:solidFill>
                <a:srgbClr val="000000"/>
              </a:solidFill>
              <a:latin typeface="Arial"/>
            </a:endParaRPr>
          </a:p>
          <a:p>
            <a:pPr>
              <a:lnSpc>
                <a:spcPct val="100000"/>
              </a:lnSpc>
              <a:spcBef>
                <a:spcPts val="286"/>
              </a:spcBef>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rPr>
              <a:t>Таким образом, можно сделать вывод о том, что анализ и синтез способствуют развитию творческого мышления учащихся.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008000" y="360360"/>
            <a:ext cx="8496360" cy="6551640"/>
          </a:xfrm>
          <a:prstGeom prst="rect">
            <a:avLst/>
          </a:prstGeom>
          <a:ln w="0">
            <a:noFill/>
          </a:ln>
        </p:spPr>
      </p:pic>
      <p:sp>
        <p:nvSpPr>
          <p:cNvPr id="46" name=""/>
          <p:cNvSpPr/>
          <p:nvPr/>
        </p:nvSpPr>
        <p:spPr>
          <a:xfrm>
            <a:off x="2448000" y="6912000"/>
            <a:ext cx="5400720" cy="7920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Виды мыслительных операций</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02920" y="1768320"/>
            <a:ext cx="8862840" cy="4378320"/>
          </a:xfrm>
          <a:prstGeom prst="rect">
            <a:avLst/>
          </a:prstGeom>
          <a:noFill/>
          <a:ln w="0">
            <a:noFill/>
          </a:ln>
        </p:spPr>
        <p:txBody>
          <a:bodyPr lIns="0" rIns="0" tIns="28080" bIns="0" anchor="t">
            <a:normAutofit/>
          </a:bodyPr>
          <a:p>
            <a:pPr marL="343080" indent="0" algn="ctr">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400" spc="-1" strike="noStrike">
              <a:solidFill>
                <a:srgbClr val="000000"/>
              </a:solidFill>
              <a:latin typeface="Arial"/>
            </a:endParaRPr>
          </a:p>
          <a:p>
            <a:pPr marL="343080" indent="0" algn="ctr">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5400" spc="-1" strike="noStrike">
                <a:solidFill>
                  <a:srgbClr val="000000"/>
                </a:solidFill>
                <a:latin typeface="Arial"/>
              </a:rPr>
              <a:t>Спасибо за внимание!</a:t>
            </a:r>
            <a:endParaRPr b="0" lang="en-US" sz="5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60360" y="576360"/>
            <a:ext cx="9288360" cy="6933960"/>
          </a:xfrm>
          <a:prstGeom prst="rect">
            <a:avLst/>
          </a:prstGeom>
          <a:noFill/>
          <a:ln w="0">
            <a:noFill/>
          </a:ln>
        </p:spPr>
        <p:style>
          <a:lnRef idx="0"/>
          <a:fillRef idx="0"/>
          <a:effectRef idx="0"/>
          <a:fontRef idx="minor"/>
        </p:style>
        <p:txBody>
          <a:bodyPr lIns="90000" rIns="90000" tIns="644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ff0000"/>
                </a:solidFill>
                <a:latin typeface="Arial"/>
              </a:rPr>
              <a:t>Анализ</a:t>
            </a:r>
            <a:r>
              <a:rPr b="0" lang="ru-RU" sz="2200" spc="-1" strike="noStrike">
                <a:solidFill>
                  <a:srgbClr val="000000"/>
                </a:solidFill>
                <a:latin typeface="Arial"/>
              </a:rPr>
              <a:t> - это мысленное расчленение предмета, явления, ситуации  с целью выявления составляющих его элементов, частей, моментов, сторон. Расчленение целого на составные части позволяет выделить строение исследуемого объекта, его структуру; расчленение сложного явления на более простые элементы позволяет отделить существенное от несущественного, сложное свести к простому. Анализ развивающегося процесса позволяет выделить в нем различные этапы и противоречивые тенденции. В процессе аналитической деятельности мысль движется от сложного к простому, от случайного к необходимому, от многообразия к тождеству и единству.</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Анализ – это мысленное расчленение предмета или явления на образующие его части, выделение в нем отдельных частей, признаков и свойств. </a:t>
            </a:r>
            <a:endParaRPr b="0" lang="en-US" sz="2200" spc="-1" strike="noStrike">
              <a:solidFill>
                <a:srgbClr val="000000"/>
              </a:solidFill>
              <a:latin typeface="Arial"/>
            </a:endParaRPr>
          </a:p>
          <a:p>
            <a:pPr>
              <a:lnSpc>
                <a:spcPct val="9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Можно выделить следующие виды анализа:</a:t>
            </a:r>
            <a:endParaRPr b="0" lang="en-US" sz="2200" spc="-1" strike="noStrike">
              <a:solidFill>
                <a:srgbClr val="000000"/>
              </a:solidFill>
              <a:latin typeface="Arial"/>
            </a:endParaRPr>
          </a:p>
          <a:p>
            <a:pPr>
              <a:lnSpc>
                <a:spcPct val="9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 Расчленение целого на части;</a:t>
            </a:r>
            <a:endParaRPr b="0" lang="en-US" sz="2200" spc="-1" strike="noStrike">
              <a:solidFill>
                <a:srgbClr val="000000"/>
              </a:solidFill>
              <a:latin typeface="Arial"/>
            </a:endParaRPr>
          </a:p>
          <a:p>
            <a:pPr>
              <a:lnSpc>
                <a:spcPct val="9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 Переход от конкретного к абстрактному;</a:t>
            </a:r>
            <a:endParaRPr b="0" lang="en-US" sz="2200" spc="-1" strike="noStrike">
              <a:solidFill>
                <a:srgbClr val="000000"/>
              </a:solidFill>
              <a:latin typeface="Arial"/>
            </a:endParaRPr>
          </a:p>
          <a:p>
            <a:pPr>
              <a:lnSpc>
                <a:spcPct val="9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 Переход от следствий к причинам.</a:t>
            </a:r>
            <a:endParaRPr b="0" lang="en-US" sz="2200" spc="-1" strike="noStrike">
              <a:solidFill>
                <a:srgbClr val="000000"/>
              </a:solidFill>
              <a:latin typeface="Arial"/>
            </a:endParaRPr>
          </a:p>
          <a:p>
            <a:pPr>
              <a:lnSpc>
                <a:spcPct val="9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47640" y="720720"/>
            <a:ext cx="9144000" cy="5967360"/>
          </a:xfrm>
          <a:prstGeom prst="rect">
            <a:avLst/>
          </a:prstGeom>
          <a:noFill/>
          <a:ln w="0">
            <a:noFill/>
          </a:ln>
        </p:spPr>
        <p:style>
          <a:lnRef idx="0"/>
          <a:fillRef idx="0"/>
          <a:effectRef idx="0"/>
          <a:fontRef idx="minor"/>
        </p:style>
        <p:txBody>
          <a:bodyPr lIns="90000" rIns="90000" tIns="644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ff0000"/>
                </a:solidFill>
                <a:latin typeface="Arial"/>
              </a:rPr>
              <a:t>Синтез </a:t>
            </a:r>
            <a:r>
              <a:rPr b="0" lang="ru-RU" sz="2200" spc="-1" strike="noStrike">
                <a:solidFill>
                  <a:srgbClr val="000000"/>
                </a:solidFill>
                <a:latin typeface="Arial"/>
              </a:rPr>
              <a:t>- это мысленное восстановление расчлененного анализом целого, при котором вскрываются существенные связи и отношения, выделенных анализом элементов. Синтез - это процесс объединения в единое целое частей, свойств, отношений предметов и явлений. Идя от тождественного, существенного к различию и многообразию, синтез соединяет общее и единичное, единство и многообразие в живое конкретное целое. Синтез дополняет анализ и находится с ним в неразрывном единстве.</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Синтез – это мысленное соединение отдельных элементов, частей и признаков в единое целое.</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Можно выделить следующие виды синтеза:</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 Элементарный синтез – составление целого из его частей;</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 Обобщенный синтез – переход от абстрактного к конкретному путем обобщения общих признаков;</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 Синтез, устанавливающий связь причин и следствий.</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60360" y="360360"/>
            <a:ext cx="9431280" cy="728352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000" spc="-1" strike="noStrike">
                <a:solidFill>
                  <a:srgbClr val="000000"/>
                </a:solidFill>
                <a:latin typeface="Times New Roman"/>
              </a:rPr>
              <a:t>Задача анализа заключается не только в разложении предмета на составные части, но и в глубоком проникновении в его части. Анализ как бы “очищает” объект от некоторых несущественных факторов, представляет его в идеализированном виде, позволяет проникнуть в сущность, здесь он проявляется как абстрагирование. Синтез, наоборот, восстанавливает нарушенное анализом единство объекта, объединяет его разрозненные части во всей сложности и многогранности их отношений и связей, здесь он проявляется как обобщение. Задача синтеза заключается не только в объединении частей предмета или явления, но и в установлении характера изменения их в зависимости от тех факторов, которые были отброшены при анализе.</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Times New Roman"/>
              </a:rPr>
              <a:t>Эти мыслительные операции органически связаны с практической деятельностью человека в познании объективного мира. </a:t>
            </a:r>
            <a:endParaRPr b="0" lang="en-US" sz="20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Times New Roman"/>
                <a:ea typeface="Times New Roman"/>
              </a:rPr>
              <a:t>Анализ и синтез тесно связаны с абстрагированием, обобщением, систематизацией и классификацией. </a:t>
            </a:r>
            <a:r>
              <a:rPr b="1" lang="ru-RU" sz="2000" spc="-1" strike="noStrike">
                <a:solidFill>
                  <a:srgbClr val="000000"/>
                </a:solidFill>
                <a:latin typeface="Times New Roman"/>
                <a:ea typeface="Times New Roman"/>
              </a:rPr>
              <a:t>В процессе анализа и синтеза мысль от более или менее расплывчатого представления о предмете движется к понятию, в котором анализом выделены основные элементы, а синтезом раскрыты существенные признаки понятия, связи и отношения с другими понятиями. Умелое использование анализа и синтеза характеризует системность знаний человека, его умение разворачивать и сворачивать определенную информацию.</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87280" y="71280"/>
            <a:ext cx="9720360" cy="71996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Aft>
                <a:spcPts val="85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600" spc="-1" strike="noStrike">
                <a:solidFill>
                  <a:srgbClr val="000000"/>
                </a:solidFill>
                <a:latin typeface="Arial"/>
              </a:rPr>
              <a:t>Мыслительные операции.</a:t>
            </a:r>
            <a:endParaRPr b="0" lang="en-US" sz="26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000" spc="-1" strike="noStrike">
                <a:solidFill>
                  <a:srgbClr val="000000"/>
                </a:solidFill>
                <a:latin typeface="Arial"/>
              </a:rPr>
              <a:t>	</a:t>
            </a:r>
            <a:r>
              <a:rPr b="1" lang="ru-RU" sz="2400" spc="-1" strike="noStrike">
                <a:solidFill>
                  <a:srgbClr val="000000"/>
                </a:solidFill>
                <a:latin typeface="Arial"/>
              </a:rPr>
              <a:t>Обычно в процессе мышления человека задействовано несколько мыслительных операций, оно не ограничивается одной логической операцией. </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rPr>
              <a:t>Например, операции сравнения, анализа и синтеза обычно неразрывно связаны, дополняют друг друга и помогают преобразовать информацию для нахождения решения некоторой задачи.</a:t>
            </a: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В условиях развивающего обучения значительное место отводится формированию у обучаемых таких мыслительных операция как: </a:t>
            </a: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сравнение и сопоставление, </a:t>
            </a: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анализ и синтез, </a:t>
            </a: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индукция и дедукция, </a:t>
            </a: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систематизация, </a:t>
            </a: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обобщение, </a:t>
            </a: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классификация, </a:t>
            </a: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абстрагирование и конкретизация, </a:t>
            </a: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доказательство и опровержение, </a:t>
            </a:r>
            <a:endParaRPr b="0" lang="en-US" sz="24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	</a:t>
            </a:r>
            <a:r>
              <a:rPr b="1" lang="ru-RU" sz="2400" spc="-1" strike="noStrike">
                <a:solidFill>
                  <a:srgbClr val="000000"/>
                </a:solidFill>
                <a:latin typeface="Arial"/>
                <a:ea typeface="Times New Roman"/>
              </a:rPr>
              <a:t>определение и объяснение понятий.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88960" y="720720"/>
            <a:ext cx="8967960" cy="58658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Анализ и синтез можно осуществлять на различных уровнях</a:t>
            </a:r>
            <a:r>
              <a:rPr b="0" lang="ru-RU" sz="2200" spc="-1" strike="noStrike">
                <a:solidFill>
                  <a:srgbClr val="000000"/>
                </a:solidFill>
                <a:latin typeface="Arial"/>
              </a:rPr>
              <a:t>: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при усвоении понятий,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явлений,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приборов,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законов,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теорий, </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физической картины мира.</a:t>
            </a:r>
            <a:endParaRPr b="0" lang="en-US" sz="22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ea typeface="Times New Roman"/>
              </a:rPr>
              <a:t>Значительно возрастает роль анализа и синтеза при изучении физической картины мира. В этом случае необходимо рассмотреть: </a:t>
            </a:r>
            <a:endParaRPr b="0" lang="en-US" sz="22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ea typeface="Times New Roman"/>
              </a:rPr>
              <a:t>исходные философские идеи, </a:t>
            </a:r>
            <a:endParaRPr b="0" lang="en-US" sz="22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ea typeface="Times New Roman"/>
              </a:rPr>
              <a:t>основные принципы, </a:t>
            </a:r>
            <a:endParaRPr b="0" lang="en-US" sz="22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ea typeface="Times New Roman"/>
              </a:rPr>
              <a:t>основные физические теории, </a:t>
            </a:r>
            <a:endParaRPr b="0" lang="en-US" sz="22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ea typeface="Times New Roman"/>
              </a:rPr>
              <a:t>основные законы и понятия, </a:t>
            </a:r>
            <a:endParaRPr b="0" lang="en-US" sz="22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ea typeface="Times New Roman"/>
              </a:rPr>
              <a:t>основной способ описания, </a:t>
            </a:r>
            <a:endParaRPr b="0" lang="en-US" sz="2200" spc="-1" strike="noStrike">
              <a:solidFill>
                <a:srgbClr val="000000"/>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ea typeface="Times New Roman"/>
              </a:rPr>
              <a:t>преимущества и недостатки каждой физической картины мира.</a:t>
            </a:r>
            <a:endParaRPr b="0" lang="en-US" sz="22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9T17:51:25Z</dcterms:created>
  <dc:creator>tanya </dc:creator>
  <dc:description/>
  <dc:language>en-US</dc:language>
  <cp:lastModifiedBy>tanya </cp:lastModifiedBy>
  <dcterms:modified xsi:type="dcterms:W3CDTF">2015-12-09T20:36:06Z</dcterms:modified>
  <cp:revision>7</cp:revision>
  <dc:subject/>
  <dc:title/>
</cp:coreProperties>
</file>