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E9B-7FD4-4A4E-80A0-BCFE020C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F4F-43E7-4F6C-98FF-006EA9A4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4B3-7BD7-4B7D-A704-DF3BD0F6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3EC-36FA-433C-A416-2AFE57DD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6E51-2B56-4270-B7A7-B277E5A9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49C2-DE53-4D53-BCFA-8936C629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F0C6-CA03-4EBE-BC96-D1CFDEC9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5EE6-2B21-48CA-911E-D47D641D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561B-2C3B-4EC8-9383-C08F67E3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0A11-CA42-46F7-9439-C927B7DE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1023-B5B6-4CFE-880D-E30D6177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F7C-CFC8-4F18-8D3C-5461C426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AEE7-822B-484B-9DA0-78F3B9E1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9573-8FF7-4437-9CB4-CB029DE7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F4D7-36BD-47EE-8A9E-80A5BDAE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4A83-7B75-4660-AB5F-2C5188C2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6D23-9C33-49F1-942A-D6F92D25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70549-A701-4E5A-974C-216B33B1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80B01-CA32-4BB8-BBD5-EB4D607E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FCD0A-B648-4735-818A-3A0FEC86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9ED86-3F83-4789-9CC3-EDA6181E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01F1C-7EAA-4DBD-B518-02756E96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E83-6307-4419-831C-9E456B5C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E9733-904F-4387-B6C8-B9B3C879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0224C-E2AD-4B29-89CC-376E73A9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A6B1F-606D-46BF-82CC-361200A2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97F54-8BE4-4539-9049-3E252486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0391B-1FBB-4140-98CE-01B0B41E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CEFDD-0942-48A5-B006-FEFCA27C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B9359-DDF1-4CB0-AFF3-933D428E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6A084-8E50-48FB-939B-4B05248C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2B0A3-9E75-489F-83DD-99FE7ED3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87E64-7052-4314-AA69-BEF1A75C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7DF-2427-44E7-89CC-70BB8943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16650-E00A-4DB5-9217-5612B55A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34B08-AD44-47F1-9033-FD3E1E03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C8DC9-3093-4B25-B6B9-4A0943DB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47485-9DC3-4E98-BCAF-FDC3432F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3EAF7-68E5-494E-BB3F-80E85233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42EEA-5712-46FE-9D56-93038260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48BFC-DD39-43A3-90A5-782C6994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FA635-7212-44B0-8D2F-BEC11CD4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EED74-4618-4846-9684-312D84C5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9778C-3871-40A5-BF6D-5EAA1722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AAB-BFEC-42E2-9D45-65037F0B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4232B-5812-4359-9799-2F052F43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123E07-402F-4D75-9DCB-706D8987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8D101-558D-4CA3-AF6F-0B7583F9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4EC7B-68F6-4A2C-A86D-9B81C383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F6944-D8C4-4B1A-8FAE-1C8794AB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2BE742-CA0A-4152-8CD0-E72913DC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EB4F8-AE26-448E-A59A-3591B9A1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4B851-3D9F-4E66-9882-E2508389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8FC79-385B-45EA-AE4E-2059BE5C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CE08D-A5ED-4EC2-ADE7-2FF8CCF9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0D0-FE94-4C32-83C0-224C0BAD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7928F-F8CA-47BC-9D33-DA185EF5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7ADAD2-9D98-4831-A456-97C8325A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B97A21-D4CB-4B19-B99B-37F32561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22A85-89AF-47ED-8888-C5D5372D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364184-4FBC-4300-A6AC-97817CFB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2B0BA5-B8D6-4EDF-968B-41A00F95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6C8F1-8381-4216-9D75-2345CA93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C892F-DF60-4CCE-993C-F044F03E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668A3-13F0-4417-B7C3-F8DF3BC2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8D9B3-202B-4810-ADB7-7EDD883E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EDE-B790-49D4-BBB9-ACC3184C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7A1500-30D0-4F24-BFD0-417948D1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CCA7B-A136-4036-90C0-194716EC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13004-597C-4E49-9C1A-B35B5197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A1A572-E5C4-4FC7-9B33-4A9E93E2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0D19F9-6D77-46EF-852F-F953B703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9504C5-EDC5-49A1-B589-81185BB5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BA5DE-F540-41BD-8A2D-A5E6C805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968A4-569C-4D39-8A2F-9F5F55FE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6F16C-24CA-4DDE-B705-F44397AF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AE3618-D549-411D-A708-94915E02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96D-9280-421C-B152-BEAB1A90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23BEA-C866-4C7D-90C8-8F46B60F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E60237-6758-4BD9-861E-32441F07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52E66F-F59B-4B24-BE25-63073367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EE8DF-66EB-487A-B7B0-0E40424B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9CDD3-A733-4951-97BC-3D814553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C462-BDE3-4DD5-A338-148903AB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7FC6-AFD5-483C-AFB0-7D28138C407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FE88-240E-48B4-A2EE-E49C142B8C2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E65E-6339-4924-B2C9-5C45854FD27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9449-DF07-4B79-8CA1-604A78FA19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C0DA-ADAB-494B-82BF-CDE6056BA18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A9CF-45CF-4E47-8FE7-0D19C33ACC2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678E-6C65-48CB-9BF5-795D5619B3F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85880" y="142884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14240" y="92844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75f6d"/>
                </a:solidFill>
                <a:latin typeface="Century Schoolbook"/>
              </a:rPr>
              <a:t>Bajo el sol Andaluz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2428920" y="2143080"/>
            <a:ext cx="6143760" cy="414360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2700360" y="4869000"/>
            <a:ext cx="572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c3036"/>
                </a:solidFill>
                <a:latin typeface="Book Antiqua"/>
              </a:rPr>
              <a:t>Выполнила : Мамай Е.Н. МАОУ СОШ № 18 с УИ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5f6d"/>
                </a:solidFill>
                <a:latin typeface="Century Schoolbook"/>
              </a:rPr>
              <a:t>EL TRABALENGUAS </a:t>
            </a:r>
            <a:br>
              <a:rPr sz="2900"/>
            </a:b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71320" y="2071800"/>
            <a:ext cx="74674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Yo sólo sé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una cosa</a:t>
            </a: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a saber sólo sé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que no sé nada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Century Schoolbook"/>
              </a:rPr>
              <a:t>EL TIEMPO EN OTOÑO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42960" y="1357200"/>
            <a:ext cx="77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lovioso – дождлив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l otoño lluvioso – дождливa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н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 lluvia menuda – мелкий дождь 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lueve a cántaros – дождь льёт как из ведр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stá para llover – собирается дождь 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s hojas se vuelven amarillas – листья желтею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ída de la hoja, el deshoje – листопа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s heladas – замороз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l cielo cubierto nublado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– облачная погод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56760" y="285480"/>
            <a:ext cx="8572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l  traje de baño                       utilizamos para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nadar en mar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as gafas de sol                        protege la cabeza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a crema protectora                  las zapatos de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verano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l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olchón de aire              utilizamos este traje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ara bañarse en mar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as chancletas                        protege la piel  de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rayos de sol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a panama                              las gafas para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oteger los ojos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de sol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0" name="Прямая со стрелкой 3"/>
          <p:cNvCxnSpPr/>
          <p:nvPr/>
        </p:nvCxnSpPr>
        <p:spPr>
          <a:xfrm>
            <a:off x="3500280" y="714240"/>
            <a:ext cx="1572480" cy="25012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1" name="Прямая со стрелкой 5"/>
          <p:cNvCxnSpPr/>
          <p:nvPr/>
        </p:nvCxnSpPr>
        <p:spPr>
          <a:xfrm>
            <a:off x="4071960" y="2428560"/>
            <a:ext cx="1357920" cy="207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2" name="Прямая со стрелкой 7"/>
          <p:cNvCxnSpPr/>
          <p:nvPr/>
        </p:nvCxnSpPr>
        <p:spPr>
          <a:xfrm flipV="1">
            <a:off x="3570840" y="571320"/>
            <a:ext cx="2143800" cy="27151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3" name="Прямая со стрелкой 9"/>
          <p:cNvCxnSpPr/>
          <p:nvPr/>
        </p:nvCxnSpPr>
        <p:spPr>
          <a:xfrm>
            <a:off x="3214800" y="1571760"/>
            <a:ext cx="2286720" cy="3643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4" name="Прямая со стрелкой 11"/>
          <p:cNvCxnSpPr/>
          <p:nvPr/>
        </p:nvCxnSpPr>
        <p:spPr>
          <a:xfrm flipV="1">
            <a:off x="3285720" y="2142360"/>
            <a:ext cx="2500920" cy="21438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5" name="Прямая со стрелкой 13"/>
          <p:cNvCxnSpPr/>
          <p:nvPr/>
        </p:nvCxnSpPr>
        <p:spPr>
          <a:xfrm flipV="1">
            <a:off x="2714760" y="1642320"/>
            <a:ext cx="2929680" cy="3715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75f6d"/>
                </a:solidFill>
                <a:latin typeface="Century Schoolbook"/>
              </a:rPr>
              <a:t>EL  EJEMPLO DE  DIALOGO 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- Qué te parece, qué es más necesario para las vacaciones en La Costa del Sol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- Me parece que ……  es necesario para las vacaciones porque…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Прямоугольник 4"/>
          <p:cNvSpPr/>
          <p:nvPr/>
        </p:nvSpPr>
        <p:spPr>
          <a:xfrm rot="10800000">
            <a:off x="785520" y="762840"/>
            <a:ext cx="50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C:\Users\uzer\Downloads\th503 2.preview.jpg"/>
          <p:cNvPicPr/>
          <p:nvPr/>
        </p:nvPicPr>
        <p:blipFill>
          <a:blip r:embed="rId1"/>
          <a:stretch/>
        </p:blipFill>
        <p:spPr>
          <a:xfrm>
            <a:off x="5429160" y="1000080"/>
            <a:ext cx="3354480" cy="25178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71880" y="285840"/>
            <a:ext cx="29001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LOJA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71320" y="1071720"/>
            <a:ext cx="450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¿Tiene habitaciones libres?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Necesito un cuart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Necesito el cuarto doble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Una habitación, con la vista al ma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¿Cuánto cuesta esto por el día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Voy a estar por dos días (un mes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¿Necesiata mi pasaporte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¿Hay algo más barato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¿Puedo pagar con tarjeta de crédito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3" descr="C:\Users\uzer\Downloads\th503 4.preview.jpg"/>
          <p:cNvPicPr/>
          <p:nvPr/>
        </p:nvPicPr>
        <p:blipFill>
          <a:blip r:embed="rId2"/>
          <a:stretch/>
        </p:blipFill>
        <p:spPr>
          <a:xfrm>
            <a:off x="5429160" y="3786120"/>
            <a:ext cx="334188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1320" y="1285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LA TAREA DE CASA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28760" y="3142800"/>
            <a:ext cx="81439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1. Aprender de memoria  las palabras nuevas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2. Inventar  el reclamo del hotel en el sur de Españ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Рисунок 4" descr="D:\Мои документы\картинки\Мои рисунки\28.jpg"/>
          <p:cNvPicPr/>
          <p:nvPr/>
        </p:nvPicPr>
        <p:blipFill>
          <a:blip r:embed="rId1"/>
          <a:stretch/>
        </p:blipFill>
        <p:spPr>
          <a:xfrm>
            <a:off x="5929200" y="1071720"/>
            <a:ext cx="2500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501040" cy="62863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457200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¡</a:t>
            </a:r>
            <a:r>
              <a:rPr b="1" i="1" lang="en-US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GRACIAS POR VUESTRO </a:t>
            </a:r>
            <a:br>
              <a:rPr sz="5400"/>
            </a:br>
            <a:r>
              <a:rPr b="1" i="1" lang="en-US" sz="5400" spc="-1" strike="noStrike">
                <a:solidFill>
                  <a:srgbClr val="9a3d01"/>
                </a:solidFill>
                <a:latin typeface="Times New Roman"/>
                <a:ea typeface="Times New Roman"/>
              </a:rPr>
              <a:t>TRABAJO!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5:13:10Z</dcterms:created>
  <dc:creator>uzer</dc:creator>
  <dc:description/>
  <dc:language>en-US</dc:language>
  <cp:lastModifiedBy>Евгения</cp:lastModifiedBy>
  <dcterms:modified xsi:type="dcterms:W3CDTF">2016-11-24T19:46:05Z</dcterms:modified>
  <cp:revision>46</cp:revision>
  <dc:subject/>
  <dc:title>Yo sólo sé una cosa a saber sólo sé que no sé nada</dc:title>
</cp:coreProperties>
</file>