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7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2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6.wmf" ContentType="image/x-wmf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326-3905-469B-BC91-1FFEF4C5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D83-616E-4212-9742-2293C3EC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3CF-6718-4B5E-A9BF-BD000DAF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464-8D4E-409E-A505-EC0A82BE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35D2-9DF4-427D-B8E0-DC720C44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3C12-071A-47F9-B44C-A5FCD059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5CA3-637D-4EF7-9D2D-CB1D299F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2A5D-C5D5-4C70-BEB3-9A3D1C00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D8C3-C1B9-41B6-BF03-C4348BCB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AD5B-283E-46DA-B58E-6336889D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734A-4CB5-450C-AFBE-1960E52C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073-098B-4516-88B7-981977D3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2FE5-3B32-4208-A52E-21BF9992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FA78-89D1-4185-9A48-B300684C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B220-C16B-40C5-8AC0-F71F535F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BAD9-6795-45EA-9189-07376B67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AA8C-3EA9-4987-AB04-03893320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DFCB-C35F-435C-A446-DB5216C1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28075-CDE8-4DA6-BE68-C9EAF77D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EE174-8CFC-4693-88F1-4F94B6A9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4B52-04F5-412A-B3B2-099E6B8B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9D548-9262-4C12-8C24-35581261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735-D48E-4A19-BE2F-304230F4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1A91-BB01-419C-B9BF-6E3645AD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C7D6C-2F15-4676-B4A2-C05AFDDB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9C06B-F379-41A9-AC9F-6D23D80F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0961-A6D5-4F7E-A9A5-89A2F984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9427E-E09D-4292-99B6-8AD732BA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04BCF-746E-4591-93E1-FD422F72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EF996-0C8C-4326-A4C9-DD69B5D4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C04C9-0949-4569-A356-27BE7762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007CF-361F-41C9-9844-6AED3B32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CA548-A0A2-4774-A005-AF7E8AC0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5F8-244D-412A-BBC1-F96C5424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8915A-090F-4B06-9F06-E9652863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BADA2-571D-4D81-B5B7-77746DF3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FE206-9DE0-4245-85F5-100A66E8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0D899-2A1D-4BD4-9487-5F2AF581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EF9F7-A2C3-4600-AB09-E4596B82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160E1-D743-4E80-9582-10B461F9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5FE9F-2873-4CBF-BA54-2DF3283A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E5091-3559-4D9C-93B6-4FCE83CF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2347B-C4D0-401C-87F4-0B92C029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0B6-4B90-4F0E-8D70-10503823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F40-58E0-4734-AB73-AF1AE3E5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172-A547-44D4-A4B4-9225EBD5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9CE-AC4B-4D15-A09A-6C1B9B2E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AD5-6ECE-46AF-8E0D-AE56A90F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76B0-BAFE-47AE-BD80-C67E1972D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3EFB-0FC1-49D6-91E6-505C96B09090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C92A-6AB2-414D-A71A-65D9136871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EE58-D0D7-462F-A165-0300F7121DE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image.newsru.ua/pict/id/large/58738_20080201093000.jpg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.newsru.ua/pict/id/large/58738_20080201093000.jpg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87" descr="да"/>
          <p:cNvPicPr/>
          <p:nvPr/>
        </p:nvPicPr>
        <p:blipFill>
          <a:blip r:embed="rId1"/>
          <a:stretch/>
        </p:blipFill>
        <p:spPr>
          <a:xfrm>
            <a:off x="685800" y="838080"/>
            <a:ext cx="8174160" cy="5303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88"/>
          <p:cNvSpPr/>
          <p:nvPr/>
        </p:nvSpPr>
        <p:spPr>
          <a:xfrm>
            <a:off x="3276720" y="8380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З   А   Р   Я    Д   К 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89"/>
          <p:cNvSpPr/>
          <p:nvPr/>
        </p:nvSpPr>
        <p:spPr>
          <a:xfrm>
            <a:off x="3124080" y="152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   У  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90"/>
          <p:cNvSpPr/>
          <p:nvPr/>
        </p:nvSpPr>
        <p:spPr>
          <a:xfrm>
            <a:off x="1447920" y="2209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   Е   Л   О   С   И   П   Е   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91"/>
          <p:cNvSpPr/>
          <p:nvPr/>
        </p:nvSpPr>
        <p:spPr>
          <a:xfrm>
            <a:off x="1219320" y="28954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   П  О   Р   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92"/>
          <p:cNvSpPr/>
          <p:nvPr/>
        </p:nvSpPr>
        <p:spPr>
          <a:xfrm>
            <a:off x="3276720" y="41911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   О   Д  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93"/>
          <p:cNvSpPr/>
          <p:nvPr/>
        </p:nvSpPr>
        <p:spPr>
          <a:xfrm>
            <a:off x="1447920" y="48006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   О   Н   Ь   К   И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94"/>
          <p:cNvSpPr/>
          <p:nvPr/>
        </p:nvSpPr>
        <p:spPr>
          <a:xfrm>
            <a:off x="838080" y="54864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Г   А   Н   Т   Е   Л   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95"/>
          <p:cNvSpPr/>
          <p:nvPr/>
        </p:nvSpPr>
        <p:spPr>
          <a:xfrm>
            <a:off x="1447920" y="35053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Л   И   М  О   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WordArt 4"/>
          <p:cNvSpPr txBox="1"/>
          <p:nvPr/>
        </p:nvSpPr>
        <p:spPr>
          <a:xfrm>
            <a:off x="380880" y="60948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c0c0c0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c0c0c0"/>
                  </a:outerShdw>
                </a:effectLst>
                <a:latin typeface="Arial"/>
              </a:rPr>
              <a:t>"Отсутствие вредных привычек"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3818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3" name="Picture 5" descr="IMG_0987"/>
          <p:cNvPicPr/>
          <p:nvPr/>
        </p:nvPicPr>
        <p:blipFill>
          <a:blip r:embed="rId1"/>
          <a:stretch/>
        </p:blipFill>
        <p:spPr>
          <a:xfrm>
            <a:off x="3048120" y="2743200"/>
            <a:ext cx="2735280" cy="2050920"/>
          </a:xfrm>
          <a:prstGeom prst="rect">
            <a:avLst/>
          </a:prstGeom>
          <a:ln w="0">
            <a:noFill/>
          </a:ln>
        </p:spPr>
      </p:pic>
      <p:sp>
        <p:nvSpPr>
          <p:cNvPr id="344" name="Line 5"/>
          <p:cNvSpPr/>
          <p:nvPr/>
        </p:nvSpPr>
        <p:spPr>
          <a:xfrm>
            <a:off x="3733920" y="2438280"/>
            <a:ext cx="1368360" cy="2664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H="1">
            <a:off x="3733560" y="2438280"/>
            <a:ext cx="1439640" cy="2737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сканирование0023"/>
          <p:cNvPicPr/>
          <p:nvPr/>
        </p:nvPicPr>
        <p:blipFill>
          <a:blip r:embed="rId1"/>
          <a:stretch/>
        </p:blipFill>
        <p:spPr>
          <a:xfrm>
            <a:off x="3352680" y="1447920"/>
            <a:ext cx="2976840" cy="4724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сканирование0021"/>
          <p:cNvPicPr/>
          <p:nvPr/>
        </p:nvPicPr>
        <p:blipFill>
          <a:blip r:embed="rId2"/>
          <a:stretch/>
        </p:blipFill>
        <p:spPr>
          <a:xfrm>
            <a:off x="3352680" y="1523880"/>
            <a:ext cx="3124440" cy="47246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сканирование0020"/>
          <p:cNvPicPr/>
          <p:nvPr/>
        </p:nvPicPr>
        <p:blipFill>
          <a:blip r:embed="rId3"/>
          <a:stretch/>
        </p:blipFill>
        <p:spPr>
          <a:xfrm>
            <a:off x="3200400" y="1447920"/>
            <a:ext cx="3044880" cy="4800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сканирование0025"/>
          <p:cNvPicPr/>
          <p:nvPr/>
        </p:nvPicPr>
        <p:blipFill>
          <a:blip r:embed="rId4"/>
          <a:stretch/>
        </p:blipFill>
        <p:spPr>
          <a:xfrm>
            <a:off x="3352680" y="1447920"/>
            <a:ext cx="3197520" cy="48006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j0299125"/>
          <p:cNvPicPr/>
          <p:nvPr/>
        </p:nvPicPr>
        <p:blipFill>
          <a:blip r:embed="rId5"/>
          <a:stretch/>
        </p:blipFill>
        <p:spPr>
          <a:xfrm>
            <a:off x="7238880" y="2438280"/>
            <a:ext cx="1524240" cy="2160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0"/>
          <p:cNvSpPr/>
          <p:nvPr/>
        </p:nvSpPr>
        <p:spPr>
          <a:xfrm>
            <a:off x="1293840" y="6253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 Какие вредные привычки привели человека к этому обли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1430280" y="302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вот так выглядит здоровый человек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579096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Рисунок 2" descr="доктор1.gif"/>
          <p:cNvPicPr/>
          <p:nvPr/>
        </p:nvPicPr>
        <p:blipFill>
          <a:blip r:embed="rId1"/>
          <a:stretch/>
        </p:blipFill>
        <p:spPr>
          <a:xfrm>
            <a:off x="5486400" y="990720"/>
            <a:ext cx="2276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33520" y="2666880"/>
            <a:ext cx="822960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Никогда не боле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Правильно питатьс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Быть бодр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Вершить добрые д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WordArt 5"/>
          <p:cNvSpPr txBox="1"/>
          <p:nvPr/>
        </p:nvSpPr>
        <p:spPr>
          <a:xfrm>
            <a:off x="1752480" y="1371600"/>
            <a:ext cx="433224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Желаю вам: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2209320"/>
            <a:ext cx="579132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пасибо всем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457200" y="533520"/>
            <a:ext cx="65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Здоровье – наше главное богатство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Рисунок 3" descr="Поворот Image-11.jpg"/>
          <p:cNvPicPr/>
          <p:nvPr/>
        </p:nvPicPr>
        <p:blipFill>
          <a:blip r:embed="rId1"/>
          <a:stretch/>
        </p:blipFill>
        <p:spPr>
          <a:xfrm>
            <a:off x="3352680" y="4038480"/>
            <a:ext cx="2243160" cy="2286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F:\S7300501.JPG"/>
          <p:cNvPicPr/>
          <p:nvPr/>
        </p:nvPicPr>
        <p:blipFill>
          <a:blip r:embed="rId2"/>
          <a:stretch/>
        </p:blipFill>
        <p:spPr>
          <a:xfrm>
            <a:off x="228600" y="4038480"/>
            <a:ext cx="269568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IMG_0987"/>
          <p:cNvPicPr/>
          <p:nvPr/>
        </p:nvPicPr>
        <p:blipFill>
          <a:blip r:embed="rId3"/>
          <a:stretch/>
        </p:blipFill>
        <p:spPr>
          <a:xfrm>
            <a:off x="5943600" y="4038480"/>
            <a:ext cx="2895480" cy="2270160"/>
          </a:xfrm>
          <a:prstGeom prst="rect">
            <a:avLst/>
          </a:prstGeom>
          <a:ln w="0">
            <a:noFill/>
          </a:ln>
        </p:spPr>
      </p:pic>
      <p:sp>
        <p:nvSpPr>
          <p:cNvPr id="310" name="Line 15"/>
          <p:cNvSpPr/>
          <p:nvPr/>
        </p:nvSpPr>
        <p:spPr>
          <a:xfrm>
            <a:off x="6477120" y="3809880"/>
            <a:ext cx="1676160" cy="2667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13"/>
          <p:cNvSpPr/>
          <p:nvPr/>
        </p:nvSpPr>
        <p:spPr>
          <a:xfrm flipH="1">
            <a:off x="6552720" y="3809880"/>
            <a:ext cx="1652760" cy="2667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Содержимое 3" descr="http://image.newsru.ua/pict/id/large/58738_2008020109300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1523880"/>
            <a:ext cx="281916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Рисунок 2" descr="доктор1.gif"/>
          <p:cNvPicPr/>
          <p:nvPr/>
        </p:nvPicPr>
        <p:blipFill>
          <a:blip r:embed="rId1"/>
          <a:stretch/>
        </p:blipFill>
        <p:spPr>
          <a:xfrm>
            <a:off x="3200400" y="1676520"/>
            <a:ext cx="2276640" cy="40384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2005920" y="685800"/>
            <a:ext cx="53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harlemagne Std"/>
              </a:rPr>
              <a:t>Доктор</a:t>
            </a:r>
            <a:r>
              <a:rPr b="1" i="1" lang="ru-RU" sz="3200" spc="-1" strike="noStrike">
                <a:solidFill>
                  <a:srgbClr val="ffffff"/>
                </a:solidFill>
                <a:latin typeface="Charlemagne Std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Charlemagne Std"/>
              </a:rPr>
              <a:t>Здоровячок</a:t>
            </a:r>
            <a:r>
              <a:rPr b="1" i="1" lang="ru-RU" sz="3200" spc="-1" strike="noStrike">
                <a:solidFill>
                  <a:srgbClr val="ffffff"/>
                </a:solidFill>
                <a:latin typeface="Charlemagne St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11_4"/>
          <p:cNvPicPr/>
          <p:nvPr/>
        </p:nvPicPr>
        <p:blipFill>
          <a:blip r:embed="rId1"/>
          <a:stretch/>
        </p:blipFill>
        <p:spPr>
          <a:xfrm>
            <a:off x="5029200" y="3525840"/>
            <a:ext cx="3497400" cy="255096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  <p:sp>
        <p:nvSpPr>
          <p:cNvPr id="316" name="WordArt 7"/>
          <p:cNvSpPr txBox="1"/>
          <p:nvPr/>
        </p:nvSpPr>
        <p:spPr>
          <a:xfrm>
            <a:off x="914400" y="1295280"/>
            <a:ext cx="7010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c0c0c0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c0c0c0"/>
                  </a:outerShdw>
                </a:effectLst>
                <a:latin typeface="Arial"/>
              </a:rPr>
              <a:t>"Правильное питание"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3818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7" name="Содержимое 3" descr="http://image.newsru.ua/pict/id/large/58738_2008020109300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3505320"/>
            <a:ext cx="3581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31" descr="01414"/>
          <p:cNvPicPr/>
          <p:nvPr/>
        </p:nvPicPr>
        <p:blipFill>
          <a:blip r:embed="rId1"/>
          <a:stretch/>
        </p:blipFill>
        <p:spPr>
          <a:xfrm>
            <a:off x="5029200" y="2133720"/>
            <a:ext cx="1670040" cy="1374480"/>
          </a:xfrm>
          <a:prstGeom prst="rect">
            <a:avLst/>
          </a:prstGeom>
          <a:ln w="0">
            <a:noFill/>
          </a:ln>
        </p:spPr>
      </p:pic>
      <p:sp>
        <p:nvSpPr>
          <p:cNvPr id="319" name="Плюс 5"/>
          <p:cNvSpPr/>
          <p:nvPr/>
        </p:nvSpPr>
        <p:spPr>
          <a:xfrm>
            <a:off x="642960" y="0"/>
            <a:ext cx="571320" cy="714240"/>
          </a:xfrm>
          <a:custGeom>
            <a:avLst/>
            <a:gdLst>
              <a:gd name="textAreaLeft" fmla="*/ 75600 w 571320"/>
              <a:gd name="textAreaRight" fmla="*/ 495720 w 571320"/>
              <a:gd name="textAreaTop" fmla="*/ 289800 h 714240"/>
              <a:gd name="textAreaBottom" fmla="*/ 424440 h 714240"/>
            </a:gdLst>
            <a:ahLst/>
            <a:rect l="textAreaLeft" t="textAreaTop" r="textAreaRight" b="textAreaBottom"/>
            <a:pathLst>
              <a:path w="571500" h="714375">
                <a:moveTo>
                  <a:pt x="75752" y="289979"/>
                </a:moveTo>
                <a:lnTo>
                  <a:pt x="218542" y="289979"/>
                </a:lnTo>
                <a:lnTo>
                  <a:pt x="218542" y="94690"/>
                </a:lnTo>
                <a:lnTo>
                  <a:pt x="352958" y="94690"/>
                </a:lnTo>
                <a:lnTo>
                  <a:pt x="352958" y="289979"/>
                </a:lnTo>
                <a:lnTo>
                  <a:pt x="495748" y="289979"/>
                </a:lnTo>
                <a:lnTo>
                  <a:pt x="495748" y="424396"/>
                </a:lnTo>
                <a:lnTo>
                  <a:pt x="352958" y="424396"/>
                </a:lnTo>
                <a:lnTo>
                  <a:pt x="352958" y="619685"/>
                </a:lnTo>
                <a:lnTo>
                  <a:pt x="218542" y="619685"/>
                </a:lnTo>
                <a:lnTo>
                  <a:pt x="218542" y="424396"/>
                </a:lnTo>
                <a:lnTo>
                  <a:pt x="75752" y="424396"/>
                </a:lnTo>
                <a:lnTo>
                  <a:pt x="75752" y="28997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люс 6"/>
          <p:cNvSpPr/>
          <p:nvPr/>
        </p:nvSpPr>
        <p:spPr>
          <a:xfrm>
            <a:off x="609480" y="0"/>
            <a:ext cx="571680" cy="714240"/>
          </a:xfrm>
          <a:custGeom>
            <a:avLst/>
            <a:gdLst>
              <a:gd name="textAreaLeft" fmla="*/ 75600 w 571680"/>
              <a:gd name="textAreaRight" fmla="*/ 496080 w 571680"/>
              <a:gd name="textAreaTop" fmla="*/ 289800 h 714240"/>
              <a:gd name="textAreaBottom" fmla="*/ 424440 h 714240"/>
            </a:gdLst>
            <a:ahLst/>
            <a:rect l="textAreaLeft" t="textAreaTop" r="textAreaRight" b="textAreaBottom"/>
            <a:pathLst>
              <a:path w="571500" h="714375">
                <a:moveTo>
                  <a:pt x="75752" y="289979"/>
                </a:moveTo>
                <a:lnTo>
                  <a:pt x="218542" y="289979"/>
                </a:lnTo>
                <a:lnTo>
                  <a:pt x="218542" y="94690"/>
                </a:lnTo>
                <a:lnTo>
                  <a:pt x="352958" y="94690"/>
                </a:lnTo>
                <a:lnTo>
                  <a:pt x="352958" y="289979"/>
                </a:lnTo>
                <a:lnTo>
                  <a:pt x="495748" y="289979"/>
                </a:lnTo>
                <a:lnTo>
                  <a:pt x="495748" y="424396"/>
                </a:lnTo>
                <a:lnTo>
                  <a:pt x="352958" y="424396"/>
                </a:lnTo>
                <a:lnTo>
                  <a:pt x="352958" y="619685"/>
                </a:lnTo>
                <a:lnTo>
                  <a:pt x="218542" y="619685"/>
                </a:lnTo>
                <a:lnTo>
                  <a:pt x="218542" y="424396"/>
                </a:lnTo>
                <a:lnTo>
                  <a:pt x="75752" y="424396"/>
                </a:lnTo>
                <a:lnTo>
                  <a:pt x="75752" y="28997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Минус 7"/>
          <p:cNvSpPr/>
          <p:nvPr/>
        </p:nvSpPr>
        <p:spPr>
          <a:xfrm>
            <a:off x="2071800" y="214200"/>
            <a:ext cx="571320" cy="214560"/>
          </a:xfrm>
          <a:custGeom>
            <a:avLst/>
            <a:gdLst>
              <a:gd name="textAreaLeft" fmla="*/ 75600 w 571320"/>
              <a:gd name="textAreaRight" fmla="*/ 495720 w 571320"/>
              <a:gd name="textAreaTop" fmla="*/ 82080 h 214560"/>
              <a:gd name="textAreaBottom" fmla="*/ 132480 h 214560"/>
            </a:gdLst>
            <a:ahLst/>
            <a:rect l="textAreaLeft" t="textAreaTop" r="textAreaRight" b="textAreaBottom"/>
            <a:pathLst>
              <a:path w="571500" h="214312">
                <a:moveTo>
                  <a:pt x="75752" y="81953"/>
                </a:moveTo>
                <a:lnTo>
                  <a:pt x="495748" y="81953"/>
                </a:lnTo>
                <a:lnTo>
                  <a:pt x="495748" y="132359"/>
                </a:lnTo>
                <a:lnTo>
                  <a:pt x="75752" y="132359"/>
                </a:lnTo>
                <a:lnTo>
                  <a:pt x="75752" y="8195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Минус 8"/>
          <p:cNvSpPr/>
          <p:nvPr/>
        </p:nvSpPr>
        <p:spPr>
          <a:xfrm>
            <a:off x="2057400" y="228600"/>
            <a:ext cx="571680" cy="214200"/>
          </a:xfrm>
          <a:custGeom>
            <a:avLst/>
            <a:gdLst>
              <a:gd name="textAreaLeft" fmla="*/ 75600 w 571680"/>
              <a:gd name="textAreaRight" fmla="*/ 496080 w 571680"/>
              <a:gd name="textAreaTop" fmla="*/ 81720 h 214200"/>
              <a:gd name="textAreaBottom" fmla="*/ 132480 h 214200"/>
            </a:gdLst>
            <a:ahLst/>
            <a:rect l="textAreaLeft" t="textAreaTop" r="textAreaRight" b="textAreaBottom"/>
            <a:pathLst>
              <a:path w="571500" h="214312">
                <a:moveTo>
                  <a:pt x="75752" y="81953"/>
                </a:moveTo>
                <a:lnTo>
                  <a:pt x="495748" y="81953"/>
                </a:lnTo>
                <a:lnTo>
                  <a:pt x="495748" y="132359"/>
                </a:lnTo>
                <a:lnTo>
                  <a:pt x="75752" y="132359"/>
                </a:lnTo>
                <a:lnTo>
                  <a:pt x="75752" y="8195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Рисунок 10" descr="кефир2.gif"/>
          <p:cNvPicPr/>
          <p:nvPr/>
        </p:nvPicPr>
        <p:blipFill>
          <a:blip r:embed="rId2"/>
          <a:stretch/>
        </p:blipFill>
        <p:spPr>
          <a:xfrm>
            <a:off x="3276720" y="4267080"/>
            <a:ext cx="857160" cy="214308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11" descr="96_b_psl.jpg"/>
          <p:cNvPicPr/>
          <p:nvPr/>
        </p:nvPicPr>
        <p:blipFill>
          <a:blip r:embed="rId3"/>
          <a:stretch/>
        </p:blipFill>
        <p:spPr>
          <a:xfrm>
            <a:off x="457200" y="4876920"/>
            <a:ext cx="1947960" cy="14634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12" descr="бутерброды с пепси.bmp"/>
          <p:cNvPicPr/>
          <p:nvPr/>
        </p:nvPicPr>
        <p:blipFill>
          <a:blip r:embed="rId4"/>
          <a:stretch/>
        </p:blipFill>
        <p:spPr>
          <a:xfrm>
            <a:off x="7467480" y="1752480"/>
            <a:ext cx="1500480" cy="136872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7" descr="i1.jpg"/>
          <p:cNvPicPr/>
          <p:nvPr/>
        </p:nvPicPr>
        <p:blipFill>
          <a:blip r:embed="rId5"/>
          <a:stretch/>
        </p:blipFill>
        <p:spPr>
          <a:xfrm>
            <a:off x="228600" y="3124080"/>
            <a:ext cx="1368360" cy="973080"/>
          </a:xfrm>
          <a:prstGeom prst="rect">
            <a:avLst/>
          </a:prstGeom>
          <a:ln w="0">
            <a:noFill/>
          </a:ln>
        </p:spPr>
      </p:pic>
      <p:sp>
        <p:nvSpPr>
          <p:cNvPr id="327" name="Плюс 9"/>
          <p:cNvSpPr/>
          <p:nvPr/>
        </p:nvSpPr>
        <p:spPr>
          <a:xfrm>
            <a:off x="609480" y="0"/>
            <a:ext cx="571680" cy="714240"/>
          </a:xfrm>
          <a:custGeom>
            <a:avLst/>
            <a:gdLst>
              <a:gd name="textAreaLeft" fmla="*/ 75600 w 571680"/>
              <a:gd name="textAreaRight" fmla="*/ 496080 w 571680"/>
              <a:gd name="textAreaTop" fmla="*/ 289800 h 714240"/>
              <a:gd name="textAreaBottom" fmla="*/ 424440 h 714240"/>
            </a:gdLst>
            <a:ahLst/>
            <a:rect l="textAreaLeft" t="textAreaTop" r="textAreaRight" b="textAreaBottom"/>
            <a:pathLst>
              <a:path w="571500" h="714375">
                <a:moveTo>
                  <a:pt x="75752" y="289979"/>
                </a:moveTo>
                <a:lnTo>
                  <a:pt x="218542" y="289979"/>
                </a:lnTo>
                <a:lnTo>
                  <a:pt x="218542" y="94690"/>
                </a:lnTo>
                <a:lnTo>
                  <a:pt x="352958" y="94690"/>
                </a:lnTo>
                <a:lnTo>
                  <a:pt x="352958" y="289979"/>
                </a:lnTo>
                <a:lnTo>
                  <a:pt x="495748" y="289979"/>
                </a:lnTo>
                <a:lnTo>
                  <a:pt x="495748" y="424396"/>
                </a:lnTo>
                <a:lnTo>
                  <a:pt x="352958" y="424396"/>
                </a:lnTo>
                <a:lnTo>
                  <a:pt x="352958" y="619685"/>
                </a:lnTo>
                <a:lnTo>
                  <a:pt x="218542" y="619685"/>
                </a:lnTo>
                <a:lnTo>
                  <a:pt x="218542" y="424396"/>
                </a:lnTo>
                <a:lnTo>
                  <a:pt x="75752" y="424396"/>
                </a:lnTo>
                <a:lnTo>
                  <a:pt x="75752" y="28997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Рисунок 13" descr="чипсы.gif"/>
          <p:cNvPicPr/>
          <p:nvPr/>
        </p:nvPicPr>
        <p:blipFill>
          <a:blip r:embed="rId6"/>
          <a:stretch/>
        </p:blipFill>
        <p:spPr>
          <a:xfrm>
            <a:off x="7315200" y="4876920"/>
            <a:ext cx="1297080" cy="1476360"/>
          </a:xfrm>
          <a:prstGeom prst="rect">
            <a:avLst/>
          </a:prstGeom>
          <a:ln w="0">
            <a:noFill/>
          </a:ln>
        </p:spPr>
      </p:pic>
      <p:sp>
        <p:nvSpPr>
          <p:cNvPr id="329" name="Минус 8"/>
          <p:cNvSpPr/>
          <p:nvPr/>
        </p:nvSpPr>
        <p:spPr>
          <a:xfrm>
            <a:off x="2057400" y="228600"/>
            <a:ext cx="571680" cy="214200"/>
          </a:xfrm>
          <a:custGeom>
            <a:avLst/>
            <a:gdLst>
              <a:gd name="textAreaLeft" fmla="*/ 75600 w 571680"/>
              <a:gd name="textAreaRight" fmla="*/ 496080 w 571680"/>
              <a:gd name="textAreaTop" fmla="*/ 81720 h 214200"/>
              <a:gd name="textAreaBottom" fmla="*/ 132480 h 214200"/>
            </a:gdLst>
            <a:ahLst/>
            <a:rect l="textAreaLeft" t="textAreaTop" r="textAreaRight" b="textAreaBottom"/>
            <a:pathLst>
              <a:path w="571500" h="214312">
                <a:moveTo>
                  <a:pt x="75752" y="81953"/>
                </a:moveTo>
                <a:lnTo>
                  <a:pt x="495748" y="81953"/>
                </a:lnTo>
                <a:lnTo>
                  <a:pt x="495748" y="132359"/>
                </a:lnTo>
                <a:lnTo>
                  <a:pt x="75752" y="132359"/>
                </a:lnTo>
                <a:lnTo>
                  <a:pt x="75752" y="8195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0.28177 0.51459 E">
                                      <p:cBhvr>
                                        <p:cTn id="106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51041 0.21459 E">
                                      <p:cBhvr>
                                        <p:cTn id="110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01459 0.33681 E">
                                      <p:cBhvr>
                                        <p:cTn id="114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E-017 -2.59259E-006 L -0.09792 0.62894 E">
                                      <p:cBhvr>
                                        <p:cTn id="118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0.62552 0.16435 E">
                                      <p:cBhvr>
                                        <p:cTn id="122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E-017 -2.59259E-006 L 0.59375 0.62894 E">
                                      <p:cBhvr>
                                        <p:cTn id="126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F:\2009_04_06\IMG_0002.jpg"/>
          <p:cNvPicPr/>
          <p:nvPr/>
        </p:nvPicPr>
        <p:blipFill>
          <a:blip r:embed="rId1"/>
          <a:stretch/>
        </p:blipFill>
        <p:spPr>
          <a:xfrm>
            <a:off x="2004840" y="2133720"/>
            <a:ext cx="4975560" cy="4322520"/>
          </a:xfrm>
          <a:prstGeom prst="rect">
            <a:avLst/>
          </a:prstGeom>
          <a:ln w="0">
            <a:noFill/>
          </a:ln>
        </p:spPr>
      </p:pic>
      <p:sp>
        <p:nvSpPr>
          <p:cNvPr id="331" name="WordArt 7"/>
          <p:cNvSpPr txBox="1"/>
          <p:nvPr/>
        </p:nvSpPr>
        <p:spPr>
          <a:xfrm>
            <a:off x="2057400" y="91440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c0c0c0"/>
                  </a:outerShdw>
                </a:effectLst>
                <a:latin typeface="Arial"/>
              </a:rPr>
              <a:t>"Личная гигиена"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3818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81080" y="2196720"/>
            <a:ext cx="50292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остяная спинк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Жёсткая щетинк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 мятной пастой дружи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ам усердно служи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Отгадай</a:t>
            </a: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4" name="Picture 6" descr="456119"/>
          <p:cNvPicPr/>
          <p:nvPr/>
        </p:nvPicPr>
        <p:blipFill>
          <a:blip r:embed="rId1"/>
          <a:stretch/>
        </p:blipFill>
        <p:spPr>
          <a:xfrm>
            <a:off x="1295280" y="1600200"/>
            <a:ext cx="6629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Отгадай</a:t>
            </a: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590920" y="2590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кользает, как живо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не выпущу его 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ло ясное вполн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усть отмоет руки м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8" descr="мыло"/>
          <p:cNvPicPr/>
          <p:nvPr/>
        </p:nvPicPr>
        <p:blipFill>
          <a:blip r:embed="rId1"/>
          <a:stretch/>
        </p:blipFill>
        <p:spPr>
          <a:xfrm>
            <a:off x="1523880" y="1576440"/>
            <a:ext cx="60962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Отгадай</a:t>
            </a: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2590920" y="2590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фельное и полосато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адкое и мохнато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да под рукою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это тако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7" descr="C:\Users\Саша\Pictures\полотенце.jpg"/>
          <p:cNvPicPr/>
          <p:nvPr/>
        </p:nvPicPr>
        <p:blipFill>
          <a:blip r:embed="rId1"/>
          <a:stretch/>
        </p:blipFill>
        <p:spPr>
          <a:xfrm>
            <a:off x="2057400" y="1805040"/>
            <a:ext cx="51624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нс</dc:creator>
  <dc:description/>
  <dc:language>en-US</dc:language>
  <cp:lastModifiedBy>1</cp:lastModifiedBy>
  <dcterms:modified xsi:type="dcterms:W3CDTF">2016-11-25T05:07:39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