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0C0-71D8-4F97-9707-CAC21273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791-29BE-41D6-BF53-F159ED39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57B-E3FA-457E-A3DB-2841BE77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DF1-1037-4922-AED2-63F0A6E3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C3CC7-F002-4EF9-9EA3-A43083EF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04188-FA28-4C4C-A9E7-74D030F8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15251-4122-4136-9933-FCDAA5D8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85ED8-A7C0-4178-AF35-1EFDBD21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BFE0B-3081-4AE3-B125-4C70A020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926C0-71FC-4674-9261-5BA3D9D6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A7568-10EE-48FC-8A12-123DECC8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1D2-1A3C-48F1-B99A-448E41B4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19394-0C5F-4F14-9C91-32A1D0C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6672A-9BEC-4475-AEA6-E40771C2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E6F6D-AAC2-4EC4-9AD5-AFD2142D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E3DD5-8B02-4B81-8C7A-1BB033D1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12F78-C91C-42C0-ACE7-739586F6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AE2-AAD6-4E6C-8DD6-7B1DD300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DB5-7DFC-46C0-89FF-EB8AD5DB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D5E-F5D2-4019-BCCF-22DE9E8A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B71-0C36-4AA4-8B27-75064B53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24F-0DA5-4156-91E5-B24810C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988-8402-4A9B-9405-631934C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BAC-765F-428D-ACE1-5949217B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F10-5741-45CD-B696-8B03C6A689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A149-3444-4ECE-AD8E-B7475F7181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001000" cy="242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«Создание здоровьесберегающей среды </a:t>
            </a:r>
            <a:br>
              <a:rPr sz="3600"/>
            </a:b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на территории МБДОУ </a:t>
            </a:r>
            <a:br>
              <a:rPr sz="3600"/>
            </a:b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№9 «Ромашка»</a:t>
            </a:r>
            <a:r>
              <a:rPr b="0" lang="ru-RU" sz="54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760" y="250020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ь: Изибаева И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257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жным компонентом укрепления и оздоровления детского организма, а так же организации двигательного режима ребенка, направленного на поднятие эмоционального и мышечного тонуса детей, является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тренняя гимнас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жедневное выполнение физических упражнений под руководством взрослог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ствует проявлению определенных волевых усил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водимые на свежем воздухе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физические упражн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ж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особствуют функциональному совершенствованию детского организма, повышению его работоспособности, развитию защитных сил по отношению к неблагоприятным факторам внешней ср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5614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7000" y="-2963160"/>
            <a:ext cx="8100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95928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00720" y="404640"/>
            <a:ext cx="4038480" cy="316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500720" y="3645000"/>
            <a:ext cx="4032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1640" y="836280"/>
            <a:ext cx="35384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251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гулярны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нятия физкультур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укрепляют организм и способствуют повышению иммунит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424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899600"/>
            <a:ext cx="371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788000" y="620640"/>
            <a:ext cx="36003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движная иг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28880" y="1197000"/>
            <a:ext cx="3398760" cy="257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672000" cy="2575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03200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нимает особое место в развитии ребенка-дошкольника. Она способствует закреплению и совершенствованию двигательных навыков и умений, предоставляет возможность развивать познавательный интерес, формирует умение ориентироваться в окружающей действительности, что так важно для приобретения ребенком жизненного опы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бывание детей на свежем воздухе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о использование естественных факторов природы для оздоровления и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аливания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744720" cy="243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88000" y="3924360"/>
            <a:ext cx="3816360" cy="2600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90560" y="190512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ортивные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976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крепляют крупные группы мышц, развивают психофизические качества: силу, быстроту, ловкость, выносливость. В спортивных играх у ребенка повышается умственная активность, ориентировка в пространстве, развивается сообразительность, быстрота мышления, происходит осознание собственных действий. Ребенок учится согласовывать свои действия с действиями товарищей; у него воспитывается сдержанность, самообладание, ответственность, воля и решительность; обогащается его сенсомоторный опыт, развивается творчесств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2577960"/>
            <a:ext cx="403704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637880"/>
            <a:ext cx="4446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959280" cy="273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960720" cy="2738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1440" y="-5515200"/>
            <a:ext cx="287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«Забота о здоровье — это важнейший труд воспитателя. От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В.А. Сухомлински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43923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тский спортивный праздник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– это всегда веселое и здоровое времяпровождение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4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1080" y="-4953240"/>
            <a:ext cx="360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5400" y="3648240"/>
            <a:ext cx="3376800" cy="231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038840" cy="3271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1128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046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гательная активность –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ффективное средство сохранения и укрепления здоров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577960"/>
            <a:ext cx="4044960" cy="3308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4038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13880"/>
            <a:ext cx="8229600" cy="55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 ВНИМАНИЕ!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- Веселые ребята!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хотим себе помочь и прогнать болезни прочь!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хотим болеть мы никогда!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доровью скажем – 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56000" y="2997360"/>
            <a:ext cx="3960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6553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6760" y="0"/>
            <a:ext cx="8358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аром в народе говорят: </a:t>
            </a:r>
            <a:r>
              <a:rPr b="1" i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доровому все здорово!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 этой простой и умной истине стоит помнить всегда, а не только в те моменты, когда в организме начинаются сбои и мы вынуждены обращаться к врачам, требуя от них подчас невозможного. 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сам творец своего здоровья!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300" spc="-1" strike="noStrike">
                <a:solidFill>
                  <a:srgbClr val="161616"/>
                </a:solidFill>
                <a:latin typeface="Tahoma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1616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20908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доровьесберегающие технологии в дошкольном образовани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технологии, направленные на решение приоритетной задачи современного дошкольного образования - задачи сохранения, поддержания и обогащения здоровья субъектов педагогического процесса в детском саду: детей, педагогов и родител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3381120"/>
            <a:ext cx="814716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Цель здоровьесберегающей технологи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—обеспечить дошкольнику высокий уровень реального здоровья, вооружив его необходимым багажом знаний, умений, навыков, необходимых для ведения здорового образа жизни, и воспитав у него культуру здоровь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ормы организации 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здоровьесберегающей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47456002"/>
          <p:cNvPicPr/>
          <p:nvPr/>
        </p:nvPicPr>
        <p:blipFill>
          <a:blip r:embed="rId2"/>
          <a:stretch/>
        </p:blipFill>
        <p:spPr>
          <a:xfrm>
            <a:off x="684360" y="907920"/>
            <a:ext cx="770400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ул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яется  первым и наиболее доступным средством закаливания детского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0000" y="1600200"/>
            <a:ext cx="7417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593960" cy="583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620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663480" y="1216080"/>
            <a:ext cx="290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ежий воздух малышам нужен и полезен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чень весело гулять на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ни каких болезней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скурсия- один из видов здоровьесберег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74640" y="1905120"/>
            <a:ext cx="5994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Sergey</cp:lastModifiedBy>
  <dcterms:modified xsi:type="dcterms:W3CDTF">2016-11-25T14:55:52Z</dcterms:modified>
  <cp:revision>150</cp:revision>
  <dc:subject/>
  <dc:title>Слайд 1</dc:title>
</cp:coreProperties>
</file>