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B79-0D1A-47C8-B114-CEF9CEBF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C63-3574-4AB2-861A-48D8300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F6C-2120-4FB9-B440-C2772524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569-B097-4C7A-9F90-A2530776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10545-EAD5-4659-A4D2-E7EEFF26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FA7B9-0DE7-4009-8FC8-ABCE1D1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B9399-1136-4405-96E8-88FC3563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0A65-CF2D-4FAE-887E-34DD28DE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3C4CB-D399-4C98-83B7-B811792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114B7-C3B1-4CED-939B-EB60A970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782CE-A2F3-40A7-971A-9E16752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FD0-0130-4D5C-A239-507AAE9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66DCB-BF25-4618-9DC8-CC07180F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1828-A5CF-4456-9C40-CF6B2B5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7C0E2-8E42-4FCB-B271-6DD8683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886EC-33D7-49C4-81E0-0E344BA0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8786B-F38C-4C96-9D95-39A70E87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B25-F374-4A94-AE6B-F2C726E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C68-8D56-4FF2-A5E9-A3FA0A7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177-CDBC-40C2-9D7D-8EFB3B5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194-6C13-4390-91A5-A0CB6D3B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699-75DF-4A71-8710-CAE8511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378-E53F-41B6-A874-ACF9CFF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EA9-10B0-435C-898D-BC4A8C7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5676-FC51-4E59-8735-55BE66789B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FE0-D4F0-4908-BB74-301EAF6678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001000" cy="242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«Создание здоровьесберегающей среды </a:t>
            </a:r>
            <a:br>
              <a:rPr sz="3600"/>
            </a:b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на территории МБДОУ </a:t>
            </a:r>
            <a:br>
              <a:rPr sz="3600"/>
            </a:b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№9 «Ромашка»</a:t>
            </a:r>
            <a:r>
              <a:rPr b="0" lang="ru-RU" sz="54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ь: Изибаева И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257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жным компонентом укрепления и оздоровления детского организма, а так же организации двигательного режима ребенка, направленного на поднятие эмоционального и мышечного тонуса детей, является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тренняя гимнас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жедневное выполнение физических упражнений под руководством взросл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ствует проявлению определенных волевых усил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водимые на свежем воздухе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изические упражн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ж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особствуют функциональному совершенствованию детского организма, повышению его работоспособности, развитию защитных сил по отношению к неблагоприятным факторам внешней ср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5614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7000" y="-2963160"/>
            <a:ext cx="8100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95928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404640"/>
            <a:ext cx="4038480" cy="3168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500720" y="3645000"/>
            <a:ext cx="4032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1640" y="836280"/>
            <a:ext cx="35384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251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гулярны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нятия физкультур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укрепляют организм и способствуют повышению иммунит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424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899600"/>
            <a:ext cx="371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788000" y="620640"/>
            <a:ext cx="36003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движная иг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28880" y="1197000"/>
            <a:ext cx="3398760" cy="257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672000" cy="2575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03200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нимает особое место в развитии ребенка-дошкольника. Она способствует закреплению и совершенствованию двигательных навыков и умений, предоставляет возможность развивать познавательный интерес, формирует умение ориентироваться в окружающей действительности, что так важно для приобретения ребенком жизненного опы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бывание детей на свежем воздухе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о использование естественных факторов природы для оздоровления и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аливания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744720" cy="243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88000" y="3924360"/>
            <a:ext cx="3816360" cy="2600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90560" y="190512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ортивные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крепляют крупные группы мышц, развивают психофизические качества: силу, быстроту, ловкость, выносливость. В спортивных играх у ребенка повышается умственная активность, ориентировка в пространстве, развивается сообразительность, быстрота мышления, происходит осознание собственных действий. Ребенок учится согласовывать свои действия с действиями товарищей; у него воспитывается сдержанность, самообладание, ответственность, воля и решительность; обогащается его сенсомоторный опыт, развивается творчесств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2577960"/>
            <a:ext cx="403704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637880"/>
            <a:ext cx="4446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959280" cy="273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960720" cy="2738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440" y="-551520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«Забота о здоровье — это важнейший труд воспитателя. От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В.А. Сухомлински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43923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тский спортивный праздник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– это всегда веселое и здоровое времяпровождение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84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1080" y="-4953240"/>
            <a:ext cx="360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5400" y="3648240"/>
            <a:ext cx="3376800" cy="231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038840" cy="327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1128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0464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гательная активность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ффективное средство сохранения и укрепления здоров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577960"/>
            <a:ext cx="4044960" cy="3308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4038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13880"/>
            <a:ext cx="8229600" cy="55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 ВНИМАНИЕ!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- Веселые ребята!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хотим себе помочь и прогнать болезни прочь!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хотим болеть мы никогда!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доровью скажем – 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56000" y="2997360"/>
            <a:ext cx="3960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6553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6760" y="0"/>
            <a:ext cx="8358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аром в народе говорят: </a:t>
            </a:r>
            <a:r>
              <a:rPr b="1" i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доровому все здорово!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 этой простой и умной истине стоит помнить всегда, а не только в те моменты, когда в организме начинаются сбои и мы вынуждены обращаться к врачам, требуя от них подчас невозможного. 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 сам творец своего здоровья!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300" spc="-1" strike="noStrike">
                <a:solidFill>
                  <a:srgbClr val="161616"/>
                </a:solidFill>
                <a:latin typeface="Tahoma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1616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20908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доровьесберегающие технологии в дошкольном образовани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технологии, направленные на решение приоритетной задачи современного дошкольного образования - задачи сохранения, поддержания и обогащения здоровья субъектов педагогического процесса в детском саду: детей, педагогов и родителе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3381120"/>
            <a:ext cx="814716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ель здоровьесберегающей технологи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—обеспечить дошкольнику высокий уровень реального здоровья, вооружив его необходимым багажом знаний, умений, навыков, необходимых для ведения здорового образа жизни, и воспитав у него культуру здоровь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ормы организации 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доровьесберегающей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47456002"/>
          <p:cNvPicPr/>
          <p:nvPr/>
        </p:nvPicPr>
        <p:blipFill>
          <a:blip r:embed="rId2"/>
          <a:stretch/>
        </p:blipFill>
        <p:spPr>
          <a:xfrm>
            <a:off x="684360" y="907920"/>
            <a:ext cx="770400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гул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яется  первым и наиболее доступным средством закаливания детского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00000" y="1600200"/>
            <a:ext cx="7417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593960" cy="583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62064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663480" y="1216080"/>
            <a:ext cx="290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ежий воздух малышам нужен и полезен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чень весело гулять на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ни каких болезней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скурсия- один из видов здоровьесберег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4640" y="1905120"/>
            <a:ext cx="5994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Sergey</cp:lastModifiedBy>
  <dcterms:modified xsi:type="dcterms:W3CDTF">2016-11-25T14:55:52Z</dcterms:modified>
  <cp:revision>150</cp:revision>
  <dc:subject/>
  <dc:title>Слайд 1</dc:title>
</cp:coreProperties>
</file>