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C74A-8C81-4346-801F-35E0B700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239-41F4-40B0-BE4B-35EF12978B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F5F0-DC30-4035-B4B9-41879E44E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66200"/>
            <a:ext cx="6324480" cy="51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ие основы моделирования уроков различных типов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ст Аверина Е.П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981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2093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</a:rPr>
              <a:t>УРОК</a:t>
            </a:r>
            <a:r>
              <a:rPr b="0" i="1" lang="ru-RU" sz="3200" spc="-1" strike="noStrike">
                <a:solidFill>
                  <a:srgbClr val="ffffff"/>
                </a:solidFill>
                <a:latin typeface="Microsoft Sans Serif"/>
              </a:rPr>
              <a:t>– важнейшая форма развития и становления личности обучающегося с инвалидностью; 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icrosoft Sans Serif"/>
              </a:rPr>
              <a:t>МОДЕЛИРОВАНИЕ</a:t>
            </a:r>
            <a:r>
              <a:rPr b="0" i="1" lang="ru-RU" sz="3200" spc="-1" strike="noStrike">
                <a:solidFill>
                  <a:srgbClr val="ffffff"/>
                </a:solidFill>
                <a:latin typeface="Microsoft Sans Serif"/>
              </a:rPr>
              <a:t> - определяющий метод эффективности и продуктивности учебной деятельности при профессиональном обучении  инвалидов и лиц с ОВЗ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icrosoft Sans Serif"/>
              </a:rPr>
              <a:t>СПАСИБО  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icrosoft Sans Serif"/>
              </a:rPr>
              <a:t>ЗА  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icrosoft Sans Serif"/>
              </a:rPr>
              <a:t>ВНИМАНИЕ!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1249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Педагогические технологии, применяемые в СКИПО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игровые</a:t>
            </a:r>
            <a:r>
              <a:rPr b="0" lang="ru-RU" sz="3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проблемного обучения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с элементами критического мышления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профессионального обучения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ИКТ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Личностно ориентированного обучения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Microsoft Sans Serif"/>
              </a:rPr>
              <a:t>Здоровьесберегающие технологии </a:t>
            </a: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icrosoft Sans Serif"/>
              </a:rPr>
              <a:t>  </a:t>
            </a:r>
            <a:r>
              <a:rPr b="1" i="1" lang="ru-RU" sz="4000" spc="-1" strike="noStrike">
                <a:solidFill>
                  <a:srgbClr val="c00000"/>
                </a:solidFill>
                <a:latin typeface="Microsoft Sans Serif"/>
              </a:rPr>
              <a:t>учет индивидуальных потребностей обучающихся </a:t>
            </a:r>
            <a:r>
              <a:rPr b="1" i="1" lang="ru-RU" sz="3600" spc="-1" strike="noStrike">
                <a:solidFill>
                  <a:srgbClr val="c00000"/>
                </a:solidFill>
                <a:latin typeface="Microsoft Sans Serif"/>
              </a:rPr>
              <a:t>инвалидов и лиц с ОВЗ 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icrosoft Sans Serif"/>
              </a:rPr>
              <a:t>   </a:t>
            </a:r>
            <a:r>
              <a:rPr b="1" i="1" lang="ru-RU" sz="3600" spc="-1" strike="noStrike">
                <a:solidFill>
                  <a:srgbClr val="161616"/>
                </a:solidFill>
                <a:latin typeface="Microsoft Sans Serif"/>
              </a:rPr>
              <a:t>на основе уровневой дифференциации, личностно-ориентированных подходов в обучении,  критического и исследовательского мышления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533160"/>
            <a:ext cx="7315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icrosoft Sans Serif"/>
              </a:rPr>
              <a:t>Моделирование урока </a:t>
            </a: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– это  современные подходы в  моделировании современной педагогической деятельности педагога и обучающегося.</a:t>
            </a: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Microsoft Sans Serif"/>
              </a:rPr>
              <a:t>Педагог  в первую  очередь  должен:</a:t>
            </a: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Правильно выбрать </a:t>
            </a: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    </a:t>
            </a:r>
            <a:r>
              <a:rPr b="1" i="1" lang="ru-RU" sz="2600" spc="-1" strike="noStrike">
                <a:solidFill>
                  <a:srgbClr val="c00000"/>
                </a:solidFill>
                <a:latin typeface="Microsoft Sans Serif"/>
              </a:rPr>
              <a:t>педагогическую цель урока</a:t>
            </a: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Выбрать </a:t>
            </a:r>
            <a:r>
              <a:rPr b="1" i="1" lang="ru-RU" sz="2600" spc="-1" strike="noStrike">
                <a:solidFill>
                  <a:srgbClr val="c00000"/>
                </a:solidFill>
                <a:latin typeface="Microsoft Sans Serif"/>
              </a:rPr>
              <a:t>формы и методы </a:t>
            </a: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организации учебно- производственной деятельности</a:t>
            </a: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Microsoft Sans Serif"/>
              </a:rPr>
              <a:t>Включить  обучающихся в</a:t>
            </a: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1" i="1" lang="ru-RU" sz="2600" spc="-1" strike="noStrike">
                <a:solidFill>
                  <a:srgbClr val="c00000"/>
                </a:solidFill>
                <a:latin typeface="Microsoft Sans Serif"/>
              </a:rPr>
              <a:t>разные</a:t>
            </a: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 </a:t>
            </a:r>
            <a:r>
              <a:rPr b="1" i="1" lang="ru-RU" sz="2600" spc="-1" strike="noStrike">
                <a:solidFill>
                  <a:srgbClr val="c00000"/>
                </a:solidFill>
                <a:latin typeface="Microsoft Sans Serif"/>
              </a:rPr>
              <a:t>виды деятельности </a:t>
            </a:r>
            <a:r>
              <a:rPr b="1" i="1" lang="ru-RU" sz="2600" spc="-1" strike="noStrike">
                <a:solidFill>
                  <a:srgbClr val="161616"/>
                </a:solidFill>
                <a:latin typeface="Microsoft Sans Serif"/>
              </a:rPr>
              <a:t>на уроке, соответствующие целям и задачам урока</a:t>
            </a: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49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981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Принципы технолог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моделир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учебного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содержан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приоритет развивающей цели обучения;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согласование образовательных целей посредством содержания;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достижение целей урока через принцип </a:t>
            </a: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деятельностного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 подхода в обучении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38052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1. вызвать у обучающихся </a:t>
            </a: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Microsoft Sans Serif"/>
              </a:rPr>
              <a:t>устойчивую мотивацию</a:t>
            </a: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 к учебной деятельности, которая может основываться на личном опыте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2.учить </a:t>
            </a: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Microsoft Sans Serif"/>
              </a:rPr>
              <a:t>диалогично</a:t>
            </a: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, т.е. в сотрудничестве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3.учить </a:t>
            </a: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Microsoft Sans Serif"/>
              </a:rPr>
              <a:t>диагностично:</a:t>
            </a: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 требуется постоянное наблюдение за учебной деятельностью и учебными достижениями, в случае необходимости осуществляя коррекцию и поддержку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Microsoft Sans Serif"/>
              </a:rPr>
              <a:t>4. разделять содержание</a:t>
            </a: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 образования на подходящие </a:t>
            </a: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Microsoft Sans Serif"/>
              </a:rPr>
              <a:t>единицы и задачи</a:t>
            </a: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, чтобы обеспечить возможно полную ориентировочную основу их учебной мотивации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Microsoft Sans Serif"/>
              </a:rPr>
              <a:t>5.обеспечивать учебное содержание (действие – обучающая модель) на </a:t>
            </a: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Microsoft Sans Serif"/>
              </a:rPr>
              <a:t>разнородных уровнях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6.обучать инвалидов и лиц с ОВЗ в </a:t>
            </a:r>
            <a:r>
              <a:rPr b="1" i="1" lang="ru-RU" sz="2200" spc="-1" strike="noStrike" u="sng">
                <a:solidFill>
                  <a:srgbClr val="161616"/>
                </a:solidFill>
                <a:uFillTx/>
                <a:latin typeface="Microsoft Sans Serif"/>
              </a:rPr>
              <a:t>соответствующем темпе</a:t>
            </a: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, используя подходящие средства и личностно – ориентированный подход в обучении;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7.развивать способности к </a:t>
            </a:r>
            <a:r>
              <a:rPr b="1" i="1" lang="ru-RU" sz="2200" spc="-1" strike="noStrike" u="sng">
                <a:solidFill>
                  <a:srgbClr val="161616"/>
                </a:solidFill>
                <a:uFillTx/>
                <a:latin typeface="Microsoft Sans Serif"/>
              </a:rPr>
              <a:t>рефлексии и оцениванию</a:t>
            </a: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 самими учениками  своего прогресса;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8.стимулировать </a:t>
            </a:r>
            <a:r>
              <a:rPr b="1" i="1" lang="ru-RU" sz="2200" spc="-1" strike="noStrike" u="sng">
                <a:solidFill>
                  <a:srgbClr val="161616"/>
                </a:solidFill>
                <a:uFillTx/>
                <a:latin typeface="Microsoft Sans Serif"/>
              </a:rPr>
              <a:t>инициативу творчества</a:t>
            </a: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 для того, чтобы обучающиеся инвалиды  овладели предметным содержанием гораздо глубже;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9.способствовать формированию субъектности, которая выражается в положительном отношении обучающихся к учебным дисциплинам по профессии, в особенности самоопределения учеников с учётом их физических возможностей;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10.обеспечивать условия </a:t>
            </a:r>
            <a:r>
              <a:rPr b="1" i="1" lang="ru-RU" sz="2200" spc="-1" strike="noStrike" u="sng">
                <a:solidFill>
                  <a:srgbClr val="161616"/>
                </a:solidFill>
                <a:uFillTx/>
                <a:latin typeface="Microsoft Sans Serif"/>
              </a:rPr>
              <a:t>для благоприятного микроклимата в учебной группе</a:t>
            </a: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, ведущего к формированию социально-интегрированной личности обучающегося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182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Выработка педагогом способностей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- аналитические (результативность каждого урока и его этапа – результат учебной деятельности)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70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- прогностические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70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- проектировочные (сформировать у себя теоретическое мышление)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70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- психологические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70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icrosoft Sans Serif"/>
              </a:rPr>
              <a:t>- организаторские (владеть коллективом учебной группы)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70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981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ПРАВИЛА МОДЕЛИРОВАНИЯ УРОКОВ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Конкретно определить тему, цели, тип урока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Отобрать учебный материал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Выбрать наиболее эффективные методы и приемы обучения в данной учебной группе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Определить формы контроля за учебной деятельностью обучающихся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Продумать оптимальный темп урока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Продумать форму подведения итогов урока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1616"/>
                </a:solidFill>
                <a:latin typeface="Microsoft Sans Serif"/>
              </a:rPr>
              <a:t>Продумать содержание, объем и форму домашнего задания.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550"/>
              </a:spcBef>
              <a:buClr>
                <a:srgbClr val="16161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Елена</cp:lastModifiedBy>
  <dcterms:modified xsi:type="dcterms:W3CDTF">2016-11-25T13:00:09Z</dcterms:modified>
  <cp:revision>101</cp:revision>
  <dc:subject/>
  <dc:title>Name of presentation</dc:title>
</cp:coreProperties>
</file>