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DD7-1A0C-4210-9936-2554450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7F3-2AFC-4F93-8D25-305A3660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544-DC3F-4EE9-A216-DA55AD7A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D68-1A6D-4CBE-8096-B054E3E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3E1-2F0D-4EF7-9BCD-EDADEA9B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D953-D6F6-4630-A57A-1D96609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C25-5C3A-4443-97F9-9D280255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1746-4514-4643-852B-8101E629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CDFE-E7AD-4E4F-8356-4555AA7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552-5E5C-47A6-8555-14EDDC5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389F-0047-489E-AB85-CB0E1DB4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CE-041F-494F-BFAD-11722F86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E6E-3A20-4CEE-9B57-A1F90DA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EB1-12E3-4485-A05C-2957810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111B-F711-4655-AFD9-5B1F355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CCF6-36AF-4E03-B698-EFADE703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6D5F-E832-4986-9F04-83E977AF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F42-9086-48F4-8F9B-5E6BB537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A4E-E5D9-4F0B-9CEE-BC190A8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815-B9B4-4428-8A07-555413D9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F96-CD8B-4A4F-9F7E-3DE79BC5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FA0-B63B-4A29-BAE3-C8B7B74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896-DF67-4784-BF0B-5D01F5C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B0A-3F4D-485E-9307-CE2AC81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7EE8-7896-4108-8987-5AFFC7BEC4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856-87A8-4BD4-A410-815D66295B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685800"/>
            <a:ext cx="540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800000"/>
                </a:solidFill>
                <a:latin typeface="Times New Roman"/>
              </a:rPr>
              <a:t>МАОУ СШ № 8</a:t>
            </a:r>
            <a:br>
              <a:rPr sz="4200"/>
            </a:br>
            <a:r>
              <a:rPr b="1" lang="ru-RU" sz="4200" spc="-1" strike="noStrike">
                <a:solidFill>
                  <a:srgbClr val="800000"/>
                </a:solidFill>
                <a:latin typeface="Times New Roman"/>
              </a:rPr>
              <a:t>201</a:t>
            </a:r>
            <a:r>
              <a:rPr b="1" lang="en-US" sz="4200" spc="-1" strike="noStrike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ru-RU" sz="4200" spc="-1" strike="noStrike">
                <a:solidFill>
                  <a:srgbClr val="800000"/>
                </a:solidFill>
                <a:latin typeface="Times New Roman"/>
              </a:rPr>
              <a:t> г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63280" y="1917720"/>
            <a:ext cx="576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e9927"/>
                </a:solidFill>
                <a:latin typeface="Times New Roman"/>
              </a:rPr>
              <a:t>Презентация по литературе</a:t>
            </a:r>
            <a:r>
              <a:rPr b="1" lang="en-US" sz="2100" spc="-1" strike="noStrike">
                <a:solidFill>
                  <a:srgbClr val="8e9927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8e9927"/>
                </a:solidFill>
                <a:latin typeface="Times New Roman"/>
              </a:rPr>
              <a:t>на тем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"/>
          <p:cNvSpPr txBox="1"/>
          <p:nvPr/>
        </p:nvSpPr>
        <p:spPr>
          <a:xfrm>
            <a:off x="1371600" y="2514600"/>
            <a:ext cx="651204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ифы древней Греции.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917640" y="437508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e9927"/>
                </a:solidFill>
                <a:latin typeface="Times New Roman"/>
              </a:rPr>
              <a:t>Ученица 5 «В» класса                      Шатало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и по запросу картинки яблоко раздора гиф"/>
          <p:cNvPicPr/>
          <p:nvPr/>
        </p:nvPicPr>
        <p:blipFill>
          <a:blip r:embed="rId3"/>
          <a:stretch/>
        </p:blipFill>
        <p:spPr>
          <a:xfrm>
            <a:off x="6400800" y="41148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2209680" y="3352680"/>
            <a:ext cx="449604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Яблоко раздора.</a:t>
            </a:r>
            <a:endParaRPr b="0" lang="en-US" sz="4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533520"/>
            <a:ext cx="7162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 золотое яблок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и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ало не только яблоком раздора между прекрасными богинями, но и принесло раздор и войну просты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аше время выражение «яблоко раздора» используется для описания причины сс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и по запросу яблоко раздора миф"/>
          <p:cNvPicPr/>
          <p:nvPr/>
        </p:nvPicPr>
        <p:blipFill>
          <a:blip r:embed="rId1"/>
          <a:stretch/>
        </p:blipFill>
        <p:spPr>
          <a:xfrm>
            <a:off x="2362320" y="2809800"/>
            <a:ext cx="43909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азгадайте кроссвор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081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 Как звали богиню разд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784680" y="2895480"/>
          <a:ext cx="4673520" cy="381960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  <a:gridCol w="583920"/>
                <a:gridCol w="584280"/>
                <a:gridCol w="584280"/>
                <a:gridCol w="584280"/>
                <a:gridCol w="583920"/>
                <a:gridCol w="58428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85800" y="1614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 Кому отдал золотое яблоко Пари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1477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 Что обещала Парису Ге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5891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. Кто обещал Парису военную славу и побе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93040" y="4286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52120" y="427212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69640" y="42861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2400" y="42721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0" y="427212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29320" y="42721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39520" y="4286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95920" y="29718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1520" y="365760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01320" y="48769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92320" y="54864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00600" y="61722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1080" y="2971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34960" y="36576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29560" y="48769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1080" y="5562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5592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Картинки по запросу яблоко раздора миф"/>
          <p:cNvPicPr/>
          <p:nvPr/>
        </p:nvPicPr>
        <p:blipFill>
          <a:blip r:embed="rId1"/>
          <a:stretch/>
        </p:blipFill>
        <p:spPr>
          <a:xfrm>
            <a:off x="1676520" y="609480"/>
            <a:ext cx="5790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1600200"/>
            <a:ext cx="678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познакомить одноклассников с мифами Древней Греции на примере мифа о Яблоке раздора; дать представление о мифе, его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ть определение миф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явить особенности мифа на примере мифа о Яблоке разд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навык определения основной и второстепен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будить интерес к изучению дополнительных источников по истории, литературе, мифоло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и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ссворд по содержанию миф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едложить ребятам его разга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09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ЦЕЛИ И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641600"/>
            <a:ext cx="7696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иф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греч. mythos сказание, предание) – это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изведение, созданное фантазией народа. В мифах рассказывается о происхождении мира и человека, о деяниях древних богов и героев, которые воспринимались не вымышленными, а вполне реа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окупность мифов и мифологических представлений называется мифологией. У каждого народа есть своя мифология, но мифы – произведения устного народного творчества, за время развития народа мифы по разным причинам могли быть утрач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609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Что такое ми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990720"/>
            <a:ext cx="754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так, мы изучаем мифы Древней Греции, потому что они хорошо сохранились и повлияли на развитие мир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множество мифов Древней Греции таких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ение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олотое ру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иги Гера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ного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хочу рассказать о мифе «Яблоко разд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371600"/>
            <a:ext cx="800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Этот миф повествует о том, как прекраснейшие богини не могли решить, кто же из них самая прекрас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ыло так. Родители будущего героя Троянской войны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хиллес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грали свадьбу, куда были приглашены и богини Олимпа —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р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жена Зевса)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фродит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богиня любви и красоты) 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фин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наимудрейшая богиня Олимпа). Однако, дабы не портить праздник не позвали богиню раздоров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Эрид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на что она обиделась и решила сыграть шутку, подбросив на стол с угощением прекрасное золотое яблоко с надписью «Прекраснейш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и по запросу картинки яблоко раздора миф"/>
          <p:cNvPicPr/>
          <p:nvPr/>
        </p:nvPicPr>
        <p:blipFill>
          <a:blip r:embed="rId1"/>
          <a:stretch/>
        </p:blipFill>
        <p:spPr>
          <a:xfrm>
            <a:off x="5791320" y="432432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0920" y="5335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Яблоко разд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37160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наружив такой подарок, богини заспорили, кому же будет принадлежать это яблоко и никак не могли найти решение. Рассудить спор они призвал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арис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сына троянского царя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ам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и по запросу картинки яблоко раздора миф"/>
          <p:cNvPicPr/>
          <p:nvPr/>
        </p:nvPicPr>
        <p:blipFill>
          <a:blip r:embed="rId1"/>
          <a:stretch/>
        </p:blipFill>
        <p:spPr>
          <a:xfrm>
            <a:off x="4876920" y="2679840"/>
            <a:ext cx="4038480" cy="4025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43200" y="609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Суд Па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89548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щала Парису власть над всей Азие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енную славу и победы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од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е обещала ему в жены прекраснейшую из смертных женщи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ле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очь громоверж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в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жену царя Спар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л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73664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долго думая, юноша отдал предпочтение богине любв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фродит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За это она помогла ему в любви к прекрасной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Ел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Парис выбирает Афроди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и по запросу афродита с яблоком раздора богиня"/>
          <p:cNvPicPr/>
          <p:nvPr/>
        </p:nvPicPr>
        <p:blipFill>
          <a:blip r:embed="rId1"/>
          <a:stretch/>
        </p:blipFill>
        <p:spPr>
          <a:xfrm>
            <a:off x="5205240" y="1295280"/>
            <a:ext cx="3710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2133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мощью Афроди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уговорил нежными речами прекрасную Елену покинуть дом мужа и бежать с ним в Т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6340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Похищение 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User\Мои документы\reni_19.jpg"/>
          <p:cNvPicPr/>
          <p:nvPr/>
        </p:nvPicPr>
        <p:blipFill>
          <a:blip r:embed="rId1"/>
          <a:stretch/>
        </p:blipFill>
        <p:spPr>
          <a:xfrm>
            <a:off x="3995640" y="1484280"/>
            <a:ext cx="4886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106668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ла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знав о краже Елены, поехал к своему брату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амемно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огущественному и властному цар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к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тут же начал собирать многочисленную армию для того, чтобы напасть на Трою. Так началась многолетняя Троянская во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808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Месть гр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и по запросу троянская война"/>
          <p:cNvPicPr/>
          <p:nvPr/>
        </p:nvPicPr>
        <p:blipFill>
          <a:blip r:embed="rId1"/>
          <a:stretch/>
        </p:blipFill>
        <p:spPr>
          <a:xfrm>
            <a:off x="1066680" y="2895480"/>
            <a:ext cx="7010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6T12:05:09Z</dcterms:created>
  <dc:creator>User</dc:creator>
  <dc:description/>
  <dc:language>en-US</dc:language>
  <cp:lastModifiedBy>User</cp:lastModifiedBy>
  <dcterms:modified xsi:type="dcterms:W3CDTF">2016-10-19T15:31:3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