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7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673D-068B-41AD-BDA4-1591CBE59D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D406-F26A-4FCB-BC5C-FFF837C81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F3B-084C-4D10-8EE3-B1AB0C52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41A-123A-47B1-B1C1-3A200E42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4CD-6F9F-4CFF-8FC3-CE3F39CF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7AD-EC5B-43BE-8ADD-5B054224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F91E-48A2-4298-91C1-7BC66CE0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839A-3C57-4E64-A18C-A8DDB1B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AF67-5EDE-430E-9FB4-31133FA4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0B9E-82FF-4596-B99A-4471C7BF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16F9-9A85-4F8A-9049-7E456E00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74F5-B51E-469D-AC1A-5DBE1004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86B4-2416-4B1B-8566-460956FF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52A-C3BA-442A-8180-929357A3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6E7C-9054-4509-81FF-3467839B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2717-FAB1-400D-91C6-F5B34C01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CB69-79CC-4D56-B90C-B411706A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3AC9-8B4B-4CCB-9EF8-D22CACE4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7380-34BB-445B-8D4B-21885FD9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5BF-69FD-4344-9B71-4AAA337D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153-370A-4C72-B6AF-01C56020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CE8-9468-4F38-B4C8-6805F6A8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555-B53C-4EF1-8DDB-B6C43361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904-3C89-428E-ABA9-2C84F4FD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7C3-6902-457C-8F0B-44B71BE5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344-2CE8-44B3-9580-B42EB58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74C0-71BB-4273-A9BD-E5C1DB8C2E3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0DF-FB22-4AFA-8C37-8688BB64CFB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440" y="1599840"/>
            <a:ext cx="7685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Century Gothic"/>
              </a:rPr>
              <a:t>Школьная форма:</a:t>
            </a:r>
            <a:br>
              <a:rPr sz="6000"/>
            </a:br>
            <a:r>
              <a:rPr b="1" i="1" lang="ru-RU" sz="6000" spc="-1" strike="noStrike">
                <a:solidFill>
                  <a:srgbClr val="333399"/>
                </a:solidFill>
                <a:latin typeface="Century Gothic"/>
              </a:rPr>
              <a:t>ЗА  и ПРОТИВ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4606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85440"/>
            <a:ext cx="7777080" cy="16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Gothic"/>
              </a:rPr>
              <a:t>Школьная форма до перестройки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средней школе форма оставалась без изменений, но появилась, наконец в 1987 и у девочек новая форма пионерская, которая состояла из белой блузки и серой юбк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9" descr="http://shzakl.luga.ru/files/kf2013/pics/suvorova3.jpg"/>
          <p:cNvPicPr/>
          <p:nvPr/>
        </p:nvPicPr>
        <p:blipFill>
          <a:blip r:embed="rId1"/>
          <a:stretch/>
        </p:blipFill>
        <p:spPr>
          <a:xfrm>
            <a:off x="2143080" y="2286000"/>
            <a:ext cx="59292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836640"/>
            <a:ext cx="7921440" cy="15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Gothic"/>
              </a:rPr>
              <a:t>Одежда школьников 90-х годов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сле распада Советского Союза в школах отказались от ношения обязательной школьной форм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91-ом году школьная форма была официально отменен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4" name="Содержимое 6" descr="img180.jpg"/>
          <p:cNvPicPr/>
          <p:nvPr/>
        </p:nvPicPr>
        <p:blipFill>
          <a:blip r:embed="rId1"/>
          <a:stretch/>
        </p:blipFill>
        <p:spPr>
          <a:xfrm>
            <a:off x="5076720" y="3645000"/>
            <a:ext cx="3457800" cy="247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992 10 класс"/>
          <p:cNvPicPr/>
          <p:nvPr/>
        </p:nvPicPr>
        <p:blipFill>
          <a:blip r:embed="rId2"/>
          <a:stretch/>
        </p:blipFill>
        <p:spPr>
          <a:xfrm>
            <a:off x="971640" y="2637000"/>
            <a:ext cx="396072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39620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Gothic"/>
              </a:rPr>
              <a:t>Современная школьная форма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Школьная форма сейчас пользуется популярностью. Да и дети очень красиво в ней выглядят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3880080" cy="286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blog_entry_116372"/>
          <p:cNvPicPr/>
          <p:nvPr/>
        </p:nvPicPr>
        <p:blipFill>
          <a:blip r:embed="rId2"/>
          <a:stretch/>
        </p:blipFill>
        <p:spPr>
          <a:xfrm>
            <a:off x="285840" y="3643200"/>
            <a:ext cx="3000240" cy="264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http://saroblnews.ru/files/pages/44336/1425295840general_pages_i44336_v_shkolnuu_formu_xotyat_obyazat_vshivat_svetootrajateli.jpg"/>
          <p:cNvPicPr/>
          <p:nvPr/>
        </p:nvPicPr>
        <p:blipFill>
          <a:blip r:embed="rId3"/>
          <a:stretch/>
        </p:blipFill>
        <p:spPr>
          <a:xfrm>
            <a:off x="714240" y="18572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http://region03.ru/uploads/posts/2015-05/1432619864_in_article_9bd530ee3f.jpg"/>
          <p:cNvPicPr/>
          <p:nvPr/>
        </p:nvPicPr>
        <p:blipFill>
          <a:blip r:embed="rId4"/>
          <a:stretch/>
        </p:blipFill>
        <p:spPr>
          <a:xfrm>
            <a:off x="6719760" y="1500120"/>
            <a:ext cx="2424240" cy="1928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5"/>
          <a:stretch/>
        </p:blipFill>
        <p:spPr>
          <a:xfrm>
            <a:off x="6715080" y="3357720"/>
            <a:ext cx="2127240" cy="319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https://im3-tub-ru.yandex.net/i?id=8684e2cd287aa2f17789ac51605ab633&amp;n=33&amp;h=215&amp;w=215"/>
          <p:cNvPicPr/>
          <p:nvPr/>
        </p:nvPicPr>
        <p:blipFill>
          <a:blip r:embed="rId6"/>
          <a:stretch/>
        </p:blipFill>
        <p:spPr>
          <a:xfrm>
            <a:off x="3643200" y="3929040"/>
            <a:ext cx="2714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http://region03.ru/uploads/posts/2015-05/1432619864_in_article_9bd530ee3f.jpg"/>
          <p:cNvPicPr/>
          <p:nvPr/>
        </p:nvPicPr>
        <p:blipFill>
          <a:blip r:embed="rId1"/>
          <a:stretch/>
        </p:blipFill>
        <p:spPr>
          <a:xfrm>
            <a:off x="714240" y="1143000"/>
            <a:ext cx="62150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https://im3-tub-ru.yandex.net/i?id=8684e2cd287aa2f17789ac51605ab633&amp;n=33&amp;h=215&amp;w=215"/>
          <p:cNvPicPr/>
          <p:nvPr/>
        </p:nvPicPr>
        <p:blipFill>
          <a:blip r:embed="rId1"/>
          <a:stretch/>
        </p:blipFill>
        <p:spPr>
          <a:xfrm>
            <a:off x="714240" y="357120"/>
            <a:ext cx="6000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78264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253280" cy="16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ледует помнить, что школьная форма – это не столько наряд, сколько повседневная одежда, в которой мы ходим шесть дней в недел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332000" y="2809800"/>
            <a:ext cx="45352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деальный вариант – это красивая, удобная и недорогая форма, состоящая из нескольких предметов одежды для разных времён год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3529080" cy="2977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4932360" y="3086280"/>
            <a:ext cx="3600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реимущества школьной фор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79440" y="1600200"/>
            <a:ext cx="42926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entury Gothic"/>
              </a:rPr>
              <a:t>   </a:t>
            </a:r>
            <a:r>
              <a:rPr b="0" lang="ru-RU" sz="1600" spc="-1" strike="noStrike">
                <a:solidFill>
                  <a:srgbClr val="009999"/>
                </a:solidFill>
                <a:latin typeface="Century Gothic"/>
              </a:rPr>
              <a:t>Аргументы «з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1. С отменой школьной формы школа превратилась в подиум по демонстрации разнообразных мод, все одеваются, как хот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2. Второй плюс школьной формы – это её дисциплинирующее воз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3. Школьная форма, как и всякая корпоративная одежда, способствует сплочению коллекти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4. Форма не отвлекает от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5. Когда привыкаешь. Приходит чувство стиля. Ведь деловые костюмы во взрослой жизни придётся носить регуляр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Недостатки школьной фор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Школьная форма подавляет индивидуальность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2.  Для подростка носить одежду, которая ему не нравится – это очень серьёзный стресс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3. Школьная форма – это неудобно и некрасиво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4200" y="856800"/>
            <a:ext cx="87156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«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Строгая одежда формируе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чистоту нравов, а легкомысленны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костюмы приводя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к легкомыслию тех, кто их носит.»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                             </a:t>
            </a:r>
            <a:r>
              <a:rPr b="1" lang="ru-RU" sz="3600" spc="-1" strike="noStrike">
                <a:solidFill>
                  <a:srgbClr val="002060"/>
                </a:solidFill>
                <a:latin typeface="Century Gothic"/>
              </a:rPr>
              <a:t>С.С.Уваров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2142720"/>
            <a:ext cx="7037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Gothic"/>
              </a:rPr>
              <a:t>Внешний вид должен быть безупречен во всем.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Century Gothic"/>
              </a:rPr>
              <a:t>Школа – не место для демонстрации дизайнерских изысков и экстравагантных иде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05760" y="5661000"/>
            <a:ext cx="7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2016 г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2" descr=""/>
          <p:cNvPicPr/>
          <p:nvPr/>
        </p:nvPicPr>
        <p:blipFill>
          <a:blip r:embed="rId1"/>
          <a:stretch/>
        </p:blipFill>
        <p:spPr>
          <a:xfrm>
            <a:off x="1279440" y="1895400"/>
            <a:ext cx="67978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074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Влияние одежды на поведение челове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685800"/>
            <a:ext cx="725004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Gothic"/>
              </a:rPr>
              <a:t>Обратимся к истокам</a:t>
            </a:r>
            <a:br>
              <a:rPr sz="32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а на школьную форму пришла в Россию из Англии в 1834году. Сначала для мальчик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28" descr="Antonoff"/>
          <p:cNvPicPr/>
          <p:nvPr/>
        </p:nvPicPr>
        <p:blipFill>
          <a:blip r:embed="rId1"/>
          <a:stretch/>
        </p:blipFill>
        <p:spPr>
          <a:xfrm>
            <a:off x="1116000" y="2565360"/>
            <a:ext cx="2247840" cy="3411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gimn2"/>
          <p:cNvPicPr/>
          <p:nvPr/>
        </p:nvPicPr>
        <p:blipFill>
          <a:blip r:embed="rId2"/>
          <a:stretch/>
        </p:blipFill>
        <p:spPr>
          <a:xfrm>
            <a:off x="3635280" y="2565360"/>
            <a:ext cx="1871640" cy="3430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01440" y="602064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сты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685800"/>
            <a:ext cx="806472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 1896году появилась форма для девочек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6" descr="forma_05"/>
          <p:cNvPicPr/>
          <p:nvPr/>
        </p:nvPicPr>
        <p:blipFill>
          <a:blip r:embed="rId1"/>
          <a:stretch/>
        </p:blipFill>
        <p:spPr>
          <a:xfrm>
            <a:off x="1258920" y="2349360"/>
            <a:ext cx="2378160" cy="3478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Алекс\Desktop\РАБОТА\ФОРМА школьная\6%20gim.jpg"/>
          <p:cNvPicPr/>
          <p:nvPr/>
        </p:nvPicPr>
        <p:blipFill>
          <a:blip r:embed="rId2"/>
          <a:stretch/>
        </p:blipFill>
        <p:spPr>
          <a:xfrm>
            <a:off x="3995640" y="2276640"/>
            <a:ext cx="2195640" cy="3476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418200" y="5876280"/>
            <a:ext cx="34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стки царской 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7770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entury Gothic"/>
              </a:rPr>
              <a:t>Форма в СССР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1948году, после войны, в школах было раздельное обучение 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640" y="587700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 в женской 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img6"/>
          <p:cNvPicPr/>
          <p:nvPr/>
        </p:nvPicPr>
        <p:blipFill>
          <a:blip r:embed="rId1"/>
          <a:stretch/>
        </p:blipFill>
        <p:spPr>
          <a:xfrm>
            <a:off x="1258920" y="2205000"/>
            <a:ext cx="55450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685440"/>
            <a:ext cx="7920000" cy="16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1948году в период всеобщего «обмундирования», когда ведомство за ведомством одевались в форму, в школах тоже была введена школьная фор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на фактически копировала фасон формы классических гимназий – и по цвету, и по покрою, и по аксессуара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Picture 12" descr="shf5"/>
          <p:cNvPicPr/>
          <p:nvPr/>
        </p:nvPicPr>
        <p:blipFill>
          <a:blip r:embed="rId1"/>
          <a:stretch/>
        </p:blipFill>
        <p:spPr>
          <a:xfrm>
            <a:off x="1258920" y="2565360"/>
            <a:ext cx="2212920" cy="355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24969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entury Gothic"/>
              </a:rPr>
              <a:t>Школа в 70- е год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1980 10 б"/>
          <p:cNvPicPr/>
          <p:nvPr/>
        </p:nvPicPr>
        <p:blipFill>
          <a:blip r:embed="rId1"/>
          <a:stretch/>
        </p:blipFill>
        <p:spPr>
          <a:xfrm>
            <a:off x="1187280" y="2205000"/>
            <a:ext cx="5256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685440"/>
            <a:ext cx="7921800" cy="16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1973году была введена новая школьная форма для мальчиков: костюм из синей полушерстяной ткани, с эмблемой и алюминиевыми пуговица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о форма девочек оставалась прежней: коричневые платья с фартуками: чёрным повседневным и белым парадным переднико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0" name="Picture 6" descr="http://fb.ru/misc/i/gallery/11340/88122.jpg"/>
          <p:cNvPicPr/>
          <p:nvPr/>
        </p:nvPicPr>
        <p:blipFill>
          <a:blip r:embed="rId1"/>
          <a:stretch/>
        </p:blipFill>
        <p:spPr>
          <a:xfrm>
            <a:off x="1500120" y="2500200"/>
            <a:ext cx="476244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1:15:28Z</dcterms:created>
  <dc:creator>SAMSUNG_User</dc:creator>
  <dc:description/>
  <dc:language>en-US</dc:language>
  <cp:lastModifiedBy>Ларионова</cp:lastModifiedBy>
  <dcterms:modified xsi:type="dcterms:W3CDTF">2016-11-23T18:57:49Z</dcterms:modified>
  <cp:revision>13</cp:revision>
  <dc:subject/>
  <dc:title>Школьная фор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