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55600" y="873000"/>
            <a:ext cx="4346640" cy="34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080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224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224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143000" y="68580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224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143000" y="685800"/>
            <a:ext cx="45640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224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224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143000" y="68580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224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143000" y="68580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224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143000" y="68580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224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43000" y="685800"/>
            <a:ext cx="4565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224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442800"/>
            <a:ext cx="780120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71400" y="4161960"/>
            <a:ext cx="7801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442800"/>
            <a:ext cx="780120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1400" y="4161960"/>
            <a:ext cx="38066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840" y="4161960"/>
            <a:ext cx="38066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442800"/>
            <a:ext cx="780120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17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9120" y="1906200"/>
            <a:ext cx="25117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6840" y="1906200"/>
            <a:ext cx="25117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71400" y="4161960"/>
            <a:ext cx="25117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9120" y="4161960"/>
            <a:ext cx="25117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6840" y="4161960"/>
            <a:ext cx="25117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1400" y="442800"/>
            <a:ext cx="780120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1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442800"/>
            <a:ext cx="780120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442800"/>
            <a:ext cx="780120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442800"/>
            <a:ext cx="780120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71400" y="442800"/>
            <a:ext cx="780120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442800"/>
            <a:ext cx="780120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71400" y="4161960"/>
            <a:ext cx="38066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442800"/>
            <a:ext cx="780120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840" y="4161960"/>
            <a:ext cx="38066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442800"/>
            <a:ext cx="780120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1400" y="4161960"/>
            <a:ext cx="7801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1400" y="442800"/>
            <a:ext cx="780120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1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0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89160" indent="-212760">
              <a:lnSpc>
                <a:spcPct val="90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720800" indent="-209520">
              <a:lnSpc>
                <a:spcPct val="90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152800" indent="-211320">
              <a:lnSpc>
                <a:spcPct val="90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152800" indent="-2113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152800" indent="-2113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6770520" y="4381560"/>
            <a:ext cx="2373480" cy="23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"/>
          <p:cNvSpPr/>
          <p:nvPr/>
        </p:nvSpPr>
        <p:spPr>
          <a:xfrm>
            <a:off x="324000" y="5950080"/>
            <a:ext cx="344160" cy="32832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2"/>
          <p:cNvSpPr/>
          <p:nvPr/>
        </p:nvSpPr>
        <p:spPr>
          <a:xfrm>
            <a:off x="4427640" y="2997360"/>
            <a:ext cx="360360" cy="43308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080"/>
              <a:gd name="textAreaBottom" fmla="*/ 2545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2411280" y="6021360"/>
            <a:ext cx="344520" cy="32868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851280" y="4653000"/>
            <a:ext cx="344520" cy="32868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4572000" y="5589720"/>
            <a:ext cx="344520" cy="32832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826920" y="620640"/>
            <a:ext cx="344520" cy="32868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5724360" y="436572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8317080" y="256536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2050920" y="119700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1042920" y="580536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179280" y="6524640"/>
            <a:ext cx="260676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WordArt 13"/>
          <p:cNvSpPr txBox="1"/>
          <p:nvPr/>
        </p:nvSpPr>
        <p:spPr>
          <a:xfrm>
            <a:off x="720720" y="0"/>
            <a:ext cx="8101080" cy="61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Picture 14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5"/>
          <p:cNvSpPr/>
          <p:nvPr/>
        </p:nvSpPr>
        <p:spPr>
          <a:xfrm>
            <a:off x="720720" y="990720"/>
            <a:ext cx="755964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 – альб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Династия педагогов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ца 6 «а» клас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У « СОШ № 1 р.п. Дергачи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люкина Екатер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324000" y="5950080"/>
            <a:ext cx="344160" cy="32832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4427640" y="2997360"/>
            <a:ext cx="360360" cy="43308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080"/>
              <a:gd name="textAreaBottom" fmla="*/ 2545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2411280" y="6021360"/>
            <a:ext cx="344520" cy="32868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3851280" y="4653000"/>
            <a:ext cx="344520" cy="32868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4572000" y="5589720"/>
            <a:ext cx="344520" cy="32832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826920" y="620640"/>
            <a:ext cx="344520" cy="32868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724360" y="436572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8317080" y="256536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2050920" y="119700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1"/>
          <p:cNvSpPr/>
          <p:nvPr/>
        </p:nvSpPr>
        <p:spPr>
          <a:xfrm>
            <a:off x="1042920" y="5805360"/>
            <a:ext cx="360360" cy="433440"/>
          </a:xfrm>
          <a:custGeom>
            <a:avLst/>
            <a:gdLst>
              <a:gd name="textAreaLeft" fmla="*/ 148320 w 360360"/>
              <a:gd name="textAreaRight" fmla="*/ 212040 w 36036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WordArt 12"/>
          <p:cNvSpPr txBox="1"/>
          <p:nvPr/>
        </p:nvSpPr>
        <p:spPr>
          <a:xfrm>
            <a:off x="179280" y="6524640"/>
            <a:ext cx="260676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13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" name="WordArt 14"/>
          <p:cNvSpPr txBox="1"/>
          <p:nvPr/>
        </p:nvSpPr>
        <p:spPr>
          <a:xfrm>
            <a:off x="720720" y="0"/>
            <a:ext cx="8101080" cy="61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4" name="Picture 15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6"/>
          <p:cNvSpPr/>
          <p:nvPr/>
        </p:nvSpPr>
        <p:spPr>
          <a:xfrm>
            <a:off x="720720" y="990720"/>
            <a:ext cx="755964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х много —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урносых, несхожих,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летающих в школу гурьбой.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 с ними непросто. И все же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уше его дорог — любой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evt="end">
                                        <p:tn val="68"/>
                                      </p:cond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74"/>
                                      </p:cond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evt="end">
                                        <p:tn val="80"/>
                                      </p:cond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-144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517680" y="1079640"/>
            <a:ext cx="83023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Рисунок 9" descr=""/>
          <p:cNvPicPr/>
          <p:nvPr/>
        </p:nvPicPr>
        <p:blipFill>
          <a:blip r:embed="rId2"/>
          <a:stretch/>
        </p:blipFill>
        <p:spPr>
          <a:xfrm rot="21417600">
            <a:off x="611280" y="1773000"/>
            <a:ext cx="3887640" cy="30528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4831560" y="2924280"/>
            <a:ext cx="33004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улин Михаил Андреевич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 учитель начальных классов) ( в очках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улина Евдокия Лаврентьевн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учитель начальных классов)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900000" y="1440000"/>
            <a:ext cx="720108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улин Лаврентий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ндреевич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учитель начальны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лассов) его жена Анна Яковлевн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ервый ряд с права на лево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улин Дмитрий Лаврентьевич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учитель начальных классов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улина Елена Ивановн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учитель начальных классов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второй ряд с права на лево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ехова Елизавета Петровн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учитель русского языка и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тературы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 второй ряд с лево на право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Рисунок 1" descr=""/>
          <p:cNvPicPr/>
          <p:nvPr/>
        </p:nvPicPr>
        <p:blipFill>
          <a:blip r:embed="rId2"/>
          <a:stretch/>
        </p:blipFill>
        <p:spPr>
          <a:xfrm rot="21313800">
            <a:off x="539280" y="1844280"/>
            <a:ext cx="410544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9280"/>
            <a:ext cx="77709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5c8526"/>
                </a:solidFill>
                <a:latin typeface="Tahoma"/>
              </a:rPr>
              <a:t>Пояснительная запис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144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7559640" y="2340000"/>
            <a:ext cx="181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319640" y="1619280"/>
            <a:ext cx="181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979640" y="1403280"/>
            <a:ext cx="1810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319640" y="2519280"/>
            <a:ext cx="1810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060720" y="2340000"/>
            <a:ext cx="181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-252360" y="1268280"/>
            <a:ext cx="860436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ланова Александра Васильевн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 учитель начальных  классов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Рисунок 12" descr=""/>
          <p:cNvPicPr/>
          <p:nvPr/>
        </p:nvPicPr>
        <p:blipFill>
          <a:blip r:embed="rId2"/>
          <a:stretch/>
        </p:blipFill>
        <p:spPr>
          <a:xfrm>
            <a:off x="1258920" y="1341360"/>
            <a:ext cx="2009880" cy="4019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85800" y="539640"/>
            <a:ext cx="777096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5c8526"/>
                </a:solidFill>
                <a:latin typeface="Tahoma"/>
              </a:rPr>
              <a:t>Пояснительная запис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116000" y="836640"/>
            <a:ext cx="6840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559640" y="2340000"/>
            <a:ext cx="181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319640" y="1619280"/>
            <a:ext cx="181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979640" y="1403280"/>
            <a:ext cx="1810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319640" y="2519280"/>
            <a:ext cx="1810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060720" y="2340000"/>
            <a:ext cx="181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39640" y="1260360"/>
            <a:ext cx="860436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403280" y="1979640"/>
            <a:ext cx="181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160720" y="1979640"/>
            <a:ext cx="1807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440000" y="1968480"/>
            <a:ext cx="1807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512640" y="1312920"/>
            <a:ext cx="812484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идоров Петр Алексеевич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учитель черчения и изобразительного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кусств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ехова Елизавета Петровн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 Сидорова) ( учитель русского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зыка и литературы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Второй ряд с лева на  право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Рисунок 10" descr=""/>
          <p:cNvPicPr/>
          <p:nvPr/>
        </p:nvPicPr>
        <p:blipFill>
          <a:blip r:embed="rId2"/>
          <a:stretch/>
        </p:blipFill>
        <p:spPr>
          <a:xfrm rot="20952000">
            <a:off x="323640" y="1699920"/>
            <a:ext cx="4686120" cy="3524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517680" y="1079640"/>
            <a:ext cx="83023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20720" y="798480"/>
            <a:ext cx="7920000" cy="53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2323dc"/>
                </a:solidFill>
                <a:latin typeface="Verdana"/>
              </a:rPr>
              <a:t>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160720" y="1260360"/>
            <a:ext cx="1807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480000" y="3419640"/>
            <a:ext cx="181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Рисунок 8" descr=""/>
          <p:cNvPicPr/>
          <p:nvPr/>
        </p:nvPicPr>
        <p:blipFill>
          <a:blip r:embed="rId2"/>
          <a:stretch/>
        </p:blipFill>
        <p:spPr>
          <a:xfrm rot="21058200">
            <a:off x="971640" y="1628640"/>
            <a:ext cx="2448000" cy="33148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8"/>
          <p:cNvSpPr/>
          <p:nvPr/>
        </p:nvSpPr>
        <p:spPr>
          <a:xfrm>
            <a:off x="4258080" y="3204720"/>
            <a:ext cx="382320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идорова Людмила Владимировн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учитель физики МОУ «СОШ№1 р.п.Дергачи»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517680" y="1079640"/>
            <a:ext cx="83023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20720" y="798480"/>
            <a:ext cx="7920000" cy="53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2323dc"/>
                </a:solidFill>
                <a:latin typeface="Verdana"/>
              </a:rPr>
              <a:t>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160720" y="1260360"/>
            <a:ext cx="1807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480000" y="3419640"/>
            <a:ext cx="181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915720" y="3027240"/>
            <a:ext cx="44524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люкина Наталья Валентиновн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учитель истории 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ществозна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У «СОШ №1 р.п Дергачи»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2" descr="я"/>
          <p:cNvPicPr/>
          <p:nvPr/>
        </p:nvPicPr>
        <p:blipFill>
          <a:blip r:embed="rId2">
            <a:alphaModFix amt="80000"/>
          </a:blip>
          <a:stretch/>
        </p:blipFill>
        <p:spPr>
          <a:xfrm rot="21208800">
            <a:off x="826560" y="1196640"/>
            <a:ext cx="2711520" cy="396864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517680" y="1079640"/>
            <a:ext cx="83023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20720" y="798480"/>
            <a:ext cx="7920000" cy="53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2323dc"/>
                </a:solidFill>
                <a:latin typeface="Verdana"/>
              </a:rPr>
              <a:t>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160720" y="1260360"/>
            <a:ext cx="1807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480000" y="3419640"/>
            <a:ext cx="181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1143000" y="928800"/>
            <a:ext cx="282888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лин Лаврентий Андреевич (зять моей бабушки,женат на родной сестре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4929120" y="928800"/>
            <a:ext cx="3095640" cy="74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лин Михаил Андреевич (родной брат Лаврентия Андреевич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7" name="AutoShape 24"/>
          <p:cNvCxnSpPr/>
          <p:nvPr/>
        </p:nvCxnSpPr>
        <p:spPr>
          <a:xfrm flipH="1">
            <a:off x="64800" y="1582200"/>
            <a:ext cx="334080" cy="112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AutoShape 23"/>
          <p:cNvCxnSpPr/>
          <p:nvPr/>
        </p:nvCxnSpPr>
        <p:spPr>
          <a:xfrm>
            <a:off x="2499840" y="1571760"/>
            <a:ext cx="315000" cy="11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Rectangle 22"/>
          <p:cNvSpPr/>
          <p:nvPr/>
        </p:nvSpPr>
        <p:spPr>
          <a:xfrm>
            <a:off x="3000240" y="4071960"/>
            <a:ext cx="2819520" cy="54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ехова (Сидорова ) Елизавета Петровн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лемянниц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571680" y="4071960"/>
            <a:ext cx="2076120" cy="54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доров Петр Алексеевич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1" name="AutoShape 20"/>
          <p:cNvCxnSpPr/>
          <p:nvPr/>
        </p:nvCxnSpPr>
        <p:spPr>
          <a:xfrm>
            <a:off x="2714400" y="428580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AutoShape 19"/>
          <p:cNvCxnSpPr/>
          <p:nvPr/>
        </p:nvCxnSpPr>
        <p:spPr>
          <a:xfrm>
            <a:off x="2785680" y="4357440"/>
            <a:ext cx="1044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Rectangle 18"/>
          <p:cNvSpPr/>
          <p:nvPr/>
        </p:nvSpPr>
        <p:spPr>
          <a:xfrm>
            <a:off x="642960" y="4929120"/>
            <a:ext cx="3114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дорова Людмила Владимировна(Снох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4643280" y="5072040"/>
            <a:ext cx="341028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люкина Наталья Валентиновна(Племянниц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500040" y="2214720"/>
            <a:ext cx="2019240" cy="54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лин  Дмитрий  Лаврентьевич(Сы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500040" y="2786040"/>
            <a:ext cx="201924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лина Елена Ивановна(Сноха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2643120" y="2214720"/>
            <a:ext cx="200016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лина Евдокия Лаврентьевна(Доч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6084720" y="4071960"/>
            <a:ext cx="2487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рланов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Александр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асильевна(Племянниц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AutoShape 12"/>
          <p:cNvCxnSpPr/>
          <p:nvPr/>
        </p:nvCxnSpPr>
        <p:spPr>
          <a:xfrm>
            <a:off x="4000320" y="1499760"/>
            <a:ext cx="2696040" cy="255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AutoShape 11"/>
          <p:cNvCxnSpPr/>
          <p:nvPr/>
        </p:nvCxnSpPr>
        <p:spPr>
          <a:xfrm>
            <a:off x="3714480" y="1571400"/>
            <a:ext cx="819720" cy="26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10"/>
          <p:cNvCxnSpPr/>
          <p:nvPr/>
        </p:nvCxnSpPr>
        <p:spPr>
          <a:xfrm flipH="1">
            <a:off x="6428880" y="4429080"/>
            <a:ext cx="65808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9"/>
          <p:cNvCxnSpPr/>
          <p:nvPr/>
        </p:nvCxnSpPr>
        <p:spPr>
          <a:xfrm>
            <a:off x="5214600" y="4429080"/>
            <a:ext cx="94356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Rectangle 27"/>
          <p:cNvSpPr/>
          <p:nvPr/>
        </p:nvSpPr>
        <p:spPr>
          <a:xfrm>
            <a:off x="3435840" y="642960"/>
            <a:ext cx="21178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ская династ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38"/>
          <p:cNvSpPr/>
          <p:nvPr/>
        </p:nvSpPr>
        <p:spPr>
          <a:xfrm>
            <a:off x="51588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7XP</cp:lastModifiedBy>
  <dcterms:modified xsi:type="dcterms:W3CDTF">2016-11-16T09:48:45Z</dcterms:modified>
  <cp:revision>5</cp:revision>
  <dc:subject/>
  <dc:title>В солнечном царстве -  космическом государстве</dc:title>
</cp:coreProperties>
</file>