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B2EF-5250-4C67-9EDC-C5A13D8EF8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2EE9-D834-483E-8A78-F952B4076A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6043-37D0-443F-AD4D-6B0DCADDCA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8F50-9946-40B5-82B0-214FF4F2F5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16E8-68BC-4615-9CFC-51B12494A5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D06E-19F5-4D18-BFE3-1E169D5D9F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24D-9A78-424A-A95E-E05B272F67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4C1F-BD81-42BF-815B-5B381E06E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161C-1B4C-4781-83E3-35107145C3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9B1-972B-474D-94C5-0B44C134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8AE-FF1A-423A-A5FB-904068B2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763-7C00-4D09-9C6A-5D5AF4A5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9FF-9045-4D5F-A1B0-1A8170BE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797B-B7FC-4385-8005-A853A12E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ACD7-47FF-4AE1-8DE5-97B379DC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E064-5055-4D38-A197-872AA784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9625-D6AD-4C7C-841A-1C698433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F26C-10BB-4247-A099-128AF916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046-514B-4559-A8CC-31D844B2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1F24-D1A8-4847-BB58-04BE6F82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84E-30CC-41AD-B671-0DCC5EC4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D1E-D332-48F8-8591-7F4E2318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31C8-7364-4E2C-AEFB-FFD9422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F9F3-DA09-430C-A990-4261558B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B736-3709-4007-8B7E-5902FB91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0041-75C2-486A-ABDD-ED33494E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509D-CC7E-403F-9A80-A3750A7D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4E16-EBED-4909-9827-54269943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AD3C-8A30-4139-9B7F-137ECE0A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B4F6-69EE-4A76-A0E1-85AF34FB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8E90-C77B-4742-8755-BD5549EC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02E-1418-40D6-BBEF-9A2E81F1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ADEB-73BA-4373-81F3-16DE8847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87867-839E-4568-98A5-99EECBB0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12DF-50C0-43C9-9945-173CE09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21A6-5074-4CA3-AC5F-028AB9CC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8FD2-7177-41BD-AE9B-708AE518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BC70-7271-41A9-ADAA-D8EB4F9A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3F1B-6597-45AB-BE95-4FD5F4C6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99E4-E8E4-4D59-9E8A-49A433EE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CA977-1C0A-4FBA-9831-C8A7C5C2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4DEF-575F-4C61-8F6A-55BD6DB8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F9A-41B9-41CE-8CF3-FBAC040E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B892C-FF97-4C57-ABEF-69ED78AA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89201-5B38-4693-857B-E179D6E8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FDB6-58A8-4467-A52E-335EC1A5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C7B2-C510-4FEA-8803-60A261C7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ADBF-3908-4A0E-8BE7-82B861BF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D86F4-2F02-40E5-963F-07ABE59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5787-5375-4522-88CC-799AB588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3D86-982F-4D13-816A-DEF387CD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36C2C-C1B9-4167-94EB-38F0A211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C47-EC99-42E7-BF3F-B8992D3C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65F-4074-463D-9675-B53C2580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353-8EF0-45E5-8FC6-7317F915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5A6-CFF4-4533-A90C-DA239F21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6CB-E8EF-41E2-80F2-6E7E24C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E3E8-D2D7-4E54-8F2A-CF7BE9D077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E482-DEA0-4312-8AB4-B5449F26D73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7966-D667-499E-B499-F6831E264E0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B8CC-E72E-40C4-BEA8-60B7D919346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1"/>
          <a:stretch/>
        </p:blipFill>
        <p:spPr>
          <a:xfrm>
            <a:off x="476280" y="1328760"/>
            <a:ext cx="8448480" cy="3365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99720" y="4857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туан де Сент-Экзюпер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1500120" y="4286160"/>
          <a:ext cx="1695600" cy="222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4286160"/>
                    <a:ext cx="1695600" cy="22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1720" y="5285880"/>
            <a:ext cx="8215200" cy="93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ДА – СОК ЖИЗНИ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4" descr="woman_drinking_water.jpg"/>
          <p:cNvPicPr/>
          <p:nvPr/>
        </p:nvPicPr>
        <p:blipFill>
          <a:blip r:embed="rId1"/>
          <a:srcRect l="13697" t="0" r="13697" b="0"/>
          <a:stretch/>
        </p:blipFill>
        <p:spPr>
          <a:xfrm rot="420000">
            <a:off x="4619520" y="634680"/>
            <a:ext cx="3981600" cy="33894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Рисунок 5" descr="1236982.jpg"/>
          <p:cNvPicPr/>
          <p:nvPr/>
        </p:nvPicPr>
        <p:blipFill>
          <a:blip r:embed="rId1"/>
          <a:srcRect l="9598" t="0" r="9598" b="0"/>
          <a:stretch/>
        </p:blipFill>
        <p:spPr>
          <a:xfrm rot="420000">
            <a:off x="3682800" y="1280880"/>
            <a:ext cx="3960720" cy="33699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12" name="Заголовок 1"/>
          <p:cNvSpPr/>
          <p:nvPr/>
        </p:nvSpPr>
        <p:spPr>
          <a:xfrm>
            <a:off x="1071720" y="5286240"/>
            <a:ext cx="82152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ОДА – СОК ЖИЗ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426960" y="573120"/>
            <a:ext cx="8309160" cy="15303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2"/>
          <p:cNvSpPr/>
          <p:nvPr/>
        </p:nvSpPr>
        <p:spPr>
          <a:xfrm>
            <a:off x="428760" y="2357280"/>
            <a:ext cx="2357280" cy="1643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А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3"/>
          <p:cNvSpPr/>
          <p:nvPr/>
        </p:nvSpPr>
        <p:spPr>
          <a:xfrm>
            <a:off x="1571760" y="4572000"/>
            <a:ext cx="2357280" cy="1643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ЧИ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3500280" y="2357280"/>
            <a:ext cx="2357640" cy="1643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6500880" y="2286000"/>
            <a:ext cx="2357280" cy="1643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5072040" y="4500720"/>
            <a:ext cx="2357640" cy="1643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ЖА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8"/>
          <p:cNvCxnSpPr/>
          <p:nvPr/>
        </p:nvCxnSpPr>
        <p:spPr>
          <a:xfrm flipH="1">
            <a:off x="2214000" y="1571760"/>
            <a:ext cx="1500840" cy="643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Прямая со стрелкой 10"/>
          <p:cNvCxnSpPr/>
          <p:nvPr/>
        </p:nvCxnSpPr>
        <p:spPr>
          <a:xfrm>
            <a:off x="5500800" y="1642680"/>
            <a:ext cx="142920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1" name="Прямая со стрелкой 12"/>
          <p:cNvCxnSpPr>
            <a:stCxn id="213" idx="2"/>
          </p:cNvCxnSpPr>
          <p:nvPr/>
        </p:nvCxnSpPr>
        <p:spPr>
          <a:xfrm flipH="1">
            <a:off x="4542840" y="1714320"/>
            <a:ext cx="38520" cy="510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2" name="Прямая со стрелкой 17"/>
          <p:cNvCxnSpPr/>
          <p:nvPr/>
        </p:nvCxnSpPr>
        <p:spPr>
          <a:xfrm flipH="1">
            <a:off x="2642760" y="1714680"/>
            <a:ext cx="1286640" cy="2715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3" name="Прямая со стрелкой 19"/>
          <p:cNvCxnSpPr/>
          <p:nvPr/>
        </p:nvCxnSpPr>
        <p:spPr>
          <a:xfrm>
            <a:off x="4929120" y="1785960"/>
            <a:ext cx="1572480" cy="2643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G:\11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G:\1192847855_p6.jpg"/>
          <p:cNvPicPr/>
          <p:nvPr/>
        </p:nvPicPr>
        <p:blipFill>
          <a:blip r:embed="rId1"/>
          <a:stretch/>
        </p:blipFill>
        <p:spPr>
          <a:xfrm>
            <a:off x="428760" y="142920"/>
            <a:ext cx="82152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G:\post-6-11948950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G:\105_8_070212.jpg"/>
          <p:cNvPicPr/>
          <p:nvPr/>
        </p:nvPicPr>
        <p:blipFill>
          <a:blip r:embed="rId1"/>
          <a:stretch/>
        </p:blipFill>
        <p:spPr>
          <a:xfrm>
            <a:off x="357120" y="428760"/>
            <a:ext cx="85456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00:34Z</dcterms:created>
  <dc:creator>USER_PC</dc:creator>
  <dc:description/>
  <dc:language>en-US</dc:language>
  <cp:lastModifiedBy>нина</cp:lastModifiedBy>
  <dcterms:modified xsi:type="dcterms:W3CDTF">2016-11-25T07:21:18Z</dcterms:modified>
  <cp:revision>33</cp:revision>
  <dc:subject/>
  <dc:title>            "Вода, у тебя нет ни вкуса, ни цвета, ни запаха. Тебя невозможно описать, тобой наслаждаются, не ведая, что ты такое! Нельзя сказать, что ты необходима для жизни: ты – сама жизнь. Ты самое большое богатство на свете.</dc:title>
</cp:coreProperties>
</file>