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15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12.jpeg" ContentType="image/jpeg"/>
  <Override PartName="/ppt/media/image6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CDB6-B2B5-4A23-9FEC-DDD1B3C2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4CA0-7BE2-42A6-BFE2-D606B2B8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0720-D5CD-4EFB-9B73-6F67947B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6C4-FA38-49AA-962B-810905FF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DE24-B05B-4EC2-B659-1BA2E4E5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1ACD-EA77-4E0A-BCB1-D87C0293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CCC2-29BB-4A9D-BFA9-FA7FE2CC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6E46-DD4A-4B53-8907-6098598B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37B0-6B11-4587-9632-1EAA8C36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6746-50EE-438E-BEAE-D3A3B286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5622-E717-4282-9934-AB824AB5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9D6-C065-40FC-B818-0B1BE3C1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94BE-1BA7-4290-94EF-2318FE40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FD95-958F-4722-BA5C-AC85EA1A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28F2-AAF3-4F93-BB72-F1768A32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5682-138E-40E7-A5BD-FD6C10B0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7D0A-3A7F-43E0-A90C-35106CE5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90C-B3B7-4C6B-A94F-17B05C1E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0E7-FF3D-4E19-B490-39BAAE14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1C5-B65C-47C1-9E4D-939C877E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3362-F1E9-4355-A587-D7781CDC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199-5217-42B7-ACF2-1F68DFB1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56A-F4F4-4648-82E4-2CBE9559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2EBC-0CDE-4A1F-9048-45FCCDDB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4EE8-0F97-43BE-BEBA-E8008400E51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CF33-29A0-4676-B4DE-B97AC99B405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ма: «Закрепить знания таблицы умножения и деления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исел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2,3.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6560" y="277920"/>
            <a:ext cx="82202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569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ерь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∙ 2=10        3 ∙ 6=18         8 ∙ 2 = 1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∙2=14         18 : 3=6          7∙ 3 = 2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2:2=6         24 : 3 = 8       21 :3 = 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:2=3           5 ∙ 3 =  15      14 :2 = 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4" descr="00015681"/>
          <p:cNvPicPr/>
          <p:nvPr/>
        </p:nvPicPr>
        <p:blipFill>
          <a:blip r:embed="rId1"/>
          <a:stretch/>
        </p:blipFill>
        <p:spPr>
          <a:xfrm>
            <a:off x="179280" y="4005360"/>
            <a:ext cx="2772000" cy="2574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00018435"/>
          <p:cNvPicPr/>
          <p:nvPr/>
        </p:nvPicPr>
        <p:blipFill>
          <a:blip r:embed="rId2"/>
          <a:stretch/>
        </p:blipFill>
        <p:spPr>
          <a:xfrm>
            <a:off x="3419640" y="4005360"/>
            <a:ext cx="2592360" cy="24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00018366"/>
          <p:cNvPicPr/>
          <p:nvPr/>
        </p:nvPicPr>
        <p:blipFill>
          <a:blip r:embed="rId3"/>
          <a:stretch/>
        </p:blipFill>
        <p:spPr>
          <a:xfrm>
            <a:off x="6372360" y="4005360"/>
            <a:ext cx="252072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ерь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5 ∙ 2)+46 = 56         (19 + 2) : 3 = 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15 : 3) ∙ 2 = 10         (18 :2) – 9 = 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4" descr="00018444"/>
          <p:cNvPicPr/>
          <p:nvPr/>
        </p:nvPicPr>
        <p:blipFill>
          <a:blip r:embed="rId1"/>
          <a:stretch/>
        </p:blipFill>
        <p:spPr>
          <a:xfrm>
            <a:off x="1116000" y="3357720"/>
            <a:ext cx="69343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88,…,…,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,…,47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,25,…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машнее задание.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ставь задачу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ови зимние месяцы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дней длится зима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кабрь-31 день.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нварь-31 ден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Февраль-28 дн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Закрепить навыки умножения и деления чисел 2,3.Отрабатывать навык сложения и вычитания чисел в пределах 100, умение решать задач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Продолжить работу по изучению геометрического материал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Закрепить знания таблицы умножен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 дел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Способствовать развитию логическог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ышления; математической зоркости, смекалки, речи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.Воспитывать любовь к сказкам, развивать творчество учащих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гадай загадку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это маст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ёкла нанё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стья, и травы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росли роз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5" descr="j0299587"/>
          <p:cNvPicPr/>
          <p:nvPr/>
        </p:nvPicPr>
        <p:blipFill>
          <a:blip r:embed="rId1"/>
          <a:stretch/>
        </p:blipFill>
        <p:spPr>
          <a:xfrm>
            <a:off x="6732720" y="1773360"/>
            <a:ext cx="1827000" cy="1823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j0299587"/>
          <p:cNvPicPr/>
          <p:nvPr/>
        </p:nvPicPr>
        <p:blipFill>
          <a:blip r:embed="rId2"/>
          <a:stretch/>
        </p:blipFill>
        <p:spPr>
          <a:xfrm>
            <a:off x="3708360" y="4076640"/>
            <a:ext cx="1827360" cy="1824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j0183290"/>
          <p:cNvPicPr/>
          <p:nvPr/>
        </p:nvPicPr>
        <p:blipFill>
          <a:blip r:embed="rId3"/>
          <a:stretch/>
        </p:blipFill>
        <p:spPr>
          <a:xfrm>
            <a:off x="4427640" y="1484280"/>
            <a:ext cx="1724040" cy="184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штрихуйте место пересечения фигур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773360"/>
          <a:ext cx="8075520" cy="4464000"/>
        </p:xfrm>
        <a:graphic>
          <a:graphicData uri="http://schemas.openxmlformats.org/drawingml/2006/table">
            <a:tbl>
              <a:tblPr/>
              <a:tblGrid>
                <a:gridCol w="2819520"/>
                <a:gridCol w="2879640"/>
                <a:gridCol w="237636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Object 21"/>
          <p:cNvGraphicFramePr/>
          <p:nvPr/>
        </p:nvGraphicFramePr>
        <p:xfrm>
          <a:off x="1116000" y="1989000"/>
          <a:ext cx="1668600" cy="16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89000"/>
                    <a:ext cx="1668600" cy="16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4"/>
          <p:cNvGraphicFramePr/>
          <p:nvPr/>
        </p:nvGraphicFramePr>
        <p:xfrm>
          <a:off x="3492360" y="4297320"/>
          <a:ext cx="2195640" cy="145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297320"/>
                    <a:ext cx="2195640" cy="14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Oval 26"/>
          <p:cNvSpPr/>
          <p:nvPr/>
        </p:nvSpPr>
        <p:spPr>
          <a:xfrm>
            <a:off x="1187280" y="4292640"/>
            <a:ext cx="136872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7"/>
          <p:cNvSpPr/>
          <p:nvPr/>
        </p:nvSpPr>
        <p:spPr>
          <a:xfrm>
            <a:off x="1619280" y="4724280"/>
            <a:ext cx="55404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29"/>
          <p:cNvSpPr/>
          <p:nvPr/>
        </p:nvSpPr>
        <p:spPr>
          <a:xfrm rot="10800000">
            <a:off x="3779640" y="22050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Line 30"/>
          <p:cNvSpPr/>
          <p:nvPr/>
        </p:nvSpPr>
        <p:spPr>
          <a:xfrm>
            <a:off x="4356000" y="321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Line 31"/>
          <p:cNvSpPr/>
          <p:nvPr/>
        </p:nvSpPr>
        <p:spPr>
          <a:xfrm flipV="1">
            <a:off x="4356000" y="2060280"/>
            <a:ext cx="5050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4861080" y="2060640"/>
            <a:ext cx="43164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Object 39"/>
          <p:cNvGraphicFramePr/>
          <p:nvPr/>
        </p:nvGraphicFramePr>
        <p:xfrm>
          <a:off x="6588000" y="4657680"/>
          <a:ext cx="1656000" cy="108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Object 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0" y="4657680"/>
                    <a:ext cx="165600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41"/>
          <p:cNvGraphicFramePr/>
          <p:nvPr/>
        </p:nvGraphicFramePr>
        <p:xfrm>
          <a:off x="6659640" y="2205000"/>
          <a:ext cx="1332000" cy="97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Object 4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640" y="2205000"/>
                    <a:ext cx="13320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зовите числа, которые делятся на 2 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12 ,1, 14, 18, 10, 3, 8, 25, 21, 16</a:t>
            </a: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йдите сегодняшнюю дату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Verdana"/>
              </a:rPr>
              <a:t>12, 1, 14, 18. 10, 3, 8, 25, 21, 16. 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убой бубенчи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лугу стои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д песню вет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ело звени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цвет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ые ресничк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ёлтый глазо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4" descr="00042000"/>
          <p:cNvPicPr/>
          <p:nvPr/>
        </p:nvPicPr>
        <p:blipFill>
          <a:blip r:embed="rId1"/>
          <a:stretch/>
        </p:blipFill>
        <p:spPr>
          <a:xfrm>
            <a:off x="6443640" y="3645000"/>
            <a:ext cx="2490840" cy="3024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00042075"/>
          <p:cNvPicPr/>
          <p:nvPr/>
        </p:nvPicPr>
        <p:blipFill>
          <a:blip r:embed="rId2"/>
          <a:stretch/>
        </p:blipFill>
        <p:spPr>
          <a:xfrm>
            <a:off x="6516720" y="189000"/>
            <a:ext cx="235584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17:34:00Z</dcterms:created>
  <dc:creator>Панин</dc:creator>
  <dc:description/>
  <dc:language>en-US</dc:language>
  <cp:lastModifiedBy>User</cp:lastModifiedBy>
  <dcterms:modified xsi:type="dcterms:W3CDTF">2016-11-25T04:34:33Z</dcterms:modified>
  <cp:revision>15</cp:revision>
  <dc:subject/>
  <dc:title>Тема: «Закрепить знания таблицы умножения и деления числа 2,3. </dc:title>
</cp:coreProperties>
</file>