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6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.png" ContentType="image/png"/>
  <Override PartName="/ppt/media/image25.jpeg" ContentType="image/jpeg"/>
  <Override PartName="/ppt/media/image9.jpeg" ContentType="image/jpeg"/>
  <Override PartName="/ppt/media/image11.png" ContentType="image/png"/>
  <Override PartName="/ppt/media/image27.png" ContentType="image/png"/>
  <Override PartName="/ppt/media/image4.png" ContentType="image/png"/>
  <Override PartName="/ppt/media/image5.png" ContentType="image/png"/>
  <Override PartName="/ppt/media/image29.jpeg" ContentType="image/jpeg"/>
  <Override PartName="/ppt/media/image8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png" ContentType="image/png"/>
  <Override PartName="/ppt/media/image33.png" ContentType="image/png"/>
  <Override PartName="/ppt/media/image14.jpeg" ContentType="image/jpeg"/>
  <Override PartName="/ppt/media/image30.png" ContentType="image/png"/>
  <Override PartName="/ppt/media/image3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6.jpeg" ContentType="image/jpe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0.png" ContentType="image/png"/>
  <Override PartName="/ppt/media/image28.jpeg" ContentType="image/jpeg"/>
  <Override PartName="/ppt/media/image2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30AC-63A6-43D8-A337-97BB67E49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FF9D-31D7-4F70-8908-E99AED954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D1C3-B080-470A-AEE3-211C13D88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905F-C74A-4294-B5CB-996EE0832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F67C6-5EAA-4357-854D-D5A53378F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2847A-DB39-4328-ACB7-1BDC28652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EF4A0-9790-4FAE-8ABA-AFFF71C28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E3A76-4066-4C17-A816-929B4ADDC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8C2B1-1B36-4DD1-ABB7-9F63F8E18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34AE6-5CD3-4DCC-90B2-4B60D0990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4F1B3-D32E-453F-8098-B33E7ED8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76C3-C5E8-44EE-B4FF-E8C8FE530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9977E-2CA7-45B9-BF4D-DBBFFFAF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19184-D1D8-4ACE-A645-5FF8ED12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2227D-554A-4161-9132-73E1F5D1F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5BA3F-9B96-4931-B333-7D3B78490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80F6C-37D5-4433-B297-34C09A4A8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993F6D-8935-4877-A4A5-BC30D6F89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513451-5104-473E-9873-5F35D50A2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1D6E98-35C0-4806-AAFF-5E69D1F6B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2698C4-2227-4894-8E97-2833D8A2A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3A50B3-5DE4-4E3F-9913-41AA86D2B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7258-FBD6-4BE3-AEB0-156D9EED4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9C46C8-92ED-41C8-8862-D8C288669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5437DB-7075-40E1-9823-2DE20EE9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77CEAE-8A53-466E-B1F2-A784CE6A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BF732C-0B2D-4E4A-B7DF-789AA824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D04979-1FCC-47AC-93DE-D24D68F0A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42CDBC-BFD1-4F06-A073-31FA590D8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EF134C-8A45-4D44-A858-564B697B8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C8F567-157E-4B53-810E-2D3A60950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48E63E-EA58-4DD7-868D-2D2A2EFFB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829AE0-1008-4604-8CB5-B1446A789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CC86-010E-47E1-82FF-712B1133A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BF9305-F5DC-417D-8BCB-6332AC4EE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49A772-E2CA-4FEA-90E8-AAF6BCC46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ACDE55-56D2-4DE7-9081-EC6F60312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2047C7-8CD4-48A7-A9A5-BE4D67F5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2BEA42-93A5-4B38-A636-1EEA4EBF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ED5C99-C03B-406F-A22A-228FA24B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0EF438-2505-4BAB-BA99-6F99DAD26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ACB7FE-5531-46AC-8BCB-0B035C289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C1820F-8C90-47A4-B885-5475ACDF5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CEC86E-2239-449F-A471-9A35AD1F6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E7AF-20EE-49AE-B2BB-1EBE50072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D680BB-AC66-4C5B-9728-E5008092C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68197F-57B1-499A-8B79-F709B01EA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5F7B16-ABD8-40B3-8DA3-DFCFDE5C6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11554C-27D1-4808-8519-4E6C6FA63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C2AEED-1C1C-4AC4-8932-C64CB8697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002BAD-E68C-48A4-96B1-BF914DBC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FD7D2C-45F6-4530-AD50-3A3885AA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BA4498-FC6D-4173-A8CD-F568507D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8BF56C-FEB2-404E-8189-FAD6BF472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D86512-3B3B-411C-93CE-AC837BA6D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8E53-5B2F-488B-93C6-4D75E4316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3C1834-B346-4FD7-98A1-8336C573E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A04C81-B2EF-4944-8EA1-87422F2D0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DC0F59-5E01-4B41-AA65-1BD88744D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32F0C2-8634-4B0B-8881-F0CF0515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2EE63B-4594-46AD-8C9E-4610A4A4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8F0107-D147-402B-B596-412347B99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DF495B-B860-4D1E-833E-4531B3A1F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7F3918-2AE0-4AC4-87EF-355F32E0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0B8CE8-57BA-4506-98E5-86A4D690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AEF7B3-9D6B-4870-A47F-63F8801E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7912-58AC-472C-A3D7-67B3EB48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708243-08E5-48D2-8008-B81D272AA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5DCAA3-75D5-4325-A238-81F2F015F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76D092-75B9-498A-A73B-64BA4BDF0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5E6D-7009-4389-AAD4-A2F9FD7F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A0E9-EA03-49D6-AB23-139309FD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4D17C-E822-4196-8097-C833CF56216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4FAB5-E259-425B-BCE2-7333B9C99A7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8C706-F4F7-4905-B021-F87B59534E8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sldNum" idx="1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F35D5-F7A6-46B4-BE98-8C52BF8DFB2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1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88E0E-1B74-4B4A-810F-57E61B3C2F8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CA651-28DF-47C5-8F58-E9B8BE978C5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 txBox="1"/>
          <p:nvPr/>
        </p:nvSpPr>
        <p:spPr>
          <a:xfrm>
            <a:off x="468360" y="404640"/>
            <a:ext cx="8064360" cy="28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Geschichtlicher Überblick - 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Moskausentwicklung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1403280" y="4076640"/>
            <a:ext cx="6121440" cy="242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kripkina Alina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Leiterin: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emenjuk Soja Iwanovna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6588000" y="0"/>
            <a:ext cx="2556000" cy="256536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 txBox="1"/>
          <p:nvPr/>
        </p:nvSpPr>
        <p:spPr>
          <a:xfrm>
            <a:off x="324000" y="5805360"/>
            <a:ext cx="424800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462-1505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3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0" y="5877000"/>
            <a:ext cx="482436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538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7199280" y="0"/>
            <a:ext cx="1944720" cy="277668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 txBox="1"/>
          <p:nvPr/>
        </p:nvSpPr>
        <p:spPr>
          <a:xfrm>
            <a:off x="179280" y="5877000"/>
            <a:ext cx="540072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547-1584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5883120" y="0"/>
            <a:ext cx="3260880" cy="299736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 txBox="1"/>
          <p:nvPr/>
        </p:nvSpPr>
        <p:spPr>
          <a:xfrm>
            <a:off x="611280" y="5877000"/>
            <a:ext cx="360036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564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split dir="in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4932360" y="0"/>
            <a:ext cx="4211640" cy="328464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395280" y="5805360"/>
            <a:ext cx="367200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600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23640" y="62064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ZIEL: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Die Bekanntmachung mit der Geschichte Moskaus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AUFGABE: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De</a:t>
            </a:r>
            <a:r>
              <a:rPr b="0" lang="de-DE" sz="2000" spc="-1" strike="noStrike">
                <a:solidFill>
                  <a:srgbClr val="000000"/>
                </a:solidFill>
                <a:latin typeface="Century Schoolbook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c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ü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lern interessant und zu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ä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nglich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ü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ber die wichtigsten Fakten der russischen Hauptstadt zu erz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ä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hlen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AKTUELLIT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Ä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: 2012 ist im Russland das Jahr der Geschichte. Und die Geschichte des Landes ist mit der Geschichte von Moskau eng verbunden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PROBLEM: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Interesse der Sc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ü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ler zu der Geschichte zu er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ö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hen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OBJEKT DER UNTERSUCHUNG: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Lexikon,Geschichte des Russlands, St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dtf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ü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hrer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Moskau,Moskau Reisef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ü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hrer,Deutsch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METHODEN DER UNTERSUCHUNGEN: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Das Lesen der Sachb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ü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her; Geschichte: das Erlernen der historischen Fakten und Dokumenten, Statistik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0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8692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 txBox="1"/>
          <p:nvPr/>
        </p:nvSpPr>
        <p:spPr>
          <a:xfrm>
            <a:off x="0" y="5300640"/>
            <a:ext cx="2627280" cy="136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147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3" descr="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29433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250920" y="4869000"/>
            <a:ext cx="3384360" cy="157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156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5364000" y="0"/>
            <a:ext cx="3780000" cy="24210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250920" y="5516640"/>
            <a:ext cx="2736720" cy="11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238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5940360" y="0"/>
            <a:ext cx="3203640" cy="249084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250920" y="5589720"/>
            <a:ext cx="3457440" cy="10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328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1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0" y="5925960"/>
            <a:ext cx="2664000" cy="93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368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324000" y="5661000"/>
            <a:ext cx="3958920" cy="93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380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25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2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250920" y="5734080"/>
            <a:ext cx="374328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400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ut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6-11-26T08:48:46Z</dcterms:modified>
  <cp:revision>58</cp:revision>
  <dc:subject/>
  <dc:title>Слайд 1</dc:title>
</cp:coreProperties>
</file>