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E3D-0E25-49E7-8B16-EE04E169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1B6-88C5-42E7-AE72-CD9C83F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000-2BE0-4BDA-BDC5-DA33D48A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629-D28D-4870-888E-6A10E8AE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EB5-707E-44D3-BBEE-3A14D1AA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0EC-C13A-4D4D-A463-A3F37437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321-2D2E-4846-B4DA-04EB02B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6DF-911A-419E-9899-E9141D53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D75-83DC-4935-81EF-41D65D3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DF3-A57A-4E73-ABBC-4FA62BF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93D-B5A3-461F-BA70-15A9205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027-DA1F-498D-83BE-AC0D24C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3AA-A68A-4429-AAF2-2788B05FC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2835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4000" y="5950080"/>
            <a:ext cx="4464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1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68360" y="5877000"/>
            <a:ext cx="31669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5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50920" y="5805360"/>
            <a:ext cx="2808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6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0" y="5734080"/>
            <a:ext cx="3745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66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96720" y="-49320"/>
            <a:ext cx="9540720" cy="690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4000" y="6021360"/>
            <a:ext cx="3456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90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79280" y="5877000"/>
            <a:ext cx="3961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14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50920" y="5877000"/>
            <a:ext cx="41749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18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8360" y="5877000"/>
            <a:ext cx="43909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33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6021360"/>
            <a:ext cx="42483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7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1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79280" y="5805360"/>
            <a:ext cx="53294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89-1725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539640" y="580536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55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95280" y="5950080"/>
            <a:ext cx="4392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73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6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0" y="5950080"/>
            <a:ext cx="3527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87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9280" y="5877000"/>
            <a:ext cx="3961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1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24000" y="5950080"/>
            <a:ext cx="32400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25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26T08:52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