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A46-1ADB-4733-AF08-721F906F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35D-C678-4FBF-A7C5-829CC46B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862-1423-4FA1-BBBA-F0C685DF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EFA-CF0E-4234-837F-AB6E6ED6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ECD-E537-4C93-9B1A-BA98B4C0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F09-D863-4E61-8729-A70E4508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507-F21C-48F7-889A-542AB7B4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21D-62A1-4219-9839-F7A546AE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3CC-5A39-44FA-9D30-29D3C59D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07B-19F0-4F40-A753-991AE6F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CA0-722A-4923-BB0A-5D57011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7C3-77B0-41AA-B96C-9DD5317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3006-8952-4DF4-B998-6C2269500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4000" y="5950080"/>
            <a:ext cx="2376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20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5877000"/>
            <a:ext cx="3851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9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5280" y="5805360"/>
            <a:ext cx="31687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2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95280" y="5734080"/>
            <a:ext cx="3313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25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360" y="5877000"/>
            <a:ext cx="25909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33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-181080" y="5805360"/>
            <a:ext cx="4032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35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4000" y="5877000"/>
            <a:ext cx="3960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4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5734080"/>
            <a:ext cx="3745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45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81800" y="0"/>
            <a:ext cx="3562200" cy="378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5877000"/>
            <a:ext cx="3059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6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5877000"/>
            <a:ext cx="25909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80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26T08:54:3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