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225-A04C-4721-86B6-D7EADE37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2C5-3C41-4A50-B2D1-3E4753B2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11A-5ADB-4E76-9969-18E72D6A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BF7-81F8-48E4-9824-C59B299B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D88-59D9-4BB5-86C0-1ECB5698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86A-3BC3-46E6-B410-BE7EA1E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659B-7C9C-4AD3-860E-D6241E8D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8ED-9541-4C4B-8D63-B1625804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80BD-A8AF-4697-80CE-19A2315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5A9C-22FA-4AE7-861E-BA4A911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D9BA-CAF0-4377-8FC9-09A47FC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A18-8FB3-4C49-B65A-880D893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A780-B2F5-4F54-B366-B493A4E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17B7-60AB-4903-9F69-717F883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70C9-E8FB-49C6-AC25-ACD8A81C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4BE-B152-413E-AF16-62E3178B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5DCE-1128-43D4-BCEA-6FEB5A99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D51D-284B-4855-857D-404DDAA2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4B01-E244-4D85-8717-55F34E0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92D4-5E42-4D99-B68A-C2701E35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E954-E2E0-4742-BE9A-600823B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E11F-D28B-4DC7-9742-871C974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8C63-8157-4B70-B940-3D5E7C6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84D0-E381-46C2-A601-8593D57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4965-5E4C-4DC5-AED6-6B3CD9B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77B8-3C3A-4CC5-9872-8D4739F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550D-8937-4FED-8799-FCD3440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FC81-62C6-47CA-AB0F-EF39A31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17DE-ED4E-46FE-88CF-73DB3BA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E83F-53C7-4D94-9907-37D17BC7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A258-0EAD-4F40-86F6-69DDDE38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9B5C-1A9E-4640-B374-D0557C29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301B-80E9-4ECF-90A3-449DD42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FA7-7DDA-4DF9-8A60-15BDC41C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B4D2-4546-429A-88C9-D3C300C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E43F-6510-4A57-9CFC-507FA22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F474-6FC8-4B84-B420-C6514922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B6DD-0C1F-4816-AEC8-61E21AC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A8FAF-2647-4EE2-A577-64489B8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F267-D029-4B02-BADB-7C1AD8A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7B93-E361-47C7-A5D8-2AF0694F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B9E7-B9DD-4174-A213-EC20DE33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A509-0254-4692-9199-347616E6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38E7-AFD0-4730-AE73-50FAAE05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620-32A6-405D-95F2-33CAF079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E2EC-CF54-4E83-A7A5-25E297B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630E-4749-4B1B-9149-F47DED5E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05B7-F83E-47A8-B4CA-0BF2CBAA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1EFA-4E13-417A-AB57-D8F2EFE2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11DA-0BF1-4CC6-A858-8DBC5DBA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3B0F-BF46-48BC-AAD1-D91E35F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7DEC5-CA1F-4B9F-971B-BECFD06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425C-8683-4D19-9ACE-90FFD51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3338-A73B-4844-8C3B-DED7023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5F30-A731-44F2-98F4-84EF8D61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CF3-BCD4-4BD9-922F-9513CF5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9B29-A217-4B03-8190-F56D3629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2D3D-27D0-4926-A86F-9EE6C975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9FD6-BBCC-4A4C-BD5C-800D0CA8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7895-726D-40EE-82E3-F493170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9707-9395-4570-B856-2140FBB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0798-1217-46AC-A3DD-DD9908E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76F6-8739-4F70-BB06-59A326B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A1B8-F46C-4B99-838B-DAB072C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A913-9B33-4D46-A25A-8C14B31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7509-CAB4-4E11-9492-22A2716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19E-60C2-458F-A83A-9949DFB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DA4F7-6DA2-4DC2-9649-50FBC789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8EE2-CCE6-494E-AF80-72258CAE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3D6C-ED1A-493F-8A12-C527CCC5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64F2-4D07-488D-8776-E98CA07F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87FF1-01DE-4FA1-B0C2-DF0126C8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6612-3190-43A8-BD4D-48D69EA0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1609-FCA2-46BA-8218-3767244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1F9C-1FCA-49EB-80AC-0FAA4B5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E9FC-2A15-457A-BE3C-52AE181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EE10-8363-46D6-9CF1-1987A4CA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989-C0BE-4C9C-A318-59FF125F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9EA5-5581-48D1-BC95-0ABB377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6B13F-3B5C-4986-B0F6-68E17CA3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0299-44A9-44ED-A8F2-6E30AA3C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BDC5-C28C-487C-8FE5-B81D225D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0CF16-6BB4-4E5C-BAFD-9D25BC21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0978F-FBC0-4C35-AE71-76C24487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FB676-D84A-4596-BD6E-7931808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40EF7-1147-46C1-802D-D93AAB04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4EE63-A6BA-46A0-86E6-C40EC5B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DE18A-6EB5-4054-BDD2-835E65E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52B-FCBA-411C-81D8-681B200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E7DD6-97BA-46DD-9FF2-930A769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20EC1-3FC1-415E-A9EC-623A492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AAD1C-5E05-4187-B8DE-9FB8DB0A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E3D5E-2EB8-42E6-81F8-B0E9FBA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F7D3C-55E6-42DA-8C92-A33A361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2539B-60AD-46D1-91DC-E9345379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7161A2-8C2D-483E-92B8-2054A054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E1A2-C9A3-4201-8077-188F924A6A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5A28-B576-4331-B700-823EAE09D3F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78B-3577-4666-9D60-FC9127A38A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249-FD0D-4356-B56A-506B1CE6F9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BEC-A4E0-4785-B239-70618A636F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E067-EF9E-4674-85EC-F93A18151CA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0362-18F2-4BD9-81F2-CD39945AF0E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EDF5-1E51-481B-84AD-82C20F84EF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772400" cy="1658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Дуэль Онегин с Ленским - Ольга Васильевна Смирнова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5084640"/>
          </a:xfrm>
          <a:prstGeom prst="rect">
            <a:avLst/>
          </a:prstGeom>
          <a:ln w="0">
            <a:noFill/>
          </a:ln>
        </p:spPr>
      </p:pic>
      <p:sp>
        <p:nvSpPr>
          <p:cNvPr id="347" name="TextBox 3"/>
          <p:cNvSpPr/>
          <p:nvPr/>
        </p:nvSpPr>
        <p:spPr>
          <a:xfrm>
            <a:off x="6858000" y="53578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ыполнил Котосонов Сергей 9 клас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0" y="1628640"/>
            <a:ext cx="436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Осуждение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 страх нарушить светские условност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Трагическая ошибк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нятие светской чести для героя значительнее нравственного долг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Расплата</a:t>
            </a:r>
            <a:r>
              <a:rPr b="0" lang="ru-RU" sz="2400" spc="-1" strike="noStrike">
                <a:solidFill>
                  <a:srgbClr val="17bbfd"/>
                </a:solidFill>
                <a:latin typeface="Century Gothic"/>
              </a:rPr>
              <a:t> – муки совест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«убийца юного поэта»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убит приятельской рукой»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Любовно-ироническое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Трагедия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Ленского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жертвует жизнью за право сыграть роль романтического геро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Жертв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нелепая, </a:t>
            </a:r>
            <a:r>
              <a:rPr b="1" lang="ru-RU" sz="2400" spc="-1" strike="noStrike">
                <a:solidFill>
                  <a:srgbClr val="17bbfd"/>
                </a:solidFill>
                <a:latin typeface="Century Gothic"/>
              </a:rPr>
              <a:t>бессмысленная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по мнению автор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акая судьба реальнее? – не важ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ажно – </a:t>
            </a: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не будет никакой!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5003640" y="1844640"/>
            <a:ext cx="3745080" cy="165564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bbfd"/>
                </a:solidFill>
                <a:latin typeface="Garamond"/>
              </a:rPr>
              <a:t>Приземлен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может быть и то: поэт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ыкновенный ждал удел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Oval 7"/>
          <p:cNvSpPr/>
          <p:nvPr/>
        </p:nvSpPr>
        <p:spPr>
          <a:xfrm>
            <a:off x="324000" y="1844640"/>
            <a:ext cx="3743280" cy="1727280"/>
          </a:xfrm>
          <a:prstGeom prst="ellipse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bbfd"/>
                </a:solidFill>
                <a:latin typeface="Garamond"/>
              </a:rPr>
              <a:t>Возвышен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ть может, он для блага мир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ь хоть для славы был рожден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Line 8"/>
          <p:cNvSpPr/>
          <p:nvPr/>
        </p:nvSpPr>
        <p:spPr>
          <a:xfrm flipH="1">
            <a:off x="3132000" y="1197000"/>
            <a:ext cx="1368720" cy="7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4500720" y="1197000"/>
            <a:ext cx="1439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8360" y="260280"/>
            <a:ext cx="908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.И.Чайковский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«Разве не глубоко драматична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и не трогательна смерть богато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даренного юноши? Разве нет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драматического положения в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ом, что скучающий столичный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лев от мелочного раздражения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мимо воли, вследствие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окового стечения обстоятельств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тнимает жизнь у юноши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которого, в сущности, любит!»                  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4" descr="Ленский"/>
          <p:cNvPicPr/>
          <p:nvPr/>
        </p:nvPicPr>
        <p:blipFill>
          <a:blip r:embed="rId1"/>
          <a:stretch/>
        </p:blipFill>
        <p:spPr>
          <a:xfrm>
            <a:off x="179280" y="404640"/>
            <a:ext cx="33958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Композиционная: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кульминация сюжетной линии Онегин – Ленский и её развяз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щание Пушкина с романтизм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орот в судьбе Онегина (начало перелома в его сознании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ведено новое второстепенное действующее лицо – Зарецкий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Дуэль Онегина и Ленского. 1899. Илья Ефимович Репин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Тургенев и русская музыка: Чайковский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img1.liveinternet.ru/images/attach/c/8/101/278/101278565_080.jpg"/>
          <p:cNvPicPr/>
          <p:nvPr/>
        </p:nvPicPr>
        <p:blipFill>
          <a:blip r:embed="rId1"/>
          <a:stretch/>
        </p:blipFill>
        <p:spPr>
          <a:xfrm>
            <a:off x="176364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209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bbfd"/>
                </a:solidFill>
                <a:latin typeface="Century Gothic"/>
              </a:rPr>
              <a:t>Дуэль</a:t>
            </a:r>
            <a:r>
              <a:rPr b="0" lang="ru-RU" sz="28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оисходящий по определенным правилам парный бой, имеющий целью восстановление чести, снятие с обиженного позорного пятна, нанесенного оскорблением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Дуэль происходила по строгим неписаным правилам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87280" y="4797000"/>
            <a:ext cx="7777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bbfd"/>
                </a:solidFill>
                <a:latin typeface="Century Gothic"/>
              </a:rPr>
              <a:t>Защита корпоративной    </a:t>
            </a:r>
            <a:r>
              <a:rPr b="1" lang="en-US" sz="2200" spc="-1" strike="noStrike">
                <a:solidFill>
                  <a:srgbClr val="17bbfd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17bbfd"/>
                </a:solidFill>
                <a:latin typeface="Century Gothic"/>
              </a:rPr>
              <a:t>Защита человеческого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bbfd"/>
                </a:solidFill>
                <a:latin typeface="Century Gothic"/>
              </a:rPr>
              <a:t>чести</a:t>
            </a:r>
            <a:r>
              <a:rPr b="1" lang="en-US" sz="2200" spc="-1" strike="noStrike">
                <a:solidFill>
                  <a:srgbClr val="17bbfd"/>
                </a:solidFill>
                <a:latin typeface="Century Gothic"/>
              </a:rPr>
              <a:t>                                   </a:t>
            </a:r>
            <a:r>
              <a:rPr b="1" lang="ru-RU" sz="2200" spc="-1" strike="noStrike">
                <a:solidFill>
                  <a:srgbClr val="17bbfd"/>
                </a:solidFill>
                <a:latin typeface="Century Gothic"/>
              </a:rPr>
              <a:t>достоинств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bbfd"/>
                </a:solidFill>
                <a:latin typeface="Century Gothic"/>
              </a:rPr>
              <a:t>Роль дуэли</a:t>
            </a:r>
            <a:r>
              <a:rPr b="1" lang="ru-RU" sz="2200" spc="-1" strike="noStrike">
                <a:solidFill>
                  <a:srgbClr val="ff388c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социально-знакова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1" name="Organization Chart 5"/>
          <p:cNvGrpSpPr/>
          <p:nvPr/>
        </p:nvGrpSpPr>
        <p:grpSpPr>
          <a:xfrm>
            <a:off x="1332000" y="3799440"/>
            <a:ext cx="5974920" cy="1306080"/>
            <a:chOff x="1332000" y="3799440"/>
            <a:chExt cx="5974920" cy="1306080"/>
          </a:xfrm>
        </p:grpSpPr>
        <p:cxnSp>
          <p:nvCxnSpPr>
            <p:cNvPr id="352" name="_s1028"/>
            <p:cNvCxnSpPr>
              <a:stCxn id="353" idx="0"/>
              <a:endCxn id="354" idx="2"/>
            </p:cNvCxnSpPr>
            <p:nvPr/>
          </p:nvCxnSpPr>
          <p:spPr>
            <a:xfrm flipV="1" rot="16200000">
              <a:off x="5016240" y="3670200"/>
              <a:ext cx="173520" cy="1564200"/>
            </a:xfrm>
            <a:prstGeom prst="bentConnector3">
              <a:avLst>
                <a:gd name="adj1" fmla="val 49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5" name="_s1029"/>
            <p:cNvCxnSpPr>
              <a:stCxn id="356" idx="0"/>
              <a:endCxn id="354" idx="2"/>
            </p:cNvCxnSpPr>
            <p:nvPr/>
          </p:nvCxnSpPr>
          <p:spPr>
            <a:xfrm flipH="1" flipV="1" rot="5400000">
              <a:off x="3451680" y="3669480"/>
              <a:ext cx="173520" cy="1566000"/>
            </a:xfrm>
            <a:prstGeom prst="bentConnector3">
              <a:avLst>
                <a:gd name="adj1" fmla="val 49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4" name="_s1030"/>
            <p:cNvSpPr/>
            <p:nvPr/>
          </p:nvSpPr>
          <p:spPr>
            <a:xfrm>
              <a:off x="3379320" y="3799440"/>
              <a:ext cx="1882080" cy="5230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ИДЕЯ ДУЭЛИ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_s1031"/>
            <p:cNvSpPr/>
            <p:nvPr/>
          </p:nvSpPr>
          <p:spPr>
            <a:xfrm>
              <a:off x="1332000" y="4582440"/>
              <a:ext cx="2845800" cy="5230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Узкосословная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_s1032"/>
            <p:cNvSpPr/>
            <p:nvPr/>
          </p:nvSpPr>
          <p:spPr>
            <a:xfrm>
              <a:off x="4461120" y="4582440"/>
              <a:ext cx="2845800" cy="5230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Общечеловеческая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толкновение или оскорбление, в результате которого какая-либо сторона считала себя оскорбленной и в качестве таковой требовала </a:t>
            </a: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сатисфакции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(удовлетворения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ызов. С этого момента противники не должны были вступать ни в какие отношения: это брали на себя их секунданты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ыбор секундантов и обсуждение тяжести обиды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ыбор характера дуэли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екундант направлял противнику письменный вызов – </a:t>
            </a: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картел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892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7bbfd"/>
                </a:solidFill>
                <a:uFillTx/>
                <a:latin typeface="Century Gothic"/>
              </a:rPr>
              <a:t>Участники: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негин и Ленский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7bbfd"/>
                </a:solidFill>
                <a:uFillTx/>
                <a:latin typeface="Century Gothic"/>
              </a:rPr>
              <a:t>Причины дуэли: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егкомысленное поведение Онегина в доме Лариных и ухаживание за Ольгой – невестой Ленского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Поклялся Ленского взбеси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 уж порядком отомстить.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7bbfd"/>
                </a:solidFill>
                <a:uFillTx/>
                <a:latin typeface="Century Gothic"/>
              </a:rPr>
              <a:t>Секунданты: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арецкий – со сторон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енского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акей Гильо –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 стороны Онегин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396720" y="24912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611280" y="119700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Ленский: Куда, куда вы удалились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есны моей златые дни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Жуковский: О дней моих весна златая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Милонов: Как призрак легкий, улетел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латые дни весны моей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юхельбекер: Так лети ж, мечта златая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вядай, моя весна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bbfd"/>
                </a:solidFill>
                <a:latin typeface="Century Gothic"/>
              </a:rPr>
              <a:t>Пародируются штампы романтизма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                         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bbfd"/>
                </a:solidFill>
                <a:latin typeface="Century Gothic"/>
              </a:rPr>
              <a:t>Онегин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: испугался неблагоприятного общественного мнени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bbfd"/>
                </a:solidFill>
                <a:latin typeface="Century Gothic"/>
              </a:rPr>
              <a:t>Ленский: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н романтического порыва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bbfd"/>
                </a:solidFill>
                <a:latin typeface="Century Gothic"/>
              </a:rPr>
              <a:t>Зарецкий (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секундант Ленского)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при передаче картеля игнорировал свою обязанность склонить противников к примирению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не встречался с секундантом Онегина накануне, чтобы обсудить правила дуэли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секундантом Онегина стал лакей, хотя они оба должны иметь дворянское звание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не отменил дуэль, хотя Онегин значительно опоздал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не оговорил в условиях дуэли остановку противников после первого выстрела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17bbfd"/>
                </a:solidFill>
                <a:latin typeface="Century Gothic"/>
              </a:rPr>
              <a:t>Пушкин: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мог не «убивать» Ленского. Но это его прощание с романтизмом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227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нстантинов Ф.Д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Иллюстрация к 6-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главе «Евгения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негина»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Константинов"/>
          <p:cNvPicPr/>
          <p:nvPr/>
        </p:nvPicPr>
        <p:blipFill>
          <a:blip r:embed="rId1"/>
          <a:stretch/>
        </p:blipFill>
        <p:spPr>
          <a:xfrm>
            <a:off x="324000" y="0"/>
            <a:ext cx="442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5606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Точность, неторопливость, предметность, подробность описа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втор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ереносы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равнения, анафор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.Г.Белинский: «Подробности дуэли Онегина с Ленским – верх совершенства в художественном отношении.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4" descr="Репин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7:01:31Z</dcterms:created>
  <dc:creator>Ларионовы</dc:creator>
  <dc:description/>
  <dc:language>en-US</dc:language>
  <cp:lastModifiedBy>user</cp:lastModifiedBy>
  <dcterms:modified xsi:type="dcterms:W3CDTF">2016-11-26T18:10:13Z</dcterms:modified>
  <cp:revision>33</cp:revision>
  <dc:subject/>
  <dc:title>«Враги! Давно ли друг от друга</dc:title>
</cp:coreProperties>
</file>