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580-C693-4792-8C72-61CC14E8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912-3C9E-4823-9611-34A47B9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F3E-F7CD-4784-8FA1-012E4E7B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85F-9AAD-4E9E-9102-736F1F63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9DD6-1B9C-48E0-A6BB-7A49934F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5828-64F8-48B1-BD29-703A791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D287-8BEF-4F38-BAB5-C90A959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313A-B4D5-4043-B1A2-AE7BB16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873-D7DC-49D7-865F-4A77C201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6D4-B1CD-4D9B-B975-1FB40B0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964-C5FD-410D-BF85-F4F0629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2D6-D679-4581-ADCF-6405BD8D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9AA9-E5B6-468B-B6D4-44722D2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501-65DE-431F-9E1B-426DC22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B22D-A932-4127-B5F6-AB5DBF60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24F2-EF1D-40AD-9C92-ABE9E99F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79A7-EB2F-427D-A12C-964B95D2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CD8-3073-4901-B958-4267B81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45B-5CC4-4BA3-B6C4-8235BE9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DBC-4977-4824-9024-F8D16DF4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5E0-FC1F-43FE-87C3-F4D9302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11F-505E-4676-BE83-6F0CF2C9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670-E758-4DBA-ADDC-B6CF5AF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50C-2AFD-4569-8967-33E4D5A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FD6D-2558-487E-85CE-930A4E16D9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90"/>
                </a:gs>
                <a:gs pos="50000">
                  <a:srgbClr val="000099"/>
                </a:gs>
                <a:gs pos="100000">
                  <a:srgbClr val="00009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ab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b6"/>
                </a:gs>
                <a:gs pos="100000">
                  <a:srgbClr val="0000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ca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B6C-2354-4C50-8EE4-8F4A163EE28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1&amp;text=&#1087;&#1088;&#1077;&#1079;&#1077;&#1085;&#1090;&#1072;&#1094;&#1080;&#1103;%20&#1086;%20&#1075;&#1086;&#1088;&#1086;&#1076;&#1077;&#1094;&#1082;&#1086;&#1081;%20&#1088;&#1086;&#1089;&#1087;&#1080;&#1089;&#1080;&amp;img_url=http://www.metod-kopilka.ru/images/doc/36/30420/img3.jpg&amp;pos=41&amp;rpt=simage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571400"/>
            <a:ext cx="3429000" cy="157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Городецкие узо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428840" y="57150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КДОУ «Д/с № 17»  КОРКИ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357120" y="442908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Courier New"/>
              </a:rPr>
              <a:t>Воспитатель: Седова Валентина      Александро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6" descr="http://kursn.ru/wp-content/uploads/2014/08/29082014-09.jpg"/>
          <p:cNvPicPr/>
          <p:nvPr/>
        </p:nvPicPr>
        <p:blipFill>
          <a:blip r:embed="rId1"/>
          <a:srcRect l="6657" t="1551" r="5575" b="0"/>
          <a:stretch/>
        </p:blipFill>
        <p:spPr>
          <a:xfrm>
            <a:off x="5357880" y="214200"/>
            <a:ext cx="3576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213840"/>
            <a:ext cx="8929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Рисунок 5" descr="http://diafilmy.su/uploads/posts/2013-11/1383817737_17.jpg"/>
          <p:cNvPicPr/>
          <p:nvPr/>
        </p:nvPicPr>
        <p:blipFill>
          <a:blip r:embed="rId1"/>
          <a:srcRect l="13150" t="16707" r="9086" b="11215"/>
          <a:stretch/>
        </p:blipFill>
        <p:spPr>
          <a:xfrm>
            <a:off x="214200" y="428760"/>
            <a:ext cx="5357880" cy="400032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2" name="Рисунок 7" descr="http://www.metod-kopilka.ru/images/doc/26/20343/img3.jpg"/>
          <p:cNvPicPr/>
          <p:nvPr/>
        </p:nvPicPr>
        <p:blipFill>
          <a:blip r:embed="rId2"/>
          <a:stretch/>
        </p:blipFill>
        <p:spPr>
          <a:xfrm>
            <a:off x="5437080" y="2157480"/>
            <a:ext cx="3762360" cy="542592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8"/>
          <p:cNvSpPr/>
          <p:nvPr/>
        </p:nvSpPr>
        <p:spPr>
          <a:xfrm>
            <a:off x="2214720" y="3643200"/>
            <a:ext cx="45720" cy="46080"/>
          </a:xfrm>
          <a:custGeom>
            <a:avLst/>
            <a:gdLst>
              <a:gd name="textAreaLeft" fmla="*/ 2160 w 45720"/>
              <a:gd name="textAreaRight" fmla="*/ 43560 w 45720"/>
              <a:gd name="textAreaTop" fmla="*/ 2160 h 46080"/>
              <a:gd name="textAreaBottom" fmla="*/ 43920 h 46080"/>
            </a:gdLst>
            <a:ahLst/>
            <a:rect l="textAreaLeft" t="textAreaTop" r="textAreaRight" b="textAreaBottom"/>
            <a:pathLst>
              <a:path w="21600" h="21769">
                <a:moveTo>
                  <a:pt x="3600" y="0"/>
                </a:moveTo>
                <a:arcTo wR="3600" hR="3600" stAng="16200000" swAng="-5400000"/>
                <a:lnTo>
                  <a:pt x="0" y="18169"/>
                </a:lnTo>
                <a:arcTo wR="3600" hR="3600" stAng="10800000" swAng="-5400000"/>
                <a:lnTo>
                  <a:pt x="18000" y="217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25560">
            <a:solidFill>
              <a:srgbClr val="00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Скругленный прямоугольник 9"/>
          <p:cNvSpPr/>
          <p:nvPr/>
        </p:nvSpPr>
        <p:spPr>
          <a:xfrm>
            <a:off x="2286000" y="3571920"/>
            <a:ext cx="46080" cy="46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00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213840"/>
            <a:ext cx="8929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ецкая роспись – это фантастические цветы, птицы, кони, украшающие кухонные доски, прялки, посу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Рисунок 8" descr="Городецкая роспись - это фантастические цветы, птицы, кони, украшающие детс...">
            <a:hlinkClick r:id="rId1"/>
          </p:cNvPr>
          <p:cNvPicPr/>
          <p:nvPr/>
        </p:nvPicPr>
        <p:blipFill>
          <a:blip r:embed="rId2"/>
          <a:srcRect l="9626" t="24626" r="50737" b="11777"/>
          <a:stretch/>
        </p:blipFill>
        <p:spPr>
          <a:xfrm>
            <a:off x="5357880" y="1285920"/>
            <a:ext cx="3570120" cy="38577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Городецкая роспись - это фантастические цветы, птицы, кони, украшающие детс..."/>
          <p:cNvPicPr/>
          <p:nvPr/>
        </p:nvPicPr>
        <p:blipFill>
          <a:blip r:embed="rId3"/>
          <a:srcRect l="53911" t="24416" r="6637" b="12638"/>
          <a:stretch/>
        </p:blipFill>
        <p:spPr>
          <a:xfrm>
            <a:off x="214200" y="2500200"/>
            <a:ext cx="3286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0520" y="4000680"/>
            <a:ext cx="22143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214200" y="0"/>
            <a:ext cx="857268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  <a:ea typeface="Aharoni"/>
              </a:rPr>
              <a:t>Городецкая роспись – как её нам не знать. Здесь и жаркие кони, молодецкая стать.     Здесь такие букеты, что нельзя описать.      Здесь такие сюжеты, что ни в сказке сказ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Рисунок 5" descr="https://fs00.infourok.ru/images/doc/114/134554/img9.jpg"/>
          <p:cNvPicPr/>
          <p:nvPr/>
        </p:nvPicPr>
        <p:blipFill>
          <a:blip r:embed="rId1"/>
          <a:srcRect l="6594" t="16378" r="59811" b="10724"/>
          <a:stretch/>
        </p:blipFill>
        <p:spPr>
          <a:xfrm>
            <a:off x="285840" y="1785960"/>
            <a:ext cx="3214440" cy="464328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3" descr="http://s59.radikal.ru/i165/0908/9f/6eaadfcb4d9bt.jpg"/>
          <p:cNvPicPr/>
          <p:nvPr/>
        </p:nvPicPr>
        <p:blipFill>
          <a:blip r:embed="rId2"/>
          <a:srcRect l="5452" t="2118" r="6415" b="7222"/>
          <a:stretch/>
        </p:blipFill>
        <p:spPr>
          <a:xfrm>
            <a:off x="4857840" y="1785960"/>
            <a:ext cx="3663720" cy="4714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00520" y="4000680"/>
            <a:ext cx="22143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13" descr="http://img1.postila.ru/storage/7424000/7396661/a39278633cb9ea8caa4461abae802b95.jpg"/>
          <p:cNvPicPr/>
          <p:nvPr/>
        </p:nvPicPr>
        <p:blipFill>
          <a:blip r:embed="rId1"/>
          <a:srcRect l="0" t="67094" r="0" b="0"/>
          <a:stretch/>
        </p:blipFill>
        <p:spPr>
          <a:xfrm>
            <a:off x="285840" y="4429080"/>
            <a:ext cx="7675560" cy="2143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4" descr="http://img1.postila.ru/storage/7424000/7396661/a39278633cb9ea8caa4461abae802b95.jpg"/>
          <p:cNvPicPr/>
          <p:nvPr/>
        </p:nvPicPr>
        <p:blipFill>
          <a:blip r:embed="rId2"/>
          <a:srcRect l="0" t="33475" r="0" b="35463"/>
          <a:stretch/>
        </p:blipFill>
        <p:spPr>
          <a:xfrm>
            <a:off x="1000080" y="2286000"/>
            <a:ext cx="791676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http://img1.postila.ru/storage/7424000/7396661/a39278633cb9ea8caa4461abae802b95.jpg"/>
          <p:cNvPicPr/>
          <p:nvPr/>
        </p:nvPicPr>
        <p:blipFill>
          <a:blip r:embed="rId3"/>
          <a:srcRect l="0" t="852" r="0" b="68654"/>
          <a:stretch/>
        </p:blipFill>
        <p:spPr>
          <a:xfrm>
            <a:off x="142920" y="142920"/>
            <a:ext cx="7858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2:53Z</dcterms:created>
  <dc:creator>O_o</dc:creator>
  <dc:description/>
  <dc:language>en-US</dc:language>
  <cp:lastModifiedBy>user 123</cp:lastModifiedBy>
  <dcterms:modified xsi:type="dcterms:W3CDTF">2016-11-16T23:24:52Z</dcterms:modified>
  <cp:revision>120</cp:revision>
  <dc:subject/>
  <dc:title>Слайд 1</dc:title>
</cp:coreProperties>
</file>