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914-3EC9-4B7A-B765-54B72A5C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172-2CFC-4158-B511-C69C7AC1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8A5-A35C-409E-97CB-2F149D03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659-9BF5-45C7-B1BD-6993E075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9110-9032-4FFA-AE74-BDAD707B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F534-5420-4653-99A5-0AB1C85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2D9-59E5-4662-8C86-8AC0A6A3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B87A-9DB5-4FD8-92F3-3B472275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7E10-A835-4C13-8A94-6205A9D2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ADD-9796-441A-A4D2-789F5C3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E11-35A3-4E8A-ABB8-C2A5901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17B-AE4E-4D57-A360-398B767F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A85-9061-4F62-9793-5309E68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9070-B443-414F-A2FF-51371E0E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6DC2-C56D-43D7-A0C5-59C78267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827-D075-461B-A9D8-A3A7ADA7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D2C-0611-4952-9FDC-F3226569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353-D9D9-4B66-9543-4FFEA520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8DE-BEC6-4835-94D4-2D35D1F3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A40-3CF5-4DD0-B391-CFF0918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EAA-C6FD-4A24-AF44-A24DDDB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D80-444C-4FAE-85E6-F103132A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36B-45A9-4812-88F2-023CC6C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B91-AEE0-4ED5-A65C-076FEB3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3EB0-4FDE-4A2C-8589-37C18287F1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DE3-9E2D-45FF-98F9-7C716D1DA3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586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imes New Roman"/>
              </a:rPr>
              <a:t>Тема урока:</a:t>
            </a:r>
            <a:r>
              <a:rPr b="1" lang="en-US" sz="3600" spc="-1" strike="noStrike">
                <a:solidFill>
                  <a:srgbClr val="e5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ffff"/>
                </a:solidFill>
                <a:latin typeface="Times New Roman"/>
              </a:rPr>
              <a:t>«Географическое положение Африки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8920" y="306864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Цели урок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знакомиться с физико-географическим положением Афр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учиться давать характеристику физико-географического положения Афр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олжить формировать умения работать с контурной кар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40360" y="260280"/>
            <a:ext cx="2879640" cy="2687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бота в контурных карт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значить и подписать крайние точки материка Афр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писать объекты береговой линии матери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ливы: Гибралтарский, Мозамбик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нал: Суэ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уостров: Сом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тров: Мадагаск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лив: Гвиней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я: Красное, Средиземно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8120" y="5445000"/>
            <a:ext cx="747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встралия – наименьший из матер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близительно 50 млн. лет назад он отделился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тинента Гондвана и с тех пор существует в изоляц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125360"/>
            <a:ext cx="626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встралия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259272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385920"/>
            <a:ext cx="5538600" cy="3493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4360" y="4076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сти о «южной земле», открытой голландскими моряками, дошли до Европы в начале 17 века. Первооткрыватели назвали ее Новая Голландия. В 1770 г. к ее ю-в побережью приблизилась кругосветная экспедиция Джеймса Кука. Он назвал землю в память об Англии Новым Южным Уэльс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тралия в переводе с латинского языка означает «южная», такое имя д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ому острову спутник Кука натуралист Фостер. Позже Австралию признали матер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392360" cy="2894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еографическое положение Австрал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18920" y="1557360"/>
            <a:ext cx="34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ана расположена на материке Австралия между Индийским и Тихим океанами и на многочисленных островах. Кроме того, Австралии принадлежит антарктическая территория (сектор Антарктиды – 6,1 млн. кв. к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3860640"/>
            <a:ext cx="65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ерритория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,7 млн. кв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селение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8,7 млн.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толиц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Канбер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фициальный язык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англи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нежная единиц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австралийский долла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осударственный строй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федеративная конституционная монарх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097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00720" y="306864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лаг Австра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4464000" cy="301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4581360"/>
            <a:ext cx="876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я Австралия лежит в Южном полушарии и имеет сезоны противоположные сезонам в Северном полушарии. Самый холодный месяц – июль, самый теплый – январь. На большей части континента климат засушливый или полузасушливый – на 80% территории выпадает меньше 600 мм осадков в год, на 50% менее 300 мм в год. Часты засухи, которые сопровождаются обширными пожарами. Также часто случаются тропические циклоны, штормы и ураг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189000"/>
            <a:ext cx="6791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стралия - самый сухой матер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4932360" cy="3049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427640" y="3619440"/>
            <a:ext cx="4459320" cy="2973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87840" y="208080"/>
            <a:ext cx="347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вной достопримечательностью островов Полинезии является безграничное богатство подводного мира лагун ее островов. Здесь один из лучших в мире дайвин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762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Arial"/>
              </a:rPr>
              <a:t>ОСТРОВ МОРЕ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840" y="4168800"/>
            <a:ext cx="268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йверы посещают коралловые сады и наблюдают за жизнью дельфинов, акул и разноцветных рыб лаг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лан характеристики матер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зико-географическое положение матери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льеф, тектоническое строение, полезные ископаем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има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утренние во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родные зоны. Растительный и животный ми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селение. Хозяйственная деяте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сударства и столиц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лан описания ФГП матер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ите, как расположен материк относительно экватора, тропиков и нулевого мериди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дите координаты крайних точек материка в градусах и протяженность материка в километрах с севера на юг и с востока на запа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ва площадь матер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каких климатических поясах расположен матер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ите, какие моря и океаны омывают матер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расположен материк относительно других материков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7164360" cy="4896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</p:pic>
    </p:spTree>
  </p:cSld>
  <p:transition spd="slow"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5640" y="691920"/>
            <a:ext cx="7942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ощадь Африки составляет 29,2 млн.кв.км. (30,3 млн. кв. км. с островами) или 1/5 суши нашей план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фрика – континент контрастов. Около ½ ее территории занимают пустыни и полупустын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51964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12000" y="1989000"/>
            <a:ext cx="2531880" cy="1900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287964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Знакомство с ФГП материка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254320" cy="2421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4005360"/>
            <a:ext cx="7942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ежные шапки поднимаются над просторами саван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Африке протекает самая длинная река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Африке протекает самая полноводная река  восточного полушар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4537080" cy="2471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3024000" cy="189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40360" y="4724280"/>
            <a:ext cx="3600360" cy="19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14972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фрика самый жаркий материк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Географическое положение материка Африк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7632720" cy="576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08040" y="691560"/>
            <a:ext cx="19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.ш.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в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2640" y="5804640"/>
            <a:ext cx="20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ю.ш. 2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в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3480" y="22759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.ш. 18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з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9480" y="2564640"/>
            <a:ext cx="19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.ш. 5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в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790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1217520"/>
            <a:ext cx="8459640" cy="5640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frika-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761080" cy="666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4623600">
            <a:off x="4328640" y="2950920"/>
            <a:ext cx="64818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 и океаны, омывающие Африку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2:27:30Z</dcterms:created>
  <dc:creator>все</dc:creator>
  <dc:description/>
  <dc:language>en-US</dc:language>
  <cp:lastModifiedBy>Любовь</cp:lastModifiedBy>
  <dcterms:modified xsi:type="dcterms:W3CDTF">2016-11-26T09:14:08Z</dcterms:modified>
  <cp:revision>49</cp:revision>
  <dc:subject/>
  <dc:title>Тема урока:  «Географическое положение Африки» </dc:title>
</cp:coreProperties>
</file>