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44A6-ACCF-4D70-9FEA-BC289EAB2989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72F3-1959-4F08-AD64-88311FE436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9EB2-E924-43AC-B232-42D0A1B4C284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C5E2-1128-427C-AA98-D4F26BAD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CEC2-7D03-4255-A447-2268E043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D5B2-0B42-4576-80D4-AAB0FF40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DF7B-E48E-4FA3-8375-F226CDCA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35AE-74D1-4D44-9D29-647A1FE7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41B3-6260-4C00-8B5B-8431038C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F09A-9ECA-4AD6-B071-1F12A034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5E33-3100-45B7-B596-2E0BB5F2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5FF2-FC65-4FF4-96B4-53B1821E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526A-369D-43BC-9122-CA99ED80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8296-F2CC-4468-BC2D-7EDE8DF0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61EA-28D0-40E8-AB76-59951252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A862-7571-4BD5-89BC-90C1F360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82F0-7655-4198-A324-35253F73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4C65-1E58-42AA-B0FB-93DC37C8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161B-7129-494C-A2D3-085E80CF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4D72-C00F-4ECA-9A11-F93D4D23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DFB5-D587-40E3-B262-41047A88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1265-4AAF-4F38-9597-1B0DBCC2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A158-6145-4A76-84E0-F0A404C7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A981-8265-414D-BDE7-43EB344B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E91F-EA1C-4097-8EB0-0C99EEF2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B881-697E-4698-9D0A-669CBCDF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D014-2628-4489-88D6-42587229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B503-5D21-4361-A0C3-E12A0B5329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F25D-62AA-4426-885A-8EB6B650213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20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137C-71C8-456A-9D00-664BE0936D6A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9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«Адресация и передача информации в сети Интернет»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5638680" y="4266720"/>
            <a:ext cx="3200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строва Света 8 «б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ыделенные домены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М - Всемирная коммерческая зона Интернет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GOV  - Правительства государств и правительственные учрежд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NET - Общесетевые ресурс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EDU - Сеть учебных заведений и учреждений образ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MIL - Военные организ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ORG - Некоммерческие орган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Роль протоколов при обмене информацией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токолы – это единые правила передачи данных в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533520" y="3657600"/>
            <a:ext cx="129528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й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Line 5"/>
          <p:cNvSpPr/>
          <p:nvPr/>
        </p:nvSpPr>
        <p:spPr>
          <a:xfrm flipV="1">
            <a:off x="1828800" y="3276360"/>
            <a:ext cx="8380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6"/>
          <p:cNvSpPr/>
          <p:nvPr/>
        </p:nvSpPr>
        <p:spPr>
          <a:xfrm flipV="1">
            <a:off x="1828800" y="3809520"/>
            <a:ext cx="8380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7"/>
          <p:cNvSpPr/>
          <p:nvPr/>
        </p:nvSpPr>
        <p:spPr>
          <a:xfrm>
            <a:off x="1828800" y="4267080"/>
            <a:ext cx="8380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8"/>
          <p:cNvSpPr/>
          <p:nvPr/>
        </p:nvSpPr>
        <p:spPr>
          <a:xfrm>
            <a:off x="3200400" y="297180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ок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9"/>
          <p:cNvSpPr/>
          <p:nvPr/>
        </p:nvSpPr>
        <p:spPr>
          <a:xfrm>
            <a:off x="3200400" y="358128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ок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10"/>
          <p:cNvSpPr/>
          <p:nvPr/>
        </p:nvSpPr>
        <p:spPr>
          <a:xfrm>
            <a:off x="3200400" y="4191120"/>
            <a:ext cx="129528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11"/>
          <p:cNvSpPr/>
          <p:nvPr/>
        </p:nvSpPr>
        <p:spPr>
          <a:xfrm>
            <a:off x="3200400" y="480060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ок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1828800" y="4419720"/>
            <a:ext cx="8380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13"/>
          <p:cNvSpPr/>
          <p:nvPr/>
        </p:nvSpPr>
        <p:spPr>
          <a:xfrm>
            <a:off x="2666880" y="48006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4"/>
          <p:cNvSpPr/>
          <p:nvPr/>
        </p:nvSpPr>
        <p:spPr>
          <a:xfrm>
            <a:off x="2666880" y="4191120"/>
            <a:ext cx="533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2666880" y="358128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16"/>
          <p:cNvSpPr/>
          <p:nvPr/>
        </p:nvSpPr>
        <p:spPr>
          <a:xfrm>
            <a:off x="2666880" y="29718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18"/>
          <p:cNvSpPr/>
          <p:nvPr/>
        </p:nvSpPr>
        <p:spPr>
          <a:xfrm>
            <a:off x="4495680" y="29718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19"/>
          <p:cNvSpPr/>
          <p:nvPr/>
        </p:nvSpPr>
        <p:spPr>
          <a:xfrm>
            <a:off x="4495680" y="358128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20"/>
          <p:cNvSpPr/>
          <p:nvPr/>
        </p:nvSpPr>
        <p:spPr>
          <a:xfrm>
            <a:off x="4495680" y="4191120"/>
            <a:ext cx="533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21"/>
          <p:cNvSpPr/>
          <p:nvPr/>
        </p:nvSpPr>
        <p:spPr>
          <a:xfrm>
            <a:off x="4495680" y="48006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24" descr="Безымянный"/>
          <p:cNvPicPr/>
          <p:nvPr/>
        </p:nvPicPr>
        <p:blipFill>
          <a:blip r:embed="rId1"/>
          <a:stretch/>
        </p:blipFill>
        <p:spPr>
          <a:xfrm>
            <a:off x="5410080" y="3581280"/>
            <a:ext cx="3191040" cy="11052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25"/>
          <p:cNvSpPr/>
          <p:nvPr/>
        </p:nvSpPr>
        <p:spPr>
          <a:xfrm>
            <a:off x="304920" y="518004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ети Интернет действует международный протокол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TCP/IP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дрес компьютера в сети носит название IP-адре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ий вид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ХХ.ХХХ.ХХХ.ХХ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Адрес компьютера в сети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3735000" y="57902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тет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10"/>
          <p:cNvSpPr/>
          <p:nvPr/>
        </p:nvSpPr>
        <p:spPr>
          <a:xfrm flipH="1" flipV="1">
            <a:off x="3200040" y="518112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11"/>
          <p:cNvSpPr/>
          <p:nvPr/>
        </p:nvSpPr>
        <p:spPr>
          <a:xfrm flipH="1" flipV="1">
            <a:off x="4038480" y="518112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12"/>
          <p:cNvSpPr/>
          <p:nvPr/>
        </p:nvSpPr>
        <p:spPr>
          <a:xfrm flipV="1">
            <a:off x="4419720" y="5181120"/>
            <a:ext cx="5331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13"/>
          <p:cNvSpPr/>
          <p:nvPr/>
        </p:nvSpPr>
        <p:spPr>
          <a:xfrm flipV="1">
            <a:off x="4876920" y="5181120"/>
            <a:ext cx="9903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Соответствие классов сетей значению первого октета IP-адреса</a:t>
            </a: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457200" y="1600200"/>
          <a:ext cx="8229600" cy="4937040"/>
        </p:xfrm>
        <a:graphic>
          <a:graphicData uri="http://schemas.openxmlformats.org/drawingml/2006/table">
            <a:tbl>
              <a:tblPr/>
              <a:tblGrid>
                <a:gridCol w="1447920"/>
                <a:gridCol w="2101680"/>
                <a:gridCol w="2457360"/>
                <a:gridCol w="2222640"/>
              </a:tblGrid>
              <a:tr h="1554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ласс се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иапазон значений первого окте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зможное количество подсете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зможное количество узл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3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12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8-19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2-22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4-23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-24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38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9715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77721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53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28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2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Назначение адресов по классам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А используются в крупных сетях общего польз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В применяют в корпоративных сетях средних размер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С - в локальных сетях небольших предприят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D - для обращения к группам маши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Е пока не используются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IP-адрес компьютера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ост - любой подключенный к Интернету компьютер независимо от его назначе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95.85.102.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157680" y="4571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5-я подсеть сети Интерн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994680" y="563796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5-я подсеть 195 подсе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6"/>
          <p:cNvSpPr/>
          <p:nvPr/>
        </p:nvSpPr>
        <p:spPr>
          <a:xfrm>
            <a:off x="4347360" y="61714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2-я подсеть 85 подсе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5339160" y="5104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-й компьютер в 102 подсе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8"/>
          <p:cNvSpPr/>
          <p:nvPr/>
        </p:nvSpPr>
        <p:spPr>
          <a:xfrm flipH="1">
            <a:off x="1676160" y="41148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9"/>
          <p:cNvSpPr/>
          <p:nvPr/>
        </p:nvSpPr>
        <p:spPr>
          <a:xfrm flipH="1">
            <a:off x="2743200" y="4267080"/>
            <a:ext cx="144792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10"/>
          <p:cNvSpPr/>
          <p:nvPr/>
        </p:nvSpPr>
        <p:spPr>
          <a:xfrm>
            <a:off x="4876920" y="4267080"/>
            <a:ext cx="685800" cy="190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Line 12"/>
          <p:cNvSpPr/>
          <p:nvPr/>
        </p:nvSpPr>
        <p:spPr>
          <a:xfrm>
            <a:off x="5638680" y="426708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4"/>
          <p:cNvSpPr/>
          <p:nvPr/>
        </p:nvSpPr>
        <p:spPr>
          <a:xfrm>
            <a:off x="228600" y="1220760"/>
            <a:ext cx="8534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 того или иного ресурса Всемирной сети, записанный в стандарте DNS, дробится на несколько составляющих, отделенных друг от друга точкой. Эти элементы носят название "доменов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кое обозначение принято называть URL (Uniform Resource Locator), что можно перевести на русский язык, как "универсальный определитель местонахождения ресурса"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http:// -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отокол передачи гипертекстового документа (Hyper TextTransfer Protocol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www -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World Wide Web - Всемирная паути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myhost.mydomain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ен третьего уров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spb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ен второго уров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Ru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ен первого уров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4"/>
          <p:cNvSpPr/>
          <p:nvPr/>
        </p:nvSpPr>
        <p:spPr>
          <a:xfrm>
            <a:off x="385200" y="2514600"/>
            <a:ext cx="82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Принцип работы DNS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2" name="Picture 7" descr="архивкккопирование"/>
          <p:cNvPicPr/>
          <p:nvPr/>
        </p:nvPicPr>
        <p:blipFill>
          <a:blip r:embed="rId1"/>
          <a:stretch/>
        </p:blipFill>
        <p:spPr>
          <a:xfrm>
            <a:off x="4419720" y="1752480"/>
            <a:ext cx="399960" cy="324000"/>
          </a:xfrm>
          <a:prstGeom prst="rect">
            <a:avLst/>
          </a:prstGeom>
          <a:ln w="0">
            <a:noFill/>
          </a:ln>
        </p:spPr>
      </p:pic>
      <p:sp>
        <p:nvSpPr>
          <p:cNvPr id="573" name="AutoShape 9"/>
          <p:cNvSpPr/>
          <p:nvPr/>
        </p:nvSpPr>
        <p:spPr>
          <a:xfrm flipH="1">
            <a:off x="7467480" y="3124080"/>
            <a:ext cx="914400" cy="457200"/>
          </a:xfrm>
          <a:custGeom>
            <a:avLst/>
            <a:gdLst>
              <a:gd name="textAreaLeft" fmla="*/ 159840 w 914400"/>
              <a:gd name="textAreaRight" fmla="*/ 663120 w 9144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AutoShape 10"/>
          <p:cNvSpPr/>
          <p:nvPr/>
        </p:nvSpPr>
        <p:spPr>
          <a:xfrm flipH="1">
            <a:off x="5790600" y="3124080"/>
            <a:ext cx="1600200" cy="457200"/>
          </a:xfrm>
          <a:custGeom>
            <a:avLst/>
            <a:gdLst>
              <a:gd name="textAreaLeft" fmla="*/ 280080 w 1600200"/>
              <a:gd name="textAreaRight" fmla="*/ 1160280 w 16002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AutoShape 11"/>
          <p:cNvSpPr/>
          <p:nvPr/>
        </p:nvSpPr>
        <p:spPr>
          <a:xfrm flipH="1">
            <a:off x="3351960" y="3124080"/>
            <a:ext cx="2210040" cy="457200"/>
          </a:xfrm>
          <a:custGeom>
            <a:avLst/>
            <a:gdLst>
              <a:gd name="textAreaLeft" fmla="*/ 386640 w 2210040"/>
              <a:gd name="textAreaRight" fmla="*/ 1602360 w 22100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Picture 12" descr="архивкккопирование"/>
          <p:cNvPicPr/>
          <p:nvPr/>
        </p:nvPicPr>
        <p:blipFill>
          <a:blip r:embed="rId2"/>
          <a:stretch/>
        </p:blipFill>
        <p:spPr>
          <a:xfrm>
            <a:off x="7848720" y="3657600"/>
            <a:ext cx="399960" cy="3240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3" descr="архивкккопирование"/>
          <p:cNvPicPr/>
          <p:nvPr/>
        </p:nvPicPr>
        <p:blipFill>
          <a:blip r:embed="rId3"/>
          <a:stretch/>
        </p:blipFill>
        <p:spPr>
          <a:xfrm>
            <a:off x="6477120" y="3657600"/>
            <a:ext cx="399960" cy="3240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4" descr="архивкккопирование"/>
          <p:cNvPicPr/>
          <p:nvPr/>
        </p:nvPicPr>
        <p:blipFill>
          <a:blip r:embed="rId4"/>
          <a:stretch/>
        </p:blipFill>
        <p:spPr>
          <a:xfrm>
            <a:off x="4419720" y="3809880"/>
            <a:ext cx="399960" cy="324000"/>
          </a:xfrm>
          <a:prstGeom prst="rect">
            <a:avLst/>
          </a:prstGeom>
          <a:ln w="0">
            <a:noFill/>
          </a:ln>
        </p:spPr>
      </p:pic>
      <p:sp>
        <p:nvSpPr>
          <p:cNvPr id="579" name="Line 15"/>
          <p:cNvSpPr/>
          <p:nvPr/>
        </p:nvSpPr>
        <p:spPr>
          <a:xfrm>
            <a:off x="4952880" y="1981080"/>
            <a:ext cx="33530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16"/>
          <p:cNvSpPr/>
          <p:nvPr/>
        </p:nvSpPr>
        <p:spPr>
          <a:xfrm>
            <a:off x="6402600" y="1828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17"/>
          <p:cNvSpPr/>
          <p:nvPr/>
        </p:nvSpPr>
        <p:spPr>
          <a:xfrm>
            <a:off x="7850160" y="312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18"/>
          <p:cNvSpPr/>
          <p:nvPr/>
        </p:nvSpPr>
        <p:spPr>
          <a:xfrm>
            <a:off x="6561360" y="312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19"/>
          <p:cNvSpPr/>
          <p:nvPr/>
        </p:nvSpPr>
        <p:spPr>
          <a:xfrm>
            <a:off x="4427640" y="312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20"/>
          <p:cNvSpPr/>
          <p:nvPr/>
        </p:nvSpPr>
        <p:spPr>
          <a:xfrm>
            <a:off x="609480" y="4267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кать нужный компьютер в Интернете пользовательским машинам помогают DNS-серверы - программы, которые при обращении к ним выискивают нужный IP-адрес по введенному URL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ена</cp:lastModifiedBy>
  <dcterms:modified xsi:type="dcterms:W3CDTF">2016-11-26T11:31:00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