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3244-BFBB-46B5-BA08-E1777791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335B-5067-4D6F-9B0F-74C54639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A082-2C94-4D0A-A6B1-A27F7C30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D275-EC74-4DB2-A1E6-90D8E35B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1C8D-E745-4A46-866F-76E48F43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F7FD-8864-42CE-9AD2-A70D24AB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E2B1-4C51-463D-8A9F-C113A852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CA6E-3567-4C4F-A91F-352528FC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D20F-CBE8-4E7A-801C-29D56B06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1916-6B0F-4E72-9679-A223D1D3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B3E0-4DD8-4E2A-8DCB-F77043B9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6E2F-0867-4DAF-B6DD-8E013BD8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7B0E-3614-497B-A3B6-62A528A5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5313-56A0-4907-B4CC-10679FCA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2A72-571F-403E-B7C8-083392DD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493A-B059-4FC0-A23E-225744E1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69FA-178A-441D-AB0E-4898CBEE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6FCB-90EB-422B-96BE-EA73207B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8716-DD16-4ACC-ABDF-10751271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A1D0-A07E-46E7-BCBE-D49B7B27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BCF5-CAF3-4733-A0CA-A61DF764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306B-0980-491D-A17A-C54A7B78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3FE4-C877-41F5-99BE-C48ABEDB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EE60-7E43-48A8-9711-272E493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99E6-82E3-448D-8976-93703B674B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67E3-5AA8-4A89-94EE-5DEC411120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736280"/>
            <a:ext cx="8424720" cy="37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МАТЕМАТИЧЕСКИЕ РЕБУС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4" descr="rebus_7"/>
          <p:cNvPicPr/>
          <p:nvPr/>
        </p:nvPicPr>
        <p:blipFill>
          <a:blip r:embed="rId1"/>
          <a:stretch/>
        </p:blipFill>
        <p:spPr>
          <a:xfrm>
            <a:off x="468360" y="1700280"/>
            <a:ext cx="8136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ИНУС</a:t>
            </a:r>
            <a:endParaRPr b="0" lang="en-US" sz="1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rebus_10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600200"/>
            <a:ext cx="836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ЕРШИНА</a:t>
            </a:r>
            <a:endParaRPr b="0" lang="en-US" sz="1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rebus_13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РОБЬ</a:t>
            </a:r>
            <a:endParaRPr b="0" lang="en-US" sz="1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rebus_14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А</a:t>
            </a:r>
            <a:endParaRPr b="0" lang="en-US" sz="1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rebus_19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ОЧКА</a:t>
            </a:r>
            <a:endParaRPr b="0" lang="en-US" sz="1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1"/>
          <p:cNvPicPr/>
          <p:nvPr/>
        </p:nvPicPr>
        <p:blipFill>
          <a:blip r:embed="rId1"/>
          <a:stretch/>
        </p:blipFill>
        <p:spPr>
          <a:xfrm>
            <a:off x="611280" y="1989000"/>
            <a:ext cx="7705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rebus_20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А</a:t>
            </a:r>
            <a:endParaRPr b="0" lang="en-US" sz="1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9806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700" spc="-1" strike="noStrike">
                <a:solidFill>
                  <a:srgbClr val="e5e5ff"/>
                </a:solidFill>
                <a:latin typeface="Garamond"/>
              </a:rPr>
              <a:t>Задания на смекалку</a:t>
            </a: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Масса петуха, стоящего на двух ногах, 4 кг. Какова будет масса петуха, если он встанет на одну ногу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ОЖЕ 4 КГ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Два мальчика играли в шашки 2 ч. Сколько часов играл каждый мальчик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 ЧАС</a:t>
            </a:r>
            <a:endParaRPr b="0" lang="en-US" sz="1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Пара лошадей пробежала 40км. Сколько километров пробежала каждая лошадь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40 КМ</a:t>
            </a:r>
            <a:endParaRPr b="0" lang="en-US" sz="1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У семи братьев по одной сестрице. Сколько всего детей в семье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 u="sng">
                <a:solidFill>
                  <a:srgbClr val="ff0000"/>
                </a:solidFill>
                <a:uFillTx/>
                <a:latin typeface="Garamond"/>
              </a:rPr>
              <a:t>РОМБ</a:t>
            </a:r>
            <a:endParaRPr b="0" lang="en-US" sz="1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8 ДЕТЕЙ</a:t>
            </a:r>
            <a:endParaRPr b="0" lang="en-US" sz="1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Масса дрессированной собачки, когда она стоит на задних лапах, 3кг. Какова будет ее масса, если она встанет на 4 ноги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ОЖЕ 3 КГ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еологи  нашли 7 камней. Масса каждого  камня: 1кг, 2кг, 3кг,4кг, 5кг, 6кг, 7кг.  Эти камни разложили в 4 рюкзака так, что в каждом рюкзаке масса камней оказалась одинаковой. Как это сделать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КГ</a:t>
            </a:r>
            <a:endParaRPr b="0" lang="en-US" sz="1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1"/>
          <p:cNvPicPr/>
          <p:nvPr/>
        </p:nvPicPr>
        <p:blipFill>
          <a:blip r:embed="rId1"/>
          <a:stretch/>
        </p:blipFill>
        <p:spPr>
          <a:xfrm>
            <a:off x="2228760" y="2514600"/>
            <a:ext cx="468648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rebus_3"/>
          <p:cNvPicPr/>
          <p:nvPr/>
        </p:nvPicPr>
        <p:blipFill>
          <a:blip r:embed="rId2"/>
          <a:stretch/>
        </p:blipFill>
        <p:spPr>
          <a:xfrm>
            <a:off x="468360" y="1916280"/>
            <a:ext cx="8207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ГОЛ</a:t>
            </a:r>
            <a:endParaRPr b="0" lang="en-US" sz="1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rebus_4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РЕЗОК</a:t>
            </a:r>
            <a:endParaRPr b="0" lang="en-US" sz="1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rebus_5"/>
          <p:cNvPicPr/>
          <p:nvPr/>
        </p:nvPicPr>
        <p:blipFill>
          <a:blip r:embed="rId1"/>
          <a:stretch/>
        </p:blipFill>
        <p:spPr>
          <a:xfrm>
            <a:off x="539640" y="1916280"/>
            <a:ext cx="8064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ИФАГОР</a:t>
            </a:r>
            <a:endParaRPr b="0" lang="en-US" sz="1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13:36:28Z</dcterms:created>
  <dc:creator>Customer</dc:creator>
  <dc:description/>
  <dc:language>en-US</dc:language>
  <cp:lastModifiedBy>Анастасия</cp:lastModifiedBy>
  <dcterms:modified xsi:type="dcterms:W3CDTF">2016-04-18T16:17:43Z</dcterms:modified>
  <cp:revision>8</cp:revision>
  <dc:subject/>
  <dc:title>Задания на смекалку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