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0.gif" ContentType="image/gif"/>
  <Override PartName="/ppt/media/image33.png" ContentType="image/png"/>
  <Override PartName="/ppt/media/image8.png" ContentType="image/png"/>
  <Override PartName="/ppt/media/image35.jpeg" ContentType="image/jpeg"/>
  <Override PartName="/ppt/media/image31.jpeg" ContentType="image/jpeg"/>
  <Override PartName="/ppt/media/image38.gif" ContentType="image/gif"/>
  <Override PartName="/ppt/media/image39.gif" ContentType="image/gif"/>
  <Override PartName="/ppt/media/image41.jpeg" ContentType="image/jpeg"/>
  <Override PartName="/ppt/media/image43.jpeg" ContentType="image/jpeg"/>
  <Override PartName="/ppt/media/image37.png" ContentType="image/png"/>
  <Override PartName="/ppt/media/image44.jpeg" ContentType="image/jpeg"/>
  <Override PartName="/ppt/media/image45.png" ContentType="image/png"/>
  <Override PartName="/ppt/media/image46.gif" ContentType="image/gif"/>
  <Override PartName="/ppt/media/image3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C49-D763-457D-8798-E41B37F8ED1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D50-7891-4818-AFD1-703F744F6E6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7C2-4C04-4C30-90AC-D3CEAB94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DE0-3A1B-420A-9204-377E15ED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8C4-2D75-4C8E-B4B6-6D4D3CD1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1BE-2AC2-43EE-876D-455DDFF5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E85-32E9-4B71-9EB3-68D01F74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8BF-AF9F-4086-8FDC-509D9B73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EF5-9350-4A33-93AD-D24B740D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75B-60D8-4E4B-A5DA-EC04A82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AEE-C37A-408D-B2CA-2A53157E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63C-5689-4515-BC06-8B09BD5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56B-E332-4ABD-AF6C-8A0F286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9F0-845A-4B9E-B656-CBBF1E7B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682-583A-4AA0-BB06-D34C4A92B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895320" y="-237960"/>
            <a:ext cx="8248680" cy="176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90756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Общероссийская культурно-экологическая ак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п5"/>
          <p:cNvPicPr/>
          <p:nvPr/>
        </p:nvPicPr>
        <p:blipFill>
          <a:blip r:embed="rId2"/>
          <a:stretch/>
        </p:blipFill>
        <p:spPr>
          <a:xfrm>
            <a:off x="5334120" y="3843360"/>
            <a:ext cx="378756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908000" y="1341360"/>
            <a:ext cx="612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Острогожский муниципальный район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Arial"/>
              </a:rPr>
              <a:t>МКОУ Петропавловская СОШ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5640" y="2133720"/>
            <a:ext cx="504036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omic Sans MS"/>
              </a:rPr>
              <a:t>Участники а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лизаров А., Михайлов Д., Несветаева М., Свитова А., Липовцева И., Миллер А., Смагина Т. (3-4 класс)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omic Sans MS"/>
              </a:rPr>
              <a:t>Адрес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ежская область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гожский район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о Петропавловка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Comic Sans MS"/>
              </a:rPr>
              <a:t>Руководител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ецких 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да  Владимировна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. 8-920-445-32-07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13413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гаты их корма.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сть зерна нужна,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сть одна —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страшна будет им зима.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pic>
        <p:nvPicPr>
          <p:cNvPr id="104" name="Picture 5" descr="P100023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219640" y="1125360"/>
            <a:ext cx="3154320" cy="236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P100024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3429000"/>
            <a:ext cx="3798720" cy="284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100024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5003640" y="3645000"/>
            <a:ext cx="3600720" cy="270180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6" descr=""/>
          <p:cNvPicPr/>
          <p:nvPr/>
        </p:nvPicPr>
        <p:blipFill>
          <a:blip r:embed="rId4"/>
          <a:stretch/>
        </p:blipFill>
        <p:spPr>
          <a:xfrm>
            <a:off x="1895400" y="176040"/>
            <a:ext cx="57546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п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AM_208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700280"/>
            <a:ext cx="3981600" cy="298620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6" descr=""/>
          <p:cNvPicPr/>
          <p:nvPr/>
        </p:nvPicPr>
        <p:blipFill>
          <a:blip r:embed="rId2"/>
          <a:stretch/>
        </p:blipFill>
        <p:spPr>
          <a:xfrm>
            <a:off x="384120" y="463680"/>
            <a:ext cx="83026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AM_208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3429000"/>
            <a:ext cx="4195800" cy="3147840"/>
          </a:xfrm>
          <a:prstGeom prst="rect">
            <a:avLst/>
          </a:prstGeom>
          <a:ln w="0">
            <a:noFill/>
          </a:ln>
        </p:spPr>
      </p:pic>
      <p:sp>
        <p:nvSpPr>
          <p:cNvPr id="56" name="Oval 8"/>
          <p:cNvSpPr/>
          <p:nvPr/>
        </p:nvSpPr>
        <p:spPr>
          <a:xfrm>
            <a:off x="5148360" y="3933720"/>
            <a:ext cx="50472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57" name="Oval 9"/>
          <p:cNvSpPr/>
          <p:nvPr/>
        </p:nvSpPr>
        <p:spPr>
          <a:xfrm>
            <a:off x="5435640" y="3500280"/>
            <a:ext cx="79200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5796000" y="1773360"/>
            <a:ext cx="2521080" cy="151128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pic>
        <p:nvPicPr>
          <p:cNvPr id="59" name="Picture 13" descr="п4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227640" y="1968480"/>
            <a:ext cx="155592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AM_2078"/>
          <p:cNvPicPr/>
          <p:nvPr/>
        </p:nvPicPr>
        <p:blipFill>
          <a:blip r:embed="rId1"/>
          <a:stretch/>
        </p:blipFill>
        <p:spPr>
          <a:xfrm>
            <a:off x="755640" y="112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1" name="WordArt 3" descr=""/>
          <p:cNvPicPr/>
          <p:nvPr/>
        </p:nvPicPr>
        <p:blipFill>
          <a:blip r:embed="rId2"/>
          <a:stretch/>
        </p:blipFill>
        <p:spPr>
          <a:xfrm>
            <a:off x="2036880" y="249120"/>
            <a:ext cx="5467320" cy="79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AM_2073"/>
          <p:cNvPicPr/>
          <p:nvPr/>
        </p:nvPicPr>
        <p:blipFill>
          <a:blip r:embed="rId3"/>
          <a:stretch/>
        </p:blipFill>
        <p:spPr>
          <a:xfrm>
            <a:off x="5364000" y="1125360"/>
            <a:ext cx="2232360" cy="212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AM_2075"/>
          <p:cNvPicPr/>
          <p:nvPr/>
        </p:nvPicPr>
        <p:blipFill>
          <a:blip r:embed="rId4"/>
          <a:stretch/>
        </p:blipFill>
        <p:spPr>
          <a:xfrm>
            <a:off x="1042920" y="3789360"/>
            <a:ext cx="22338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AM_2076"/>
          <p:cNvPicPr/>
          <p:nvPr/>
        </p:nvPicPr>
        <p:blipFill>
          <a:blip r:embed="rId5"/>
          <a:stretch/>
        </p:blipFill>
        <p:spPr>
          <a:xfrm>
            <a:off x="5292720" y="4005360"/>
            <a:ext cx="2736720" cy="2446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900000" y="32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скизы готовы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148360" y="357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356000" y="321300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астники акции: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агина Татьяна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116000" y="6381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лизаров Антон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364000" y="645336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ветаева Мария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pic>
        <p:nvPicPr>
          <p:cNvPr id="70" name="Picture 13" descr="п2"/>
          <p:cNvPicPr/>
          <p:nvPr/>
        </p:nvPicPr>
        <p:blipFill>
          <a:blip r:embed="rId6"/>
          <a:stretch/>
        </p:blipFill>
        <p:spPr>
          <a:xfrm>
            <a:off x="3780000" y="2957400"/>
            <a:ext cx="13064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AM_207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268280"/>
            <a:ext cx="6624720" cy="468180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3" descr=""/>
          <p:cNvPicPr/>
          <p:nvPr/>
        </p:nvPicPr>
        <p:blipFill>
          <a:blip r:embed="rId2"/>
          <a:stretch/>
        </p:blipFill>
        <p:spPr>
          <a:xfrm>
            <a:off x="1682640" y="249120"/>
            <a:ext cx="625500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AM_211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1268280"/>
            <a:ext cx="2880000" cy="215928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4" descr=""/>
          <p:cNvPicPr/>
          <p:nvPr/>
        </p:nvPicPr>
        <p:blipFill>
          <a:blip r:embed="rId2"/>
          <a:stretch/>
        </p:blipFill>
        <p:spPr>
          <a:xfrm>
            <a:off x="2255760" y="390600"/>
            <a:ext cx="5272200" cy="69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AM_2122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292720" y="1341360"/>
            <a:ext cx="2900520" cy="21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Skom\Desktop\покормите птиц\P1000210.JP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771640" y="3716280"/>
            <a:ext cx="3156120" cy="2367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967120" y="6257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95640" y="6308640"/>
            <a:ext cx="43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й помощник - старший брат!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AM_212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268280"/>
            <a:ext cx="2303640" cy="172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SAM_212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443640" y="125568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4" descr=""/>
          <p:cNvPicPr/>
          <p:nvPr/>
        </p:nvPicPr>
        <p:blipFill>
          <a:blip r:embed="rId3"/>
          <a:stretch/>
        </p:blipFill>
        <p:spPr>
          <a:xfrm>
            <a:off x="1609560" y="463680"/>
            <a:ext cx="6107400" cy="77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п7"/>
          <p:cNvPicPr/>
          <p:nvPr/>
        </p:nvPicPr>
        <p:blipFill>
          <a:blip r:embed="rId4"/>
          <a:stretch/>
        </p:blipFill>
        <p:spPr>
          <a:xfrm>
            <a:off x="3203640" y="4724280"/>
            <a:ext cx="2950920" cy="129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Skom\Desktop\покормите птиц\P1000227.JPG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577800" y="317988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1000228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6516720" y="3233880"/>
            <a:ext cx="2144520" cy="160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1000229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3276720" y="1773360"/>
            <a:ext cx="2842920" cy="21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1000230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539640" y="49546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P100023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6537240" y="5035680"/>
            <a:ext cx="214308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SAM_212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79640" y="1557360"/>
            <a:ext cx="5419800" cy="406548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4" descr=""/>
          <p:cNvPicPr/>
          <p:nvPr/>
        </p:nvPicPr>
        <p:blipFill>
          <a:blip r:embed="rId2"/>
          <a:stretch/>
        </p:blipFill>
        <p:spPr>
          <a:xfrm>
            <a:off x="1463760" y="609480"/>
            <a:ext cx="6692760" cy="57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п3"/>
          <p:cNvPicPr/>
          <p:nvPr/>
        </p:nvPicPr>
        <p:blipFill>
          <a:blip r:embed="rId3"/>
          <a:stretch/>
        </p:blipFill>
        <p:spPr>
          <a:xfrm>
            <a:off x="0" y="5445000"/>
            <a:ext cx="163836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AM_2126"/>
          <p:cNvPicPr/>
          <p:nvPr/>
        </p:nvPicPr>
        <p:blipFill>
          <a:blip r:embed="rId1"/>
          <a:stretch/>
        </p:blipFill>
        <p:spPr>
          <a:xfrm>
            <a:off x="539640" y="4005360"/>
            <a:ext cx="3240360" cy="243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AM_2128"/>
          <p:cNvPicPr/>
          <p:nvPr/>
        </p:nvPicPr>
        <p:blipFill>
          <a:blip r:embed="rId2"/>
          <a:stretch/>
        </p:blipFill>
        <p:spPr>
          <a:xfrm>
            <a:off x="4859280" y="1268280"/>
            <a:ext cx="3262320" cy="2446560"/>
          </a:xfrm>
          <a:prstGeom prst="rect">
            <a:avLst/>
          </a:prstGeom>
          <a:ln w="0">
            <a:noFill/>
          </a:ln>
        </p:spPr>
      </p:pic>
      <p:pic>
        <p:nvPicPr>
          <p:cNvPr id="93" name="WordArt 4" descr=""/>
          <p:cNvPicPr/>
          <p:nvPr/>
        </p:nvPicPr>
        <p:blipFill>
          <a:blip r:embed="rId3"/>
          <a:stretch/>
        </p:blipFill>
        <p:spPr>
          <a:xfrm>
            <a:off x="1030320" y="324000"/>
            <a:ext cx="7338960" cy="98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п6"/>
          <p:cNvPicPr/>
          <p:nvPr/>
        </p:nvPicPr>
        <p:blipFill>
          <a:blip r:embed="rId4"/>
          <a:stretch/>
        </p:blipFill>
        <p:spPr>
          <a:xfrm>
            <a:off x="611280" y="1413000"/>
            <a:ext cx="2089080" cy="174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1000234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4788000" y="3933720"/>
            <a:ext cx="3365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AM_2131"/>
          <p:cNvPicPr/>
          <p:nvPr/>
        </p:nvPicPr>
        <p:blipFill>
          <a:blip r:embed="rId1"/>
          <a:stretch/>
        </p:blipFill>
        <p:spPr>
          <a:xfrm>
            <a:off x="395280" y="141300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6" descr=""/>
          <p:cNvPicPr/>
          <p:nvPr/>
        </p:nvPicPr>
        <p:blipFill>
          <a:blip r:embed="rId2"/>
          <a:stretch/>
        </p:blipFill>
        <p:spPr>
          <a:xfrm>
            <a:off x="1390680" y="390600"/>
            <a:ext cx="6765840" cy="987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4067280" y="1773360"/>
            <a:ext cx="4681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ормите птиц зимой.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со всех концов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вам слетятся, как домой,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йки на крыльц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 u="sng">
              <a:solidFill>
                <a:srgbClr val="ffffff"/>
              </a:solidFill>
              <a:uFillTx/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pic>
        <p:nvPicPr>
          <p:cNvPr id="99" name="Picture 9" descr="pticia-846"/>
          <p:cNvPicPr/>
          <p:nvPr/>
        </p:nvPicPr>
        <p:blipFill>
          <a:blip r:embed="rId3"/>
          <a:stretch/>
        </p:blipFill>
        <p:spPr>
          <a:xfrm>
            <a:off x="0" y="47628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п1"/>
          <p:cNvPicPr/>
          <p:nvPr/>
        </p:nvPicPr>
        <p:blipFill>
          <a:blip r:embed="rId4"/>
          <a:stretch/>
        </p:blipFill>
        <p:spPr>
          <a:xfrm>
            <a:off x="7905600" y="2852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1000235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430880" y="3683160"/>
            <a:ext cx="3939840" cy="295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1000236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468360" y="4113360"/>
            <a:ext cx="33130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00:05Z</dcterms:created>
  <dc:creator>Skom</dc:creator>
  <dc:description/>
  <dc:language>en-US</dc:language>
  <cp:lastModifiedBy>Skom</cp:lastModifiedBy>
  <dcterms:modified xsi:type="dcterms:W3CDTF">2016-11-26T06:56:59Z</dcterms:modified>
  <cp:revision>19</cp:revision>
  <dc:subject/>
  <dc:title>Покормите птиц!</dc:title>
</cp:coreProperties>
</file>