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inux Biolinum G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nux Biolinum G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Linux Biolinum G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inux Biolinum G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inux Biolinum G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nux Biolinum G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0FEB5-EF8C-4FA3-926A-3847734200E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inux Biolinum 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D4AE1-88D8-4060-A008-D8E788B4773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inux Biolinum G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92FD-1B65-4E49-9FAA-2434E388E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inux Biolinum G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G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G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D65A-07A1-4EA8-907D-20AC0125D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inux Biolinum G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G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G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G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G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8731-BBDB-471E-98A7-943548E31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inux Biolinum G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G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G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G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G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G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G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5584-622C-4023-A64E-456AB8BEB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6E7A3-AF73-4171-A7D6-7932B05AE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inux Biolinum G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G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87117-AF58-487C-8B03-8F91A4C9E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inux Biolinum G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G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16453-0976-4932-B443-91F1D891F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inux Biolinum G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G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G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D290F-D38F-49CE-9D75-AE42F7FD4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inux Biolinum 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17EA6-B6B9-4DB2-940C-D1059631F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3BF7F-3A07-4054-BFDA-D6DB26D24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inux Biolinum G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G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G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1D8CD-1375-4952-A926-F55354AB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inux Biolinum G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G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43FC-DEE6-49E9-A036-A3AC617C2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inux Biolinum G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G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G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46054-2C98-4686-88D4-9757113D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inux Biolinum G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G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G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59453-6BE0-40EC-A424-1085257F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inux Biolinum G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G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G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60B8E-6DC5-4DC7-9683-FAA34BD21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inux Biolinum G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G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G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G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G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A606E-45A5-4DEC-B72C-9E9E8EA45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inux Biolinum G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G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G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G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G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G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G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D3FAA-13A8-4338-A1F8-CDDA95F91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inux Biolinum G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G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57A2-EE25-4066-AF5F-DCEB35181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inux Biolinum G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G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G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BADF-D6B9-4B92-A416-3E67A6C96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inux Biolinum 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6D64-DA5B-4205-A833-1EF1CC3B2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7602-CA72-453E-BA7F-2DE80F611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inux Biolinum G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G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G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807A-B3C0-4D29-9DA7-1CCBF09C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inux Biolinum G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G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G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9AE6-40B7-4B9D-83F2-749E036F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inux Biolinum G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G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G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inux Biolinum 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CCB1-09E2-41AC-900B-F099D88B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inux Biolinum G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inux Biolinum G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G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inux Biolinum G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G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inux Biolinum G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G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inux Biolinum G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G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inux Biolinum G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G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inux Biolinum G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G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inux Biolinum G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G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inux Biolinum G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Linux Biolinum G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Linux Biolinum G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Linux Biolinum G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nux Biolinum G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Linux Biolinum G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3D51B-7F8B-4E08-9B14-BD6AEB4479F9}" type="slidenum">
              <a:rPr b="0" lang="ru-RU" sz="1200" spc="-1" strike="noStrike">
                <a:solidFill>
                  <a:srgbClr val="898989"/>
                </a:solidFill>
                <a:latin typeface="Linux Biolinum G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inux Biolinum 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inux Biolinum G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inux Biolinum G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G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inux Biolinum G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G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inux Biolinum G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G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inux Biolinum G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G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inux Biolinum G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G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inux Biolinum G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G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inux Biolinum G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nux Biolinum G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inux Biolinum G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nux Biolinum G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nux Biolinum G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Linux Biolinum G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0AAC5-3179-4A7B-B1B2-0CF84959DBDD}" type="slidenum">
              <a:rPr b="0" lang="ru-RU" sz="1200" spc="-1" strike="noStrike">
                <a:solidFill>
                  <a:srgbClr val="898989"/>
                </a:solidFill>
                <a:latin typeface="Linux Biolinum G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inux Biolinum 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D:\__Василий\Литература\шаблон\pics_lit\11 [преобразованный].png"/>
          <p:cNvPicPr/>
          <p:nvPr/>
        </p:nvPicPr>
        <p:blipFill>
          <a:blip r:embed="rId1"/>
          <a:stretch/>
        </p:blipFill>
        <p:spPr>
          <a:xfrm>
            <a:off x="0" y="857160"/>
            <a:ext cx="3105000" cy="309420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2"/>
          <p:cNvSpPr/>
          <p:nvPr/>
        </p:nvSpPr>
        <p:spPr>
          <a:xfrm>
            <a:off x="3286080" y="2071800"/>
            <a:ext cx="571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inux Biolinum G"/>
              </a:rPr>
              <a:t>От одного слова – да навек ссора</a:t>
            </a:r>
            <a:endParaRPr b="0" lang="en-US" sz="2400" spc="-1" strike="noStrike">
              <a:solidFill>
                <a:srgbClr val="000000"/>
              </a:solidFill>
              <a:latin typeface="Linux Biolinum G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inux Biolinum G"/>
              </a:rPr>
              <a:t>Одна задириха, а другая неспустиха</a:t>
            </a:r>
            <a:endParaRPr b="0" lang="en-US" sz="2400" spc="-1" strike="noStrike">
              <a:solidFill>
                <a:srgbClr val="000000"/>
              </a:solidFill>
              <a:latin typeface="Linux Biolinum G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inux Biolinum G"/>
              </a:rPr>
              <a:t>Нелады да свары хуже пожара</a:t>
            </a:r>
            <a:endParaRPr b="0" lang="en-US" sz="2400" spc="-1" strike="noStrike">
              <a:solidFill>
                <a:srgbClr val="000000"/>
              </a:solidFill>
              <a:latin typeface="Linux Biolinum G"/>
            </a:endParaRPr>
          </a:p>
        </p:txBody>
      </p:sp>
      <p:pic>
        <p:nvPicPr>
          <p:cNvPr id="91" name="Рисунок 5" descr=""/>
          <p:cNvPicPr/>
          <p:nvPr/>
        </p:nvPicPr>
        <p:blipFill>
          <a:blip r:embed="rId2"/>
          <a:stretch/>
        </p:blipFill>
        <p:spPr>
          <a:xfrm>
            <a:off x="4572000" y="3714840"/>
            <a:ext cx="3106800" cy="60804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6" descr=""/>
          <p:cNvPicPr/>
          <p:nvPr/>
        </p:nvPicPr>
        <p:blipFill>
          <a:blip r:embed="rId3"/>
          <a:stretch/>
        </p:blipFill>
        <p:spPr>
          <a:xfrm>
            <a:off x="4572000" y="857160"/>
            <a:ext cx="3108240" cy="608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214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Linux Biolinum G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Linux Biolinum G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Linux Biolinum G"/>
              </a:rPr>
              <a:t>Размышляем о прочитанном </a:t>
            </a:r>
            <a:r>
              <a:rPr b="0" lang="ru-RU" sz="4400" spc="-1" strike="noStrike">
                <a:solidFill>
                  <a:srgbClr val="000000"/>
                </a:solidFill>
                <a:latin typeface="Linux Biolinum G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Linux Biolinum G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71680" y="642960"/>
            <a:ext cx="8229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inux Biolinum G"/>
              </a:rPr>
              <a:t>Соедини линиями</a:t>
            </a:r>
            <a:endParaRPr b="0" lang="en-US" sz="2400" spc="-1" strike="noStrike">
              <a:solidFill>
                <a:srgbClr val="000000"/>
              </a:solidFill>
              <a:latin typeface="Linux Biolinum G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Linux Biolinum G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Linux Biolinum G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inux Biolinum G"/>
              </a:rPr>
              <a:t>  </a:t>
            </a:r>
            <a:endParaRPr b="0" lang="en-US" sz="3200" spc="-1" strike="noStrike">
              <a:solidFill>
                <a:srgbClr val="000000"/>
              </a:solidFill>
              <a:latin typeface="Linux Biolinum G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500120" y="1357200"/>
          <a:ext cx="6096240" cy="300060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100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т одного слова – да навек сс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inux Biolinum G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Решение су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inux Biolinum G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00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лады да свары хуже пожа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inux Biolinum G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ведение бывших друз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inux Biolinum G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дна задириха, а другая неспустих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inux Biolinum G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лучай в псарн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inux Biolinum G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D:\__Василий\Литература\шаблон\pics_lit\11 [преобразованный].png"/>
          <p:cNvPicPr/>
          <p:nvPr/>
        </p:nvPicPr>
        <p:blipFill>
          <a:blip r:embed="rId1"/>
          <a:stretch/>
        </p:blipFill>
        <p:spPr>
          <a:xfrm>
            <a:off x="324000" y="906480"/>
            <a:ext cx="3692520" cy="333072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2"/>
          <p:cNvSpPr/>
          <p:nvPr/>
        </p:nvSpPr>
        <p:spPr>
          <a:xfrm>
            <a:off x="4143240" y="1692360"/>
            <a:ext cx="4929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знал о …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нял, что…</a:t>
            </a:r>
            <a:endParaRPr b="0" lang="en-US" sz="3600" spc="-1" strike="noStrike">
              <a:solidFill>
                <a:srgbClr val="000000"/>
              </a:solidFill>
              <a:latin typeface="Linux Biolinum G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inux Biolinum G"/>
            </a:endParaRPr>
          </a:p>
        </p:txBody>
      </p:sp>
      <p:pic>
        <p:nvPicPr>
          <p:cNvPr id="134" name="Рисунок 5" descr=""/>
          <p:cNvPicPr/>
          <p:nvPr/>
        </p:nvPicPr>
        <p:blipFill>
          <a:blip r:embed="rId2"/>
          <a:stretch/>
        </p:blipFill>
        <p:spPr>
          <a:xfrm>
            <a:off x="4857840" y="3643200"/>
            <a:ext cx="3108240" cy="60804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6" descr=""/>
          <p:cNvPicPr/>
          <p:nvPr/>
        </p:nvPicPr>
        <p:blipFill>
          <a:blip r:embed="rId3"/>
          <a:stretch/>
        </p:blipFill>
        <p:spPr>
          <a:xfrm>
            <a:off x="4857840" y="642960"/>
            <a:ext cx="3108240" cy="608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http://upload.wikimedia.org/wikipedia/commons/a/a6/Pushkin_Dubrovsky_1919.jpg"/>
          <p:cNvPicPr/>
          <p:nvPr/>
        </p:nvPicPr>
        <p:blipFill>
          <a:blip r:embed="rId1"/>
          <a:stretch/>
        </p:blipFill>
        <p:spPr>
          <a:xfrm>
            <a:off x="0" y="0"/>
            <a:ext cx="3424320" cy="5143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4" name="Прямоугольник 2"/>
          <p:cNvSpPr/>
          <p:nvPr/>
        </p:nvSpPr>
        <p:spPr>
          <a:xfrm>
            <a:off x="3786120" y="1500120"/>
            <a:ext cx="5357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Linux Biolinum G"/>
              </a:rPr>
              <a:t>Картины жизни русского барства. </a:t>
            </a:r>
            <a:endParaRPr b="0" lang="en-US" sz="2800" spc="-1" strike="noStrike">
              <a:solidFill>
                <a:srgbClr val="000000"/>
              </a:solidFill>
              <a:latin typeface="Linux Biolinum 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Linux Biolinum G"/>
              </a:rPr>
              <a:t>Конфликт Андрея Гавриловича  Дубровского и Кирилы Петровича Троекурова.</a:t>
            </a:r>
            <a:endParaRPr b="0" lang="en-US" sz="2800" spc="-1" strike="noStrike">
              <a:solidFill>
                <a:srgbClr val="000000"/>
              </a:solidFill>
              <a:latin typeface="Linux Biolinum G"/>
            </a:endParaRPr>
          </a:p>
        </p:txBody>
      </p:sp>
      <p:pic>
        <p:nvPicPr>
          <p:cNvPr id="95" name="Рисунок 5" descr=""/>
          <p:cNvPicPr/>
          <p:nvPr/>
        </p:nvPicPr>
        <p:blipFill>
          <a:blip r:embed="rId2"/>
          <a:stretch/>
        </p:blipFill>
        <p:spPr>
          <a:xfrm>
            <a:off x="4857840" y="4071960"/>
            <a:ext cx="3106800" cy="60804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6" descr=""/>
          <p:cNvPicPr/>
          <p:nvPr/>
        </p:nvPicPr>
        <p:blipFill>
          <a:blip r:embed="rId3"/>
          <a:stretch/>
        </p:blipFill>
        <p:spPr>
          <a:xfrm>
            <a:off x="4857840" y="500040"/>
            <a:ext cx="3108240" cy="608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D:\__Василий\Литература\шаблон\pics_lit\11 [преобразованный].png"/>
          <p:cNvPicPr/>
          <p:nvPr/>
        </p:nvPicPr>
        <p:blipFill>
          <a:blip r:embed="rId1"/>
          <a:stretch/>
        </p:blipFill>
        <p:spPr>
          <a:xfrm>
            <a:off x="324000" y="906480"/>
            <a:ext cx="3105000" cy="309420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2"/>
          <p:cNvSpPr/>
          <p:nvPr/>
        </p:nvSpPr>
        <p:spPr>
          <a:xfrm>
            <a:off x="3857760" y="857160"/>
            <a:ext cx="47149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inux Biolinum G"/>
              </a:rPr>
              <a:t>Из словаря И.С.Ожегова</a:t>
            </a:r>
            <a:endParaRPr b="0" lang="en-US" sz="2000" spc="-1" strike="noStrike">
              <a:solidFill>
                <a:srgbClr val="000000"/>
              </a:solidFill>
              <a:latin typeface="Linux Biolinum G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inux Biolinum G"/>
              </a:rPr>
              <a:t>Конфликт</a:t>
            </a:r>
            <a:r>
              <a:rPr b="0" lang="ru-RU" sz="2000" spc="-1" strike="noStrike">
                <a:solidFill>
                  <a:srgbClr val="000000"/>
                </a:solidFill>
                <a:latin typeface="Linux Biolinum G"/>
              </a:rPr>
              <a:t> - столкновение, серьёзное разногласие, спор.</a:t>
            </a:r>
            <a:endParaRPr b="0" lang="en-US" sz="2000" spc="-1" strike="noStrike">
              <a:solidFill>
                <a:srgbClr val="000000"/>
              </a:solidFill>
              <a:latin typeface="Linux Biolinum G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inux Biolinum G"/>
              </a:rPr>
              <a:t>Крепостник</a:t>
            </a:r>
            <a:r>
              <a:rPr b="0" lang="ru-RU" sz="2000" spc="-1" strike="noStrike">
                <a:solidFill>
                  <a:srgbClr val="000000"/>
                </a:solidFill>
                <a:latin typeface="Linux Biolinum G"/>
              </a:rPr>
              <a:t> – помещик , сторонник и защитник крепостного права.</a:t>
            </a:r>
            <a:endParaRPr b="0" lang="en-US" sz="2000" spc="-1" strike="noStrike">
              <a:solidFill>
                <a:srgbClr val="000000"/>
              </a:solidFill>
              <a:latin typeface="Linux Biolinum G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inux Biolinum G"/>
              </a:rPr>
              <a:t>Крепостной</a:t>
            </a:r>
            <a:r>
              <a:rPr b="0" lang="ru-RU" sz="2000" spc="-1" strike="noStrike">
                <a:solidFill>
                  <a:srgbClr val="000000"/>
                </a:solidFill>
                <a:latin typeface="Linux Biolinum G"/>
              </a:rPr>
              <a:t> – крестьянин, находящийся  в крепостной зависимости и эксплуатации у крепостника.</a:t>
            </a:r>
            <a:endParaRPr b="0" lang="en-US" sz="2000" spc="-1" strike="noStrike">
              <a:solidFill>
                <a:srgbClr val="000000"/>
              </a:solidFill>
              <a:latin typeface="Linux Biolinum G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inux Biolinum G"/>
              </a:rPr>
              <a:t>Холоп</a:t>
            </a:r>
            <a:r>
              <a:rPr b="0" lang="ru-RU" sz="2000" spc="-1" strike="noStrike">
                <a:solidFill>
                  <a:srgbClr val="000000"/>
                </a:solidFill>
                <a:latin typeface="Linux Biolinum G"/>
              </a:rPr>
              <a:t>, 1. В крепостной России - крестьянин, слуга.</a:t>
            </a:r>
            <a:endParaRPr b="0" lang="en-US" sz="2000" spc="-1" strike="noStrike">
              <a:solidFill>
                <a:srgbClr val="000000"/>
              </a:solidFill>
              <a:latin typeface="Linux Biolinum G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inux Biolinum G"/>
              </a:rPr>
              <a:t>2.перен. Человек, готовый на всё из подхалимства</a:t>
            </a:r>
            <a:endParaRPr b="0" lang="en-US" sz="2000" spc="-1" strike="noStrike">
              <a:solidFill>
                <a:srgbClr val="000000"/>
              </a:solidFill>
              <a:latin typeface="Linux Biolinum G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inux Biolinum G"/>
            </a:endParaRPr>
          </a:p>
        </p:txBody>
      </p:sp>
      <p:pic>
        <p:nvPicPr>
          <p:cNvPr id="99" name="Рисунок 5" descr=""/>
          <p:cNvPicPr/>
          <p:nvPr/>
        </p:nvPicPr>
        <p:blipFill>
          <a:blip r:embed="rId2"/>
          <a:stretch/>
        </p:blipFill>
        <p:spPr>
          <a:xfrm>
            <a:off x="4214880" y="4678200"/>
            <a:ext cx="3106800" cy="46548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6" descr=""/>
          <p:cNvPicPr/>
          <p:nvPr/>
        </p:nvPicPr>
        <p:blipFill>
          <a:blip r:embed="rId3"/>
          <a:stretch/>
        </p:blipFill>
        <p:spPr>
          <a:xfrm>
            <a:off x="4214880" y="214200"/>
            <a:ext cx="3108240" cy="571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D:\__Василий\Литература\шаблон\pics_lit\11 [преобразованный].png"/>
          <p:cNvPicPr/>
          <p:nvPr/>
        </p:nvPicPr>
        <p:blipFill>
          <a:blip r:embed="rId1"/>
          <a:stretch/>
        </p:blipFill>
        <p:spPr>
          <a:xfrm>
            <a:off x="324000" y="906480"/>
            <a:ext cx="3105000" cy="309420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2"/>
          <p:cNvSpPr/>
          <p:nvPr/>
        </p:nvSpPr>
        <p:spPr>
          <a:xfrm>
            <a:off x="3643200" y="1071720"/>
            <a:ext cx="4714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Linux Biolinum G"/>
              </a:rPr>
              <a:t>Н.Г.Чернышевский</a:t>
            </a:r>
            <a:r>
              <a:rPr b="0" i="1" lang="ru-RU" sz="2400" spc="-1" strike="noStrike">
                <a:solidFill>
                  <a:srgbClr val="1e1c11"/>
                </a:solidFill>
                <a:latin typeface="Linux Biolinum G"/>
              </a:rPr>
              <a:t>: </a:t>
            </a:r>
            <a:r>
              <a:rPr b="1" i="1" lang="ru-RU" sz="2400" spc="-1" strike="noStrike">
                <a:solidFill>
                  <a:srgbClr val="1e1c11"/>
                </a:solidFill>
                <a:latin typeface="Linux Biolinum G"/>
              </a:rPr>
              <a:t>« Трудно найти в русской литературе более точную и живую картину, как описание быта и привычек большого барина старых времён в начале романа «Дубровский»</a:t>
            </a:r>
            <a:endParaRPr b="0" lang="en-US" sz="2400" spc="-1" strike="noStrike">
              <a:solidFill>
                <a:srgbClr val="000000"/>
              </a:solidFill>
              <a:latin typeface="Linux Biolinum G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inux Biolinum G"/>
            </a:endParaRPr>
          </a:p>
        </p:txBody>
      </p:sp>
      <p:pic>
        <p:nvPicPr>
          <p:cNvPr id="103" name="Рисунок 5" descr=""/>
          <p:cNvPicPr/>
          <p:nvPr/>
        </p:nvPicPr>
        <p:blipFill>
          <a:blip r:embed="rId2"/>
          <a:stretch/>
        </p:blipFill>
        <p:spPr>
          <a:xfrm>
            <a:off x="4214880" y="4429080"/>
            <a:ext cx="3106800" cy="57168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6" descr=""/>
          <p:cNvPicPr/>
          <p:nvPr/>
        </p:nvPicPr>
        <p:blipFill>
          <a:blip r:embed="rId3"/>
          <a:stretch/>
        </p:blipFill>
        <p:spPr>
          <a:xfrm>
            <a:off x="4214880" y="214200"/>
            <a:ext cx="3108240" cy="571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2"/>
          <p:cNvSpPr/>
          <p:nvPr/>
        </p:nvSpPr>
        <p:spPr>
          <a:xfrm>
            <a:off x="4853160" y="1568520"/>
            <a:ext cx="3962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inux Biolinum G"/>
              </a:rPr>
              <a:t>Поговаривали, что роман «Дубровский» автор писал очень увлечённо, а потом внезапно охладел и далее </a:t>
            </a:r>
            <a:endParaRPr b="0" lang="en-US" sz="2400" spc="-1" strike="noStrike">
              <a:solidFill>
                <a:srgbClr val="000000"/>
              </a:solidFill>
              <a:latin typeface="Linux Biolinum 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inux Biolinum G"/>
              </a:rPr>
              <a:t>к работе не возвращался. </a:t>
            </a:r>
            <a:endParaRPr b="0" lang="en-US" sz="2400" spc="-1" strike="noStrike">
              <a:solidFill>
                <a:srgbClr val="000000"/>
              </a:solidFill>
              <a:latin typeface="Linux Biolinum G"/>
            </a:endParaRPr>
          </a:p>
        </p:txBody>
      </p:sp>
      <p:pic>
        <p:nvPicPr>
          <p:cNvPr id="106" name="Рисунок 3" descr=""/>
          <p:cNvPicPr/>
          <p:nvPr/>
        </p:nvPicPr>
        <p:blipFill>
          <a:blip r:embed="rId1"/>
          <a:stretch/>
        </p:blipFill>
        <p:spPr>
          <a:xfrm>
            <a:off x="5353200" y="4051440"/>
            <a:ext cx="3106440" cy="60804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4" descr=""/>
          <p:cNvPicPr/>
          <p:nvPr/>
        </p:nvPicPr>
        <p:blipFill>
          <a:blip r:embed="rId2"/>
          <a:stretch/>
        </p:blipFill>
        <p:spPr>
          <a:xfrm>
            <a:off x="5280120" y="484200"/>
            <a:ext cx="3108240" cy="608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http://upload.wikimedia.org/wikipedia/commons/7/7a/Orest_Kiprensky_-_%D0%9F%D0%BE%D1%80%D1%82%D1%80%D0%B5%D1%82_%D0%BF%D0%BE%D1%8D%D1%82%D0%B0_%D0%90.%D0%A1.%D0%9F%D1%83%D1%88%D0%BA%D0%B8%D0%BD%D0%B0_-_Google_Art_Project.jpg"/>
          <p:cNvPicPr/>
          <p:nvPr/>
        </p:nvPicPr>
        <p:blipFill>
          <a:blip r:embed="rId3"/>
          <a:srcRect l="0" t="88" r="0" b="3312"/>
          <a:stretch/>
        </p:blipFill>
        <p:spPr>
          <a:xfrm>
            <a:off x="-34920" y="0"/>
            <a:ext cx="4606920" cy="5153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9" name="Picture 4" descr="http://ru.static.z-dn.net/files/d22/367233516716825370f68000ff4ef343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Linux Biolinum G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Linux Biolinum G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Linux Biolinum G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14240" y="92880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inux Biolinum G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Linux Biolinum G"/>
              </a:rPr>
              <a:t>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Linux Biolinum G"/>
              </a:rPr>
              <a:t>ровесники</a:t>
            </a:r>
            <a:endParaRPr b="0" lang="en-US" sz="2000" spc="-1" strike="noStrike">
              <a:solidFill>
                <a:srgbClr val="000000"/>
              </a:solidFill>
              <a:latin typeface="Linux Biolinum G"/>
            </a:endParaRPr>
          </a:p>
          <a:p>
            <a:pPr marL="263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inux Biolinum G"/>
            </a:endParaRPr>
          </a:p>
          <a:p>
            <a:pPr marL="263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inux Biolinum G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Linux Biolinum G"/>
              </a:rPr>
              <a:t>женились по любви                               родились в одном сословии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Linux Biolinum G"/>
            </a:endParaRPr>
          </a:p>
          <a:p>
            <a:pPr marL="263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inux Biolinum G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Linux Biolinum G"/>
            </a:endParaRPr>
          </a:p>
          <a:p>
            <a:pPr marL="263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inux Biolinum G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inux Biolinum G"/>
            </a:endParaRPr>
          </a:p>
          <a:p>
            <a:pPr marL="263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inux Biolinum G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Linux Biolinum G"/>
              </a:rPr>
              <a:t>рано овдовели                                                одинаково воспитаны</a:t>
            </a:r>
            <a:endParaRPr b="0" lang="en-US" sz="2000" spc="-1" strike="noStrike">
              <a:solidFill>
                <a:srgbClr val="000000"/>
              </a:solidFill>
              <a:latin typeface="Linux Biolinum G"/>
            </a:endParaRPr>
          </a:p>
          <a:p>
            <a:pPr marL="263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inux Biolinum G"/>
              </a:rPr>
              <a:t>                  </a:t>
            </a:r>
            <a:endParaRPr b="0" lang="en-US" sz="2000" spc="-1" strike="noStrike">
              <a:solidFill>
                <a:srgbClr val="000000"/>
              </a:solidFill>
              <a:latin typeface="Linux Biolinum G"/>
            </a:endParaRPr>
          </a:p>
          <a:p>
            <a:pPr marL="263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inux Biolinum G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inux Biolinum G"/>
            </a:endParaRPr>
          </a:p>
          <a:p>
            <a:pPr marL="263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inux Biolinum G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Linux Biolinum G"/>
              </a:rPr>
              <a:t>бывшие сослуживцы                                 характер и наклонности</a:t>
            </a:r>
            <a:endParaRPr b="0" lang="en-US" sz="2000" spc="-1" strike="noStrike">
              <a:solidFill>
                <a:srgbClr val="000000"/>
              </a:solidFill>
              <a:latin typeface="Linux Biolinum G"/>
            </a:endParaRPr>
          </a:p>
        </p:txBody>
      </p:sp>
      <p:sp>
        <p:nvSpPr>
          <p:cNvPr id="112" name="Овал 3"/>
          <p:cNvSpPr/>
          <p:nvPr/>
        </p:nvSpPr>
        <p:spPr>
          <a:xfrm>
            <a:off x="3571920" y="2428920"/>
            <a:ext cx="1571760" cy="1285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Linux Biolinum G"/>
              </a:rPr>
              <a:t>сходства</a:t>
            </a:r>
            <a:endParaRPr b="0" lang="en-US" sz="1800" spc="-1" strike="noStrike">
              <a:solidFill>
                <a:srgbClr val="000000"/>
              </a:solidFill>
              <a:latin typeface="Linux Biolinum G"/>
            </a:endParaRPr>
          </a:p>
        </p:txBody>
      </p:sp>
      <p:cxnSp>
        <p:nvCxnSpPr>
          <p:cNvPr id="113" name="Прямая со стрелкой 5"/>
          <p:cNvCxnSpPr>
            <a:stCxn id="112" idx="0"/>
          </p:cNvCxnSpPr>
          <p:nvPr/>
        </p:nvCxnSpPr>
        <p:spPr>
          <a:xfrm flipV="1">
            <a:off x="4354920" y="1714320"/>
            <a:ext cx="2520" cy="714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Прямая со стрелкой 11"/>
          <p:cNvCxnSpPr/>
          <p:nvPr/>
        </p:nvCxnSpPr>
        <p:spPr>
          <a:xfrm flipV="1">
            <a:off x="5072040" y="2428560"/>
            <a:ext cx="92952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Прямая со стрелкой 13"/>
          <p:cNvCxnSpPr>
            <a:stCxn id="112" idx="6"/>
          </p:cNvCxnSpPr>
          <p:nvPr/>
        </p:nvCxnSpPr>
        <p:spPr>
          <a:xfrm>
            <a:off x="5143320" y="3071880"/>
            <a:ext cx="121500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Прямая со стрелкой 15"/>
          <p:cNvCxnSpPr/>
          <p:nvPr/>
        </p:nvCxnSpPr>
        <p:spPr>
          <a:xfrm>
            <a:off x="4928760" y="3571560"/>
            <a:ext cx="1072440" cy="857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Прямая со стрелкой 20"/>
          <p:cNvCxnSpPr>
            <a:stCxn id="112" idx="3"/>
          </p:cNvCxnSpPr>
          <p:nvPr/>
        </p:nvCxnSpPr>
        <p:spPr>
          <a:xfrm flipH="1">
            <a:off x="2856960" y="3525480"/>
            <a:ext cx="945000" cy="903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Прямая со стрелкой 24"/>
          <p:cNvCxnSpPr/>
          <p:nvPr/>
        </p:nvCxnSpPr>
        <p:spPr>
          <a:xfrm flipH="1">
            <a:off x="2285280" y="3070800"/>
            <a:ext cx="1215000" cy="21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9" name="Прямая со стрелкой 28"/>
          <p:cNvCxnSpPr/>
          <p:nvPr/>
        </p:nvCxnSpPr>
        <p:spPr>
          <a:xfrm flipH="1" flipV="1">
            <a:off x="2857320" y="2428200"/>
            <a:ext cx="71496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5712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Linux Biolinum G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Linux Biolinum G"/>
              </a:rPr>
              <a:t>Сравнительная характеристика</a:t>
            </a:r>
            <a:endParaRPr b="0" lang="en-US" sz="1200" spc="-1" strike="noStrike">
              <a:solidFill>
                <a:srgbClr val="000000"/>
              </a:solidFill>
              <a:latin typeface="Linux Biolinum G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714240"/>
            <a:ext cx="8229600" cy="44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inux Biolinum G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Linux Biolinum G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Linux Biolinum G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14200" y="285840"/>
          <a:ext cx="8715600" cy="4781520"/>
        </p:xfrm>
        <a:graphic>
          <a:graphicData uri="http://schemas.openxmlformats.org/drawingml/2006/table">
            <a:tbl>
              <a:tblPr/>
              <a:tblGrid>
                <a:gridCol w="2905200"/>
                <a:gridCol w="2790720"/>
                <a:gridCol w="3019680"/>
              </a:tblGrid>
              <a:tr h="176040">
                <a:tc>
                  <a:txBody>
                    <a:bodyPr lIns="28800" rIns="28800" tIns="0" bIns="0" anchor="t">
                      <a:noAutofit/>
                    </a:bodyPr>
                    <a:p>
                      <a:pPr marL="457200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inux Biolinum G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 marL="457200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ирила Петрович Троекур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inux Biolinum G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 marL="457200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ндрей Гаврилович Дубров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inux Biolinum G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28800" rIns="28800" tIns="0" bIns="0" anchor="t">
                      <a:noAutofit/>
                    </a:bodyPr>
                    <a:p>
                      <a:pPr marL="457200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к назывались поместья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inux Biolinum G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 marL="457200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кровско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inux Biolinum G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 marL="457200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истеневк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inux Biolinum G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28800" rIns="28800" tIns="0" bIns="0" anchor="t">
                      <a:noAutofit/>
                    </a:bodyPr>
                    <a:p>
                      <a:pPr marL="457200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исание дома и двор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inux Biolinum G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 marL="457200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…в одном из своих поместий…», «…пространных его владений…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inux Biolinum G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 marL="457200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селился «в остальной  своей деревне»,   домишко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inux Biolinum G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28800" rIns="28800" tIns="0" bIns="0" anchor="t">
                      <a:noAutofit/>
                    </a:bodyPr>
                    <a:p>
                      <a:pPr marL="457200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к автор определяет социальный статус Троекурова и Дубровского-старшего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inux Biolinum G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 marL="457200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старинный русский барин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inux Biolinum G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 marL="457200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едневший помещи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inux Biolinum G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28800" rIns="28800" tIns="0" bIns="0" anchor="t">
                      <a:noAutofit/>
                    </a:bodyPr>
                    <a:p>
                      <a:pPr marL="457200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м известно, что Троекуров  и Дубровский служили. До какого чина каждый из них  дослужился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inux Biolinum G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 marL="457200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енерал-аншеф (высший генеральский чин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inux Biolinum G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 marL="457200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ставной поручик гвард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inux Biolinum G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1720">
                <a:tc>
                  <a:txBody>
                    <a:bodyPr lIns="28800" rIns="28800" tIns="0" bIns="0" anchor="t">
                      <a:noAutofit/>
                    </a:bodyPr>
                    <a:p>
                      <a:pPr marL="457200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ишите материальное положение и черты характера героев, используя цитаты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inux Biolinum G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 marL="457200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Его богатство, знатный род, связи давали ему большой вес в губерниях…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inux Biolinum G"/>
                      </a:endParaRPr>
                    </a:p>
                    <a:p>
                      <a:pPr marL="457200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Выказывал пороки человека необразованного», «привык давать волю всем порывам пылкого своего нрава и всем затеям довольно ограниченного ума», «надменный … с людьми самого высшего звания», «с крестьянами и дворовыми обходился строго и своенравно»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inux Biolinum G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 marL="457200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нетерпеливость и решительность характера», «беден и независим», горд – отказался от предложения Троекурова поженить Машу и Владимира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inux Biolinum G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28800" rIns="28800" tIns="0" bIns="0" anchor="t">
                      <a:noAutofit/>
                    </a:bodyPr>
                    <a:p>
                      <a:pPr marL="457200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в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inux Biolinum G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 marL="457200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роекуров выказывал все пороки человека необразованного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inux Biolinum G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 marL="457200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смотря на бедность, Дубровский не теряет человеческого достоинства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inux Biolinum G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Рисунок 5" descr=""/>
          <p:cNvPicPr/>
          <p:nvPr/>
        </p:nvPicPr>
        <p:blipFill>
          <a:blip r:embed="rId1"/>
          <a:stretch/>
        </p:blipFill>
        <p:spPr>
          <a:xfrm>
            <a:off x="4214880" y="4000680"/>
            <a:ext cx="3106800" cy="60768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6" descr=""/>
          <p:cNvPicPr/>
          <p:nvPr/>
        </p:nvPicPr>
        <p:blipFill>
          <a:blip r:embed="rId2"/>
          <a:stretch/>
        </p:blipFill>
        <p:spPr>
          <a:xfrm>
            <a:off x="4214880" y="500040"/>
            <a:ext cx="3108240" cy="608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https://otvet.imgsmail.ru/download/408866cbe2c51edda857d4528a654a0f_i-88.jpg"/>
          <p:cNvPicPr/>
          <p:nvPr/>
        </p:nvPicPr>
        <p:blipFill>
          <a:blip r:embed="rId3"/>
          <a:stretch/>
        </p:blipFill>
        <p:spPr>
          <a:xfrm>
            <a:off x="1285920" y="357120"/>
            <a:ext cx="6643800" cy="45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8880" y="-360"/>
            <a:ext cx="74768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Linux Biolinum G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Linux Biolinum G"/>
              </a:rPr>
              <a:t>Суд и его последствия</a:t>
            </a:r>
            <a:endParaRPr b="0" lang="en-US" sz="4400" spc="-1" strike="noStrike">
              <a:solidFill>
                <a:srgbClr val="000000"/>
              </a:solidFill>
              <a:latin typeface="Linux Biolinum G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2560" y="1000080"/>
            <a:ext cx="514332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inux Biolinum G"/>
              </a:rPr>
              <a:t>Творческое самовыражение</a:t>
            </a:r>
            <a:endParaRPr b="0" lang="en-US" sz="1800" spc="-1" strike="noStrike">
              <a:solidFill>
                <a:srgbClr val="000000"/>
              </a:solidFill>
              <a:latin typeface="Linux Biolinum G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inux Biolinum G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Linux Biolinum G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nux Biolinum G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inux Biolinum G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Linux Biolinum G"/>
              </a:rPr>
              <a:t>Суд                          (тема)</a:t>
            </a:r>
            <a:endParaRPr b="0" lang="en-US" sz="1800" spc="-1" strike="noStrike">
              <a:solidFill>
                <a:srgbClr val="000000"/>
              </a:solidFill>
              <a:latin typeface="Linux Biolinum G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inux Biolinum G"/>
              </a:rPr>
              <a:t>2 прилагательных   (раскрывают тему)</a:t>
            </a:r>
            <a:endParaRPr b="0" lang="en-US" sz="1800" spc="-1" strike="noStrike">
              <a:solidFill>
                <a:srgbClr val="000000"/>
              </a:solidFill>
              <a:latin typeface="Linux Biolinum G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inux Biolinum G"/>
              </a:rPr>
              <a:t>3 глагола (действия, относящиеся к теме )</a:t>
            </a:r>
            <a:endParaRPr b="0" lang="en-US" sz="1800" spc="-1" strike="noStrike">
              <a:solidFill>
                <a:srgbClr val="000000"/>
              </a:solidFill>
              <a:latin typeface="Linux Biolinum G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inux Biolinum G"/>
              </a:rPr>
              <a:t>Предложение</a:t>
            </a:r>
            <a:r>
              <a:rPr b="0" lang="ru-RU" sz="1800" spc="-1" strike="noStrike">
                <a:solidFill>
                  <a:srgbClr val="000000"/>
                </a:solidFill>
                <a:latin typeface="Linux Biolinum G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Linux Biolinum G"/>
              </a:rPr>
              <a:t>(характеризует  тему)</a:t>
            </a:r>
            <a:endParaRPr b="0" lang="en-US" sz="1800" spc="-1" strike="noStrike">
              <a:solidFill>
                <a:srgbClr val="000000"/>
              </a:solidFill>
              <a:latin typeface="Linux Biolinum G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inux Biolinum G"/>
              </a:rPr>
              <a:t>Слово – резюме (личное отношение к теме)</a:t>
            </a:r>
            <a:endParaRPr b="0" lang="en-US" sz="1800" spc="-1" strike="noStrike">
              <a:solidFill>
                <a:srgbClr val="000000"/>
              </a:solidFill>
              <a:latin typeface="Linux Biolinum G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nux Biolinum G"/>
            </a:endParaRPr>
          </a:p>
        </p:txBody>
      </p:sp>
      <p:pic>
        <p:nvPicPr>
          <p:cNvPr id="128" name="Picture 7" descr="3"/>
          <p:cNvPicPr/>
          <p:nvPr/>
        </p:nvPicPr>
        <p:blipFill>
          <a:blip r:embed="rId1"/>
          <a:stretch/>
        </p:blipFill>
        <p:spPr>
          <a:xfrm>
            <a:off x="5526000" y="1214280"/>
            <a:ext cx="361800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1T09:54:52Z</dcterms:created>
  <dc:creator>Пользователь</dc:creator>
  <dc:description/>
  <dc:language>en-US</dc:language>
  <cp:lastModifiedBy>User</cp:lastModifiedBy>
  <dcterms:modified xsi:type="dcterms:W3CDTF">2016-11-26T04:38:17Z</dcterms:modified>
  <cp:revision>409</cp:revision>
  <dc:subject/>
  <dc:title>Презентация PowerPoint</dc:title>
</cp:coreProperties>
</file>