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835-BD0E-4B58-81C5-616C0D1E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E53-3DFF-4E8B-8771-02D02FE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BEC7C-26BD-48B9-8CB3-E0AD8A8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30F3C-D081-4812-BFCA-838D2CE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41A74-E690-4451-9C4C-814D09AA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054D2-E398-47FF-BB9C-F26870C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D478-A3C6-4EC8-B2E9-C1E40A9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4676A-2479-4EE9-9CE7-5AF9079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2BEC7-419B-4B47-B62A-21EEB78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ECDDD-6F18-4534-9B5A-BFA838EC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706ED-40F0-4192-A170-F879FC54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DE563-9A59-4A09-B1AF-BF516281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4BC-993D-485A-8F25-CF6E4E3E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D19C0-7265-43EF-88A1-FA7FFF1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F7338-CE32-4E09-B32F-B4E25F7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97874-9319-499E-9B48-3EDA5E7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6AFBA-EA88-4489-8676-47B9228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0809-7B39-48FB-91B6-19B7EF31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B5D92-8C49-43E7-9417-65B36B8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F839E-C4EA-4854-9BAD-7E90DEB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244A1-8531-4669-BB16-AAF546B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ED30D-C36E-422C-A98C-12F18EF8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7B80F-CCA2-434A-97D1-8FA2CE0B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CE3-6A94-433B-8A23-5C9DACD8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DC204-4891-4B57-A0D2-73BD67BF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F093C-F82B-4970-A866-7EE9DD28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8A468-F753-472E-8AF1-0AF2FAD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4325-4911-4B5E-9F98-A57D921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E8584-15C4-47FD-A78D-FC659781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BAEF7-F8B2-4DB9-8642-8BA3E77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7666-7E83-4870-A14E-48C4CC4A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CF54-59A0-43E5-BDF9-0EB6994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3B018-7CE8-4252-83DB-1DA43DD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8F37-EF10-42C0-A8FA-29686D3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B59-4287-4ABC-A6A4-D9319F4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4D4CC-F9F4-43A5-A18E-B3E8F281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D25C9-D3F2-49E1-8B8D-CE3D2283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ECD8C-9D1D-4D15-ABAC-75D00DF3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213E2-E43B-4945-99DD-36E9B913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2CCCE-563B-4F9A-AB1C-443D1E5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9B40E-14C7-48BE-8700-3C96DC0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16E5F-BA1F-4A18-BD24-83D8459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1DBAB-753C-491C-823D-94320823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2E0EC-441E-4330-BD2B-C7EF623F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AFF31-3510-4FC4-821E-579C71A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170C-D762-482B-9BB8-453CE24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BA5E9-731A-4FBC-9150-31AEA1E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359D8-C367-40FD-A567-CF1138D3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BD8FF-A5BB-4D38-9ECE-44430DC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7E275-6469-46B4-8738-8644C2B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963B4-E725-4C58-8B23-A89916F9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C1DA3-4893-41AB-8306-03112343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945AB-ACD0-4868-8669-DD59812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FF867-930E-4F45-A895-156DA17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E1E9B-7879-4BA8-804C-B99501A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A2864-B4F0-44A8-BDF4-5B86353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78E-0081-4C90-B89B-D5C5775D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A8DB9-EFD7-4E15-9354-1726538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86594-AFEF-40C5-823F-D994DA6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4F81E-6FFB-4561-9DF3-5C12804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DC87E-3C3F-4562-8370-BD3252F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7278B-F1C3-42AA-BAD4-AC8B3674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040EB-AC43-49D4-9F84-F05190B7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47213-353D-4EA1-8763-D887FA8D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880F0-B7DD-4215-B7C9-B8731F6D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C7CEB-3209-4899-9765-9FCD1637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8CC85-A4B4-4279-A380-E992DC0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E9A8-5C63-4AA6-8FFB-C8503634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95DA7-D7DA-430C-B1CC-0A79F00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37D6A-73A8-4CEA-A20E-217642D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ED601-055F-48B9-A0FF-3A06694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DFC0F-7F06-427A-AFB5-B6280D3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F1631-AE1F-4873-9962-E22D932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CC14B-E80C-41BC-9EBE-9D6E472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3E43B-84C9-4FF9-8C36-38E12F0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206A4-E11A-43FC-8101-1792F243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86EC2-BDBD-45AA-869F-F1FF8844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C1DB-A45D-4B0A-B0DD-024EC17E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3C0F-EC7D-4E82-87A3-45F21BEE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5F5-6C10-4057-B6AD-18E4F7F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72B-C164-47B5-9627-3FCBA12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ADE0-3FDE-494D-A73D-9149F5C0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0BF6-E810-4E37-9C51-DF085B0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91E-99DE-4A85-BA60-D6B669B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6F90-833C-4F4F-8E3F-449FF91D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68F-C04E-4FF1-93A0-CEAD7FB8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A524-CDE0-468E-902C-0EEE76CC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E6CB-67D6-41E7-8CA5-B27F66D3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D57A-932A-45E1-B29E-59FE8F5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2F91-B494-4C85-BB21-DE30B5A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DD20-C6AC-4E88-B91C-118B4FC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46E-BACA-4CF2-AEF2-C93DB99F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436B-A50B-4CF3-A6AA-BCE96050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A660-977E-4E82-8CF3-0F91800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45E1-A15B-4CD6-9ECD-BD323162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6789-E661-48D2-B3DB-C43238C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FCE6-92CD-4724-B66B-CD6CC91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AB39-D200-4467-843A-55EA2784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DE28-100F-407A-AAD0-AB257DAE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E157F-BBC7-4666-B5FB-33A75C6A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7465-8FB5-427A-A742-60859C0B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F819-814A-4D0A-B16B-D07895F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31C-0315-43F2-BE0D-480F27F7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6291-FAD5-475E-A2F1-14635B5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5032-E987-4E1D-A4C9-3219804C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DD69-0BB7-4BD7-9FF8-879FF56C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E577-9683-46C0-BBD2-5B52F37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B68B-8E47-48CD-AADA-1C02552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7418-36C6-44F8-8065-6AD3BD6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0055-06C8-4464-9F73-55C87624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0DA0-CB4C-4CF4-8BB7-8664F9E4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ABDF-2A75-4558-B9C0-9111E11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8A2CC-4385-4EA9-B5DE-5AEA5CB6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3F5-0255-4175-A261-5843A906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32DB-6D46-4A37-9CB7-81BA512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72B6-0522-4F34-8780-921AAF2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15F2-EE54-4CE3-8DFA-C6122C5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D8C2B-B2E8-49C6-B551-A243547C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23E3-0885-4F2E-B315-23ADBD92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AB7D-E23A-4F17-B941-984CAF8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4017-43BD-4594-AA62-C47712E0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5275-5499-46B4-A603-FE1AFD7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CDD0-B83E-4DCB-89D1-82FF902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1529-66B3-402C-BE6E-F6514E36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66B-45A2-42C8-810B-67A848E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B4EF-83F8-485E-AC39-80843046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BCE2-C677-424B-B33B-2BC46081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F6C6-041F-4190-ADDB-53FEBEE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147F2-CB0E-4004-9549-4653FBC5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E8B3-26D8-4293-B05C-AA97048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F7DE-763B-4C61-9F43-CCBAD34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33C8-D7E6-44CD-891F-8257C30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06B5-FED4-4F29-8327-1B174F0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8D8F-3794-48CC-A1B1-DBE00C3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28EBD-5C8F-408F-A191-B611D714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DA1-47CF-4DEF-B024-EAB4FBF7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BB49C-950A-4C49-B3F3-93B1593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2DCB-CF0A-4306-9B78-4F624209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FA93-973A-4E7E-AEED-9240ABF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F15E-59D4-45D1-9067-DE971CCE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E134-830C-45E8-AB4E-EA26142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3DCCD-2529-4389-A637-FFA7C321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0E7B-76E0-45D3-A48C-FDE5C7BB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EFD5F-2348-418C-93FD-E27FFB7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1F182-9D5D-4F93-A4F4-B6D8EDB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3C92-BCE0-4A2F-9DD5-0289DE6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B5F-00A0-45DE-BE50-962A731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05B7-B9F0-48C7-B974-3C60F01A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F130-8F9E-42DD-89CA-999F46E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61C9-A86C-4EC0-B872-151AF00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C424-F65A-44BC-8133-944CE7AD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E98BC-A8F6-45CB-A975-3D3E7F99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B0B60-7D10-4217-A6BF-60CB3440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18A4-DA10-44AD-AE3D-7367F22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4A93-E88D-4E6A-BF7D-3390D65C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F060E-A536-4E8C-B155-8A96C27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B610-C949-4141-ACE9-33A0437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7AD-3775-45D4-B8DB-2DA6EF95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F50DA-CD28-49FD-B3B8-911EE8B6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CED8-3540-414C-B24A-34CAD6F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7A14-1227-4C82-A70F-9E0620B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2E2CF-2260-4954-B3A9-E39D181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05FD4-0A77-49CE-9803-DDB700F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6FA39-2DA1-4A54-BFE7-ECAAC460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04E4-F9CD-4634-8C07-DFC246B6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D4A1-645F-4B7F-810E-D5CE66BB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4CCEA-A83D-412E-8640-9ACC93C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DD2E-B34B-4AAA-9083-07F0436A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55C-7112-418E-B583-236E48338B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3A92-A25F-458B-B713-422E5F9496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479-B802-4947-ADE8-8BE362ACC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C78-CCEC-4616-A767-FF755A19D7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67B0-CA05-4436-B788-DC0CD4007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CFB8-CA76-4F70-93B7-D9A8AE4ED48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A73-FDF9-4F01-A528-09434E7940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00A9-0C13-4E0E-A420-A9842026E0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17CD-E287-4408-94E7-EC920225D1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12E-7E52-473E-9AE6-EE9275DB7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DA96-28BE-4E6F-947A-2B3A7692A6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44E-0749-46C5-A660-79C89E6A58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B29-F64E-41CB-9208-59B4462BC0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d8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209-101A-4B92-8C82-984737CC3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917"/>
            </a:avLst>
          </a:prstGeom>
          <a:solidFill>
            <a:srgbClr val="004d8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Формирование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еометрических представлений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редством занимательных игр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упражнений детей старшего дошкольного возраст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8" name="Рисунок 3" descr="3D-shapes.png"/>
          <p:cNvPicPr/>
          <p:nvPr/>
        </p:nvPicPr>
        <p:blipFill>
          <a:blip r:embed="rId1"/>
          <a:stretch/>
        </p:blipFill>
        <p:spPr>
          <a:xfrm>
            <a:off x="152280" y="3657600"/>
            <a:ext cx="8915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233280" y="239760"/>
            <a:ext cx="86756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3" descr=""/>
          <p:cNvPicPr/>
          <p:nvPr/>
        </p:nvPicPr>
        <p:blipFill>
          <a:blip r:embed="rId1"/>
          <a:stretch/>
        </p:blipFill>
        <p:spPr>
          <a:xfrm>
            <a:off x="-6480" y="911160"/>
            <a:ext cx="91569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спитатель должен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3300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buClr>
                <a:srgbClr val="ffff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f3f"/>
                </a:solidFill>
                <a:latin typeface="Times New Roman"/>
                <a:ea typeface="Times New Roman"/>
              </a:rPr>
              <a:t>учитывать уровень развития детей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150000"/>
              </a:lnSpc>
              <a:buClr>
                <a:srgbClr val="ffff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хорошо знать материалы, игры и упражн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150000"/>
              </a:lnSpc>
              <a:buClr>
                <a:srgbClr val="ffff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f3f"/>
                </a:solidFill>
                <a:latin typeface="Times New Roman"/>
                <a:ea typeface="Times New Roman"/>
              </a:rPr>
              <a:t>поиграть в них, составить новые вариант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150000"/>
              </a:lnSpc>
              <a:buClr>
                <a:srgbClr val="ffff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предварительно продумать организацию и методику проведения иг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150000"/>
              </a:lnSpc>
              <a:buClr>
                <a:srgbClr val="ffff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f3f"/>
                </a:solidFill>
                <a:latin typeface="Times New Roman"/>
                <a:ea typeface="Times New Roman"/>
              </a:rPr>
              <a:t>видеть,  как выполняют дети зад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еделены и реализованы критерии отбор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нимательных  игр и упражнений.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дготовлена теоретическая база для проведения практической части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Прямоугольник 5"/>
          <p:cNvSpPr/>
          <p:nvPr/>
        </p:nvSpPr>
        <p:spPr>
          <a:xfrm>
            <a:off x="0" y="2286000"/>
            <a:ext cx="9144000" cy="41155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озданы условия, необходимые для  ознакомления детей  дошкольного возраста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с  различными геометрическими фигурам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600" spc="-1" strike="noStrike">
                <a:solidFill>
                  <a:srgbClr val="26734d"/>
                </a:solidFill>
                <a:latin typeface="Verdana"/>
              </a:rPr>
              <a:t>-специально организованное обучение;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Verdana"/>
              </a:rPr>
              <a:t>-активная деятельность детей вне занятий;</a:t>
            </a:r>
            <a:br>
              <a:rPr sz="2600"/>
            </a:br>
            <a:r>
              <a:rPr b="0" lang="ru-RU" sz="2600" spc="-1" strike="noStrike">
                <a:solidFill>
                  <a:srgbClr val="26734d"/>
                </a:solidFill>
                <a:latin typeface="Verdana"/>
              </a:rPr>
              <a:t>-наличие необходимого оборудования;</a:t>
            </a:r>
            <a:br>
              <a:rPr sz="2600"/>
            </a:br>
            <a:r>
              <a:rPr b="0" lang="ru-RU" sz="2600" spc="-1" strike="noStrike">
                <a:solidFill>
                  <a:srgbClr val="7030a0"/>
                </a:solidFill>
                <a:latin typeface="Verdana"/>
              </a:rPr>
              <a:t>-обучение детей системе обследования предметов;</a:t>
            </a:r>
            <a:br>
              <a:rPr sz="2600"/>
            </a:br>
            <a:r>
              <a:rPr b="0" lang="ru-RU" sz="2600" spc="-1" strike="noStrike">
                <a:solidFill>
                  <a:srgbClr val="26734d"/>
                </a:solidFill>
                <a:latin typeface="Verdana"/>
              </a:rPr>
              <a:t>-использование речи для обозначения эталонов формы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ля опытно - практической работы мы использовали методику разработанную Зинаидой Алексеевной Михайловой.</a:t>
            </a:r>
            <a:br>
              <a:rPr sz="28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9" name="Содержимое 4" descr="http://licey1-chapl.narod.ru/clients/pedagogicheskaya_masterskaya/mihailova_Z.A..jpg?rand=2037402100632017"/>
          <p:cNvPicPr/>
          <p:nvPr/>
        </p:nvPicPr>
        <p:blipFill>
          <a:blip r:embed="rId1"/>
          <a:stretch/>
        </p:blipFill>
        <p:spPr>
          <a:xfrm>
            <a:off x="2666880" y="1752480"/>
            <a:ext cx="3505320" cy="4800600"/>
          </a:xfrm>
          <a:prstGeom prst="rect">
            <a:avLst/>
          </a:prstGeom>
          <a:ln w="76320">
            <a:solidFill>
              <a:srgbClr val="ffff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55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пытно-исследовательская работа проводилась в старшей группе ГБОУ д/с №1490 ЮВА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1" name="Picture 4" descr="http://ds1490.uvuo.ru/download/Resize-of-DSCI0294.JPG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876920"/>
          </a:xfrm>
          <a:prstGeom prst="rect">
            <a:avLst/>
          </a:prstGeom>
          <a:ln w="76320">
            <a:solidFill>
              <a:srgbClr val="93b4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004d86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Констатирующий этап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Цель констатирующего этапа: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установить уровень владения представлениями о геометрических фигурах у детей шестого года жизни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189000" y="374760"/>
            <a:ext cx="8766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рямоугольник 2"/>
          <p:cNvSpPr/>
          <p:nvPr/>
        </p:nvSpPr>
        <p:spPr>
          <a:xfrm>
            <a:off x="0" y="1143000"/>
            <a:ext cx="9144000" cy="2286000"/>
          </a:xfrm>
          <a:prstGeom prst="rect">
            <a:avLst/>
          </a:prstGeom>
          <a:solidFill>
            <a:srgbClr val="0000cc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Прямоугольник 3"/>
          <p:cNvSpPr/>
          <p:nvPr/>
        </p:nvSpPr>
        <p:spPr>
          <a:xfrm>
            <a:off x="0" y="3505320"/>
            <a:ext cx="9144000" cy="1828800"/>
          </a:xfrm>
          <a:prstGeom prst="rect">
            <a:avLst/>
          </a:prstGeom>
          <a:solidFill>
            <a:srgbClr val="206241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6" name="Прямоугольник 4"/>
          <p:cNvSpPr/>
          <p:nvPr/>
        </p:nvSpPr>
        <p:spPr>
          <a:xfrm>
            <a:off x="0" y="5410080"/>
            <a:ext cx="9144000" cy="1371600"/>
          </a:xfrm>
          <a:prstGeom prst="rect">
            <a:avLst/>
          </a:prstGeom>
          <a:solidFill>
            <a:srgbClr val="800000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59"/>
                </a:solidFill>
                <a:latin typeface="Arial"/>
                <a:ea typeface="Times New Roman"/>
              </a:rPr>
              <a:t>Формирующий этап</a:t>
            </a:r>
            <a:br>
              <a:rPr sz="36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Обогащать (развивать) опыт детей по использованию представлений о геометрических фигурах с помощью занимательных дидактических игр и упражнений.</a:t>
            </a: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Использовать занимательные дидактические игры и упражнения по развитию представлений о геометрических фигура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Продумать систему работы с детьми на занятиях и вне их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алочки Кюизене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9" name="Picture 2" descr="http://fotomag.com.ua/stat/tg/BB/567995/469_400_1.jpg"/>
          <p:cNvPicPr/>
          <p:nvPr/>
        </p:nvPicPr>
        <p:blipFill>
          <a:blip r:embed="rId1"/>
          <a:stretch/>
        </p:blipFill>
        <p:spPr>
          <a:xfrm>
            <a:off x="152280" y="1066680"/>
            <a:ext cx="2735280" cy="2819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0" name="Picture 4" descr="http://i1.imgbb.ru/img6/6/6/5/665386c757ab23a392b5a25ef77e65a8.jpg"/>
          <p:cNvPicPr/>
          <p:nvPr/>
        </p:nvPicPr>
        <p:blipFill>
          <a:blip r:embed="rId2"/>
          <a:stretch/>
        </p:blipFill>
        <p:spPr>
          <a:xfrm>
            <a:off x="6248520" y="1066680"/>
            <a:ext cx="2770200" cy="2819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1" name="Рисунок 6" descr=""/>
          <p:cNvPicPr/>
          <p:nvPr/>
        </p:nvPicPr>
        <p:blipFill>
          <a:blip r:embed="rId3"/>
          <a:stretch/>
        </p:blipFill>
        <p:spPr>
          <a:xfrm>
            <a:off x="2057400" y="3124080"/>
            <a:ext cx="4648320" cy="3486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Логические блоки» Дьенеш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3" name="Picture 6" descr="http://www.igromagazin.ru/img/offers_imgs/5310-2.jpg"/>
          <p:cNvPicPr/>
          <p:nvPr/>
        </p:nvPicPr>
        <p:blipFill>
          <a:blip r:embed="rId1"/>
          <a:stretch/>
        </p:blipFill>
        <p:spPr>
          <a:xfrm>
            <a:off x="457200" y="1066680"/>
            <a:ext cx="2031840" cy="2819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4" name="Picture 8" descr="http://www.talantiki.ru/published/publicdata/DB0013453010/attachments/SC/products_pictures/kor_%D0%BA%D0%BE%D1%80%D0%B1-1_bx8_enl.jpg"/>
          <p:cNvPicPr/>
          <p:nvPr/>
        </p:nvPicPr>
        <p:blipFill>
          <a:blip r:embed="rId2"/>
          <a:stretch/>
        </p:blipFill>
        <p:spPr>
          <a:xfrm>
            <a:off x="5181480" y="1066680"/>
            <a:ext cx="3749760" cy="2880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5" name="Рисунок 9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2819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Геометрическая фигур</a:t>
            </a:r>
            <a:r>
              <a:rPr b="0" lang="ru-RU" sz="32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эталон, пользуясь которым, человек определяет форму предмета.</a:t>
            </a:r>
            <a:br>
              <a:rPr sz="3200"/>
            </a:br>
            <a:r>
              <a:rPr b="1" lang="ru-RU" sz="32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Форм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один из пространственных признаков предметов окружающей действи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Форма получила обобщенное отражение в геометрических фигурах.</a:t>
            </a:r>
            <a:br>
              <a:rPr sz="3200"/>
            </a:br>
            <a:r>
              <a:rPr b="1" lang="ru-RU" sz="32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Эталоны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это выработанные человеком в процессе исторического развития представлений об основных свойствах предме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e5e5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86"/>
                </a:solidFill>
                <a:latin typeface="Arial"/>
                <a:ea typeface="Times New Roman"/>
              </a:rPr>
              <a:t>Игры- головоломки </a:t>
            </a:r>
            <a:r>
              <a:rPr b="0" lang="ru-RU" sz="2800" spc="-1" strike="noStrike">
                <a:solidFill>
                  <a:srgbClr val="004d86"/>
                </a:solidFill>
                <a:latin typeface="Arial"/>
                <a:ea typeface="Times New Roman"/>
              </a:rPr>
              <a:t>(геометрические конструкторы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7" name="Picture 2" descr="http://www.samik-toys.ru/data/big/listik2.jpg"/>
          <p:cNvPicPr/>
          <p:nvPr/>
        </p:nvPicPr>
        <p:blipFill>
          <a:blip r:embed="rId1"/>
          <a:stretch/>
        </p:blipFill>
        <p:spPr>
          <a:xfrm>
            <a:off x="609480" y="4191120"/>
            <a:ext cx="3030480" cy="2286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8" name="Picture 4" descr="http://www.rebenok.com/img/355_400_1.jpg"/>
          <p:cNvPicPr/>
          <p:nvPr/>
        </p:nvPicPr>
        <p:blipFill>
          <a:blip r:embed="rId2"/>
          <a:stretch/>
        </p:blipFill>
        <p:spPr>
          <a:xfrm>
            <a:off x="6019920" y="914400"/>
            <a:ext cx="2133360" cy="2394000"/>
          </a:xfrm>
          <a:prstGeom prst="rect">
            <a:avLst/>
          </a:prstGeom>
          <a:ln w="76320">
            <a:solidFill>
              <a:srgbClr val="f41429"/>
            </a:solidFill>
            <a:miter/>
          </a:ln>
        </p:spPr>
      </p:pic>
      <p:pic>
        <p:nvPicPr>
          <p:cNvPr id="649" name="Picture 6" descr="http://0.tqn.com/d/create/1/0/N/_/5/-/Tangram-set-00.jpg"/>
          <p:cNvPicPr/>
          <p:nvPr/>
        </p:nvPicPr>
        <p:blipFill>
          <a:blip r:embed="rId3"/>
          <a:stretch/>
        </p:blipFill>
        <p:spPr>
          <a:xfrm>
            <a:off x="685800" y="819000"/>
            <a:ext cx="2857680" cy="28386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 txBox="1"/>
          <p:nvPr/>
        </p:nvSpPr>
        <p:spPr>
          <a:xfrm>
            <a:off x="2971800" y="3047760"/>
            <a:ext cx="1828800" cy="609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4d86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86"/>
                </a:solidFill>
                <a:latin typeface="Arial"/>
                <a:ea typeface="Times New Roman"/>
              </a:rPr>
              <a:t>Танагра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400800" y="3124080"/>
            <a:ext cx="2743200" cy="609840"/>
          </a:xfrm>
          <a:prstGeom prst="rect">
            <a:avLst/>
          </a:prstGeom>
          <a:solidFill>
            <a:srgbClr val="ffff59"/>
          </a:solidFill>
          <a:ln w="9360">
            <a:solidFill>
              <a:srgbClr val="004d86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86"/>
                </a:solidFill>
                <a:latin typeface="Arial"/>
                <a:ea typeface="Times New Roman"/>
              </a:rPr>
              <a:t>Вьетнамская иг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6248160"/>
            <a:ext cx="2743200" cy="609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4d86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86"/>
                </a:solidFill>
                <a:latin typeface="Arial"/>
                <a:ea typeface="Times New Roman"/>
              </a:rPr>
              <a:t>Колумбово яйц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3" name="Picture 10" descr="http://i026.radikal.ru/0802/1a/6b82c0371cb7.jpg"/>
          <p:cNvPicPr/>
          <p:nvPr/>
        </p:nvPicPr>
        <p:blipFill>
          <a:blip r:embed="rId4"/>
          <a:stretch/>
        </p:blipFill>
        <p:spPr>
          <a:xfrm>
            <a:off x="5181480" y="4167360"/>
            <a:ext cx="2895840" cy="2352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54" name=""/>
          <p:cNvSpPr txBox="1"/>
          <p:nvPr/>
        </p:nvSpPr>
        <p:spPr>
          <a:xfrm>
            <a:off x="6324480" y="6303600"/>
            <a:ext cx="2819520" cy="554040"/>
          </a:xfrm>
          <a:prstGeom prst="rect">
            <a:avLst/>
          </a:prstGeom>
          <a:solidFill>
            <a:srgbClr val="ffff59"/>
          </a:solidFill>
          <a:ln w="9360">
            <a:solidFill>
              <a:srgbClr val="004d86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d86"/>
                </a:solidFill>
                <a:latin typeface="Arial"/>
                <a:ea typeface="Times New Roman"/>
              </a:rPr>
              <a:t>Волшебный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e5e5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86"/>
                </a:solidFill>
                <a:latin typeface="Arial"/>
                <a:ea typeface="Times New Roman"/>
              </a:rPr>
              <a:t>Игры- головоломки </a:t>
            </a:r>
            <a:r>
              <a:rPr b="0" lang="ru-RU" sz="2800" spc="-1" strike="noStrike">
                <a:solidFill>
                  <a:srgbClr val="004d86"/>
                </a:solidFill>
                <a:latin typeface="Arial"/>
                <a:ea typeface="Times New Roman"/>
              </a:rPr>
              <a:t>(геометрические конструкторы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6" name="Рисунок 13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810240" cy="2666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7" name="Рисунок 14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648240" cy="2624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8" name="Рисунок 15" descr=""/>
          <p:cNvPicPr/>
          <p:nvPr/>
        </p:nvPicPr>
        <p:blipFill>
          <a:blip r:embed="rId3"/>
          <a:stretch/>
        </p:blipFill>
        <p:spPr>
          <a:xfrm>
            <a:off x="609480" y="4133880"/>
            <a:ext cx="3681360" cy="2495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9" name="Рисунок 16" descr=""/>
          <p:cNvPicPr/>
          <p:nvPr/>
        </p:nvPicPr>
        <p:blipFill>
          <a:blip r:embed="rId4"/>
          <a:stretch/>
        </p:blipFill>
        <p:spPr>
          <a:xfrm>
            <a:off x="4952880" y="4114800"/>
            <a:ext cx="3733920" cy="2500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solidFill>
            <a:srgbClr val="004d86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Контрольный этап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Цели контрольного этапа: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Проверить эффективность работы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Сделать выводы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1" name="Picture 1" descr=""/>
          <p:cNvPicPr/>
          <p:nvPr/>
        </p:nvPicPr>
        <p:blipFill>
          <a:blip r:embed="rId1"/>
          <a:stretch/>
        </p:blipFill>
        <p:spPr>
          <a:xfrm>
            <a:off x="0" y="1981080"/>
            <a:ext cx="915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99172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59"/>
                </a:solidFill>
                <a:latin typeface="Arial"/>
                <a:ea typeface="Times New Roman"/>
              </a:rPr>
              <a:t>Выводы:</a:t>
            </a: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1. Для закрепления  математических знаний необходимо использовать занимательные игры и упражнения. </a:t>
            </a: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2. Создавать условия для самостоятельной деятельности.</a:t>
            </a:r>
            <a:br>
              <a:rPr sz="2800"/>
            </a:br>
            <a:r>
              <a:rPr b="0" lang="ru-RU" sz="2800" spc="-1" strike="noStrike">
                <a:solidFill>
                  <a:srgbClr val="ffff59"/>
                </a:solidFill>
                <a:latin typeface="Arial"/>
                <a:ea typeface="Times New Roman"/>
              </a:rPr>
              <a:t>3. Необходима четкая организация игр и  правильное руководство со стороны воспитателя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f765"/>
                </a:solidFill>
                <a:latin typeface="Arial"/>
                <a:ea typeface="Times New Roman"/>
              </a:rPr>
              <a:t>Занимательные игры и упражнения - наиболее приемлемый способ сообщения знаний ребенку.</a:t>
            </a:r>
            <a:br>
              <a:rPr sz="2800"/>
            </a:br>
            <a:r>
              <a:rPr b="0" lang="ru-RU" sz="2800" spc="-1" strike="noStrike">
                <a:solidFill>
                  <a:srgbClr val="70ffff"/>
                </a:solidFill>
                <a:latin typeface="Arial"/>
                <a:ea typeface="Times New Roman"/>
              </a:rPr>
              <a:t>В занимательных играх легко и без насилия над личностью можно научить ребенка различным практическим способам ознакомления с различными геометрическими фигурами.</a:t>
            </a:r>
            <a:br>
              <a:rPr sz="2800"/>
            </a:br>
            <a:r>
              <a:rPr b="0" lang="ru-RU" sz="2800" spc="-1" strike="noStrike">
                <a:solidFill>
                  <a:srgbClr val="ff3f3f"/>
                </a:solidFill>
                <a:latin typeface="Arial"/>
                <a:ea typeface="Times New Roman"/>
              </a:rPr>
              <a:t>У детей идет накопление сенсорного опыта, на основе которого строятся знания, представления</a:t>
            </a:r>
            <a:r>
              <a:rPr b="0" lang="ru-RU" sz="2800" spc="-1" strike="noStrike">
                <a:solidFill>
                  <a:srgbClr val="61f765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Проблемами формирования представлений о геометрических фигурах у дошкольников занимались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3338640"/>
            <a:ext cx="8229600" cy="27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f765"/>
                </a:solidFill>
                <a:latin typeface="Times New Roman"/>
                <a:ea typeface="Times New Roman"/>
              </a:rPr>
              <a:t>Л.А. Венгер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29ffff"/>
                </a:solidFill>
                <a:latin typeface="Times New Roman"/>
                <a:ea typeface="Times New Roman"/>
              </a:rPr>
              <a:t>В.П Сохина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f3f"/>
                </a:solidFill>
                <a:latin typeface="Times New Roman"/>
                <a:ea typeface="Times New Roman"/>
              </a:rPr>
              <a:t>Е.И. Удальцова 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А.В Запорожец,  </a:t>
            </a:r>
            <a:r>
              <a:rPr b="0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.С.Мухина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adffff"/>
                </a:solidFill>
                <a:latin typeface="Times New Roman"/>
                <a:ea typeface="Times New Roman"/>
              </a:rPr>
              <a:t>Н.Н. Поддъяков </a:t>
            </a:r>
            <a:r>
              <a:rPr b="0" lang="ru-RU" sz="40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и др.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Роль и значение занимательных игр в развитии дошкольников изучена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30909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f3f"/>
                </a:solidFill>
                <a:latin typeface="Times New Roman"/>
                <a:ea typeface="Times New Roman"/>
              </a:rPr>
              <a:t>З.А. Михайлово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Я.А.Пономаревым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affff"/>
                </a:solidFill>
                <a:latin typeface="Times New Roman"/>
                <a:ea typeface="Times New Roman"/>
              </a:rPr>
              <a:t>В.А.Крутецким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Б.А. Кордемским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Рамка 2"/>
          <p:cNvSpPr/>
          <p:nvPr/>
        </p:nvSpPr>
        <p:spPr>
          <a:xfrm>
            <a:off x="76320" y="76320"/>
            <a:ext cx="8915400" cy="2006640"/>
          </a:xfrm>
          <a:prstGeom prst="pie">
            <a:avLst/>
          </a:prstGeo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ель работ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учить целенаправленность использования занимательных игр и упражнений в процессе формирования представлений о геометрических фигурах у детей 6 г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5" name="Рамка 3"/>
          <p:cNvSpPr/>
          <p:nvPr/>
        </p:nvSpPr>
        <p:spPr>
          <a:xfrm>
            <a:off x="76320" y="2324160"/>
            <a:ext cx="8915400" cy="20066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ъект исследования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цесс формирования представлений о геометрических фигурах у детей дошкольного возрас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Рамка 4"/>
          <p:cNvSpPr/>
          <p:nvPr/>
        </p:nvSpPr>
        <p:spPr>
          <a:xfrm>
            <a:off x="76320" y="4648320"/>
            <a:ext cx="8915400" cy="200664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редмет исследова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ормирование представлений о геометрических фигурах у детей старшего дошкольного возраста в процессе занимательных игр и упражнен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0" y="19980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ЗАДАЧ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f765"/>
                </a:solidFill>
                <a:latin typeface="Verdana"/>
              </a:rPr>
              <a:t>выявить психолого–педагогические основы формирования представлений о геометрических фигур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f3f"/>
                </a:solidFill>
                <a:latin typeface="Verdana"/>
              </a:rPr>
              <a:t>изучить  особенности методики развития представлений о геометрических фигурах в дошкольном возраст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ffff"/>
                </a:solidFill>
                <a:latin typeface="Verdana"/>
              </a:rPr>
              <a:t>выявить  уровни сформированности представлений о геометрических фигурах у детей старшего дошкольного возраст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Verdana"/>
              </a:rPr>
              <a:t>продумать  систему занимательных игр и упражнений для повышения эффективности усвоения знаний о геометрических фигурах и опробовать и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3e0c2"/>
                </a:solidFill>
                <a:latin typeface="Verdana"/>
              </a:rPr>
              <a:t>проанализировать полученные результаты и сделать вывод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00"/>
                </a:solidFill>
                <a:latin typeface="Arial"/>
              </a:rPr>
              <a:t>методы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ffff"/>
                </a:solidFill>
                <a:latin typeface="Times New Roman"/>
                <a:ea typeface="Times New Roman"/>
              </a:rPr>
              <a:t>теоретические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мпирические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графические и математические методы обработки информации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Прямоугольник 3"/>
          <p:cNvSpPr/>
          <p:nvPr/>
        </p:nvSpPr>
        <p:spPr>
          <a:xfrm>
            <a:off x="246240" y="290520"/>
            <a:ext cx="8708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00"/>
                </a:solidFill>
                <a:uFillTx/>
                <a:latin typeface="Times New Roman"/>
                <a:ea typeface="Times New Roman"/>
              </a:rPr>
              <a:t>Занимательная игра</a:t>
            </a:r>
            <a:r>
              <a:rPr b="1" lang="ru-RU" sz="36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это ряд действий, шагов и задач, повышающих эффективность воспитательного процесса и способствующих формированию (в нашем случае) элементарных математических навыков. </a:t>
            </a:r>
            <a:br>
              <a:rPr sz="3600"/>
            </a:br>
            <a:r>
              <a:rPr b="1" lang="ru-RU" sz="3600" spc="-1" strike="noStrike" u="sng">
                <a:solidFill>
                  <a:srgbClr val="e5e500"/>
                </a:solidFill>
                <a:uFillTx/>
                <a:latin typeface="Times New Roman"/>
                <a:ea typeface="Times New Roman"/>
              </a:rPr>
              <a:t>Занимательное упражнение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это один из компонентов занимательной игры, проводимой для развития познавательных способностей дошкольников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388800" y="176040"/>
            <a:ext cx="83772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2-06-22T19:39:0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