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9C5-114F-4C43-9DC8-3A06986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FEE-3436-4A8A-8AFF-A09F14F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28D-0203-4EAE-8C62-51BB2594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EEB-BF49-4E90-9954-797617EF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8421-0792-4824-A850-3C17B029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5DC6-C24C-4E1E-B345-A299181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3C8E-5BE0-4571-B6F0-62C7D1D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15A0-4680-4784-A97F-DE84975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B9B4-5CD0-4113-A8C3-9FB84792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E8B5-8F48-4E2F-B9EB-375BB03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B47E-39DA-431B-9744-B0F2232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DA0-AF8F-4003-94DF-17EB72E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E95-1AAB-462A-9C18-5C4590C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5285-C415-4525-BA02-2C8CBBD4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744-C4FD-432B-A633-298D87AD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B7AB-7369-4B3B-AB84-6938A345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2171-ED51-4E11-979B-2A69F819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E991-E139-43CA-BAEC-7A523138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6F0E-FBBD-4609-989C-07D8CA8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82F0-5B05-4C72-B6CB-7AFE88C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1CEB-A611-4345-81D8-8AE7642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3FF2-816E-4D9B-95EA-69192F7B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95B-0543-4A64-A4B3-D218E3B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CB11-D584-4A78-9B59-22E2E814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BFE2-5A2B-4821-AC6C-69B5354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1B65-7815-470A-9670-6073F76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908A-9298-4B06-803B-F622056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37F5-85C2-4B59-805F-C18D9E65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61F5-3B93-45D3-85F5-CEF48839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FD4D-61E0-4982-A6AB-27810354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9AA5-21D1-4E4C-87F1-7E3CD946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2BFF-56C3-4893-9A07-3F757A2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7D48-DFD6-476B-A5E7-6ADBF8B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53E-6EE7-45DF-BA9D-D7D0673E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FBC2-467B-446C-A761-5BB146EE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4471-4F6C-4C11-A98E-39608B5B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07FE6-6E55-4EE1-B3AE-91CD9E3C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C3A4-FA2D-47C2-8993-456BADF0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B038-0F62-4460-B844-632A92D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F3EA-CEBD-44BB-BE79-7FC5E6A2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43E2-461B-438C-ABF3-8BB23C0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702C-181C-4C19-8922-4CB464DA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94AA-8A13-45E0-858D-C175FFC3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7720-6E1A-4D11-8A0C-AD3B27F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62B-456E-433F-8098-78D3AB4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D76A4-8D80-4127-B4A0-E54AE56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3C73-0BD7-48B1-9322-C65FF5B1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9166-F498-4F07-961D-F149C9C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5BE1-67D8-42CE-911A-E886D3B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691B-C958-47A8-8631-75A47671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0CAE-FA8A-498F-A98E-EED7A6A7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B69E-73CF-4970-A4C6-16ECBA1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C4F5-D260-4CED-BB45-75786293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7382-50EC-4E64-94D0-387418A9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AF33-E00F-404A-B5F6-04710F9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12E-3476-4100-8792-F6B93A34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6FA3-C34E-4CC4-87C0-19AF61F2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32229-281A-4143-AE51-B51FFDDE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B8F4-5BF9-40CF-8CB1-C0E5F2E9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0DCA5-6B01-4DCA-ABF4-066CF0A1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9DB2-30F2-483A-BB85-38F7C368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E1E5-9C58-4516-9815-F40D6A0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1B1B-3287-4F70-8ED3-1BBE856B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5B83B-A3A7-4984-9099-833EC110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4640B-ECBA-488C-9B9A-E1C49A5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36B65-1B24-455A-9328-5D09B3D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CEB-5369-4C7E-810B-3667143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E3F5-74BF-45F6-9AAC-8A88630C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FBAE1-9589-4277-8076-3C72353A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1391-710B-4062-9E68-0D15A071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E8CB9-63BF-4FD4-BE0C-751381B2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418C4-0AEB-4556-BA45-6FE0ADB9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AD04C-922B-4DA9-9A50-244EF518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B7B2-2979-4CD0-9F82-CA98774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2E752-A620-445F-B566-75BD8E9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39438-4900-4F6A-9DF8-227D02C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82BBA-33C3-48BD-B01D-BFDDC48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0CD-806D-49AF-98DA-894FCC7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8F2AE-968C-4F3C-B666-8D5B708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581A4-7358-41C4-B882-C94AED7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9CEA-7481-4A07-AED1-058CF48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DCDC-3A2A-4B35-9749-3600DF44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2E1B-E055-4290-B9A5-4FF4C8BB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AD2-40FC-4D83-8B71-223BCEAC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dddd">
              <a:alpha val="33000"/>
            </a:srgbClr>
          </a:solidFill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8181"/>
            </a:solidFill>
            <a:miter/>
          </a:ln>
          <a:effectLst>
            <a:outerShdw dist="12600" dir="5400000" blurRad="0" rotWithShape="0">
              <a:srgbClr val="ea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D9B-FD06-47F8-BC4C-282811E1519F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dddd">
              <a:alpha val="33000"/>
            </a:srgbClr>
          </a:solidFill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8181"/>
            </a:solidFill>
            <a:miter/>
          </a:ln>
          <a:effectLst>
            <a:outerShdw dist="12600" dir="5400000" blurRad="0" rotWithShape="0">
              <a:srgbClr val="ea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2A3-66E5-40F0-B080-53732278F47D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E6ED-13EA-4CEB-87AE-6C9E8AFBA74A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AB8-3E43-42B3-AB86-E17E6C45145F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39B8-7FD1-42C2-9D14-2082EDB2EE61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2D7-3165-46A8-B2D9-56CF3ADD6D94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490-1BEB-461E-8B36-E461741851E8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1500120" y="285840"/>
            <a:ext cx="2766960" cy="410184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1" descr=""/>
          <p:cNvPicPr/>
          <p:nvPr/>
        </p:nvPicPr>
        <p:blipFill>
          <a:blip r:embed="rId2"/>
          <a:stretch/>
        </p:blipFill>
        <p:spPr>
          <a:xfrm>
            <a:off x="2243160" y="2517840"/>
            <a:ext cx="6095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143000" y="500040"/>
            <a:ext cx="76867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аво на охрану здоровья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аво на благоприятную окружающую сре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аво на образова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Каждому гарантируется свобода литературного, художественного, научного, технического и других видов творчества, препода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Каждому гарантируется судебная защита его прав и свобод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бязанности 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ый гражданин обязан платить законно установленные налоги и сбо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Сохранять природу и окружающую сред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Защита Отечества является долгом и обязанностью гражданина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ражданин может самостоятельно осуществлять в полном объеме свои права и обязанности с 18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ражданин Российской Федерации не может быть выслан за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еделы Российской Федерации или выдан другому государств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Может иметь гражданство иностранного государства </a:t>
            </a:r>
            <a:r>
              <a:rPr b="1" i="1" lang="ru-RU" sz="2400" spc="-1" strike="noStrike">
                <a:solidFill>
                  <a:srgbClr val="bf0000"/>
                </a:solidFill>
                <a:latin typeface="Corbel"/>
              </a:rPr>
              <a:t>(двойное гражданство)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bf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Практическая рабо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1</a:t>
            </a:r>
            <a:br>
              <a:rPr sz="2800"/>
            </a:b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очтите преамбулу к Конституции РФ и определите основные ценности, провозглашаемые в ней. </a:t>
            </a:r>
            <a:br>
              <a:rPr sz="2800"/>
            </a:b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7f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2</a:t>
            </a:r>
            <a:br>
              <a:rPr sz="2800"/>
            </a:b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Используя ст.10 Конституции РФ определите, в чьих руках находится законодательная, исполнительная и судебная власть?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c1f34"/>
                </a:solidFill>
                <a:latin typeface="Corbel"/>
              </a:rPr>
              <a:t>Задание №3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спользуя текст Конституции РФ запишите  № статей, определяющих экономические права, политические права, право на частную собственность и ее наследование, право на предпринимательство, право на свободное распоряжение своими способностями к труду, право на равную оплату за равный труд, право создавать и вступать в профсоюзы для защиты своих интересов, право избирать и быть избранным в органы власти и самоуправления, право непосредственного участия в управлении страной, право на участие в референдуме, право на политическое убежище.</a:t>
            </a:r>
            <a:endParaRPr b="0" lang="en-US" sz="24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48" name="Picture 3" descr="D:\5ff3190e5b90ab735990733aefa28761.jpg"/>
          <p:cNvPicPr/>
          <p:nvPr/>
        </p:nvPicPr>
        <p:blipFill>
          <a:blip r:embed="rId1"/>
          <a:stretch/>
        </p:blipFill>
        <p:spPr>
          <a:xfrm>
            <a:off x="7000920" y="214200"/>
            <a:ext cx="17859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4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44,57,58,59 допишите конституционные обязанности граждан РФ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- уважение прав и свобод других лиц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- соблюдение Конституции и закон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- забота о детях и нетрудоспособных родителях;…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50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7786800" y="428760"/>
            <a:ext cx="909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5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Конституция – это основной закон государства, определяющий его устройство, образование органов власти, закрепляющий права человека. Конституция в переводе с латинского – устройство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80 Конституции РФ составьте кластер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214880" y="4000680"/>
            <a:ext cx="2000160" cy="428400"/>
          </a:xfrm>
          <a:prstGeom prst="rect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3313"/>
                </a:solidFill>
                <a:latin typeface="Corbel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Овал 3"/>
          <p:cNvSpPr/>
          <p:nvPr/>
        </p:nvSpPr>
        <p:spPr>
          <a:xfrm>
            <a:off x="2071800" y="5000760"/>
            <a:ext cx="1214280" cy="92844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Овал 4"/>
          <p:cNvSpPr/>
          <p:nvPr/>
        </p:nvSpPr>
        <p:spPr>
          <a:xfrm>
            <a:off x="3929040" y="5357880"/>
            <a:ext cx="1143000" cy="92880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Овал 5"/>
          <p:cNvSpPr/>
          <p:nvPr/>
        </p:nvSpPr>
        <p:spPr>
          <a:xfrm>
            <a:off x="5857920" y="5286240"/>
            <a:ext cx="1143000" cy="85752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Овал 6"/>
          <p:cNvSpPr/>
          <p:nvPr/>
        </p:nvSpPr>
        <p:spPr>
          <a:xfrm>
            <a:off x="7500960" y="4786200"/>
            <a:ext cx="1214280" cy="78588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57" name="Прямая со стрелкой 8"/>
          <p:cNvCxnSpPr/>
          <p:nvPr/>
        </p:nvCxnSpPr>
        <p:spPr>
          <a:xfrm flipH="1">
            <a:off x="2999880" y="4429080"/>
            <a:ext cx="121536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8" name="Прямая со стрелкой 10"/>
          <p:cNvCxnSpPr>
            <a:endCxn id="356" idx="1"/>
          </p:cNvCxnSpPr>
          <p:nvPr/>
        </p:nvCxnSpPr>
        <p:spPr>
          <a:xfrm>
            <a:off x="6215040" y="4429080"/>
            <a:ext cx="1464480" cy="472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9" name="Прямая со стрелкой 12"/>
          <p:cNvCxnSpPr>
            <a:endCxn id="354" idx="0"/>
          </p:cNvCxnSpPr>
          <p:nvPr/>
        </p:nvCxnSpPr>
        <p:spPr>
          <a:xfrm flipH="1">
            <a:off x="4500360" y="4429080"/>
            <a:ext cx="357840" cy="9295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60" name="Прямая со стрелкой 14"/>
          <p:cNvCxnSpPr>
            <a:endCxn id="355" idx="0"/>
          </p:cNvCxnSpPr>
          <p:nvPr/>
        </p:nvCxnSpPr>
        <p:spPr>
          <a:xfrm>
            <a:off x="5500440" y="4428720"/>
            <a:ext cx="929160" cy="8578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4" descr="Д.А.Медведев"/>
          <p:cNvPicPr/>
          <p:nvPr/>
        </p:nvPicPr>
        <p:blipFill>
          <a:blip r:embed="rId1"/>
          <a:stretch/>
        </p:blipFill>
        <p:spPr>
          <a:xfrm>
            <a:off x="428760" y="39290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6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Прочитайте ст. 81,82 Конституции РФ и ответьте на вопросы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1. Кто может быть избран Президентом РФ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2. На какой срок избирается Президент РФ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3. Какие ограничения предусматриваются в Конституции относительно срока пребывания Президента в должности?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64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7786800" y="357120"/>
            <a:ext cx="981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7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 83 – 89 определите полномочия Президента РФ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а. при формировании правительств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б. по отношению к Государственной Думе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в. при проведении внешней политики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66" name="Picture 2" descr="D:\preview.gif"/>
          <p:cNvPicPr/>
          <p:nvPr/>
        </p:nvPicPr>
        <p:blipFill>
          <a:blip r:embed="rId1"/>
          <a:stretch/>
        </p:blipFill>
        <p:spPr>
          <a:xfrm>
            <a:off x="7500960" y="4492800"/>
            <a:ext cx="13478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8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 95, 96, 102, 103 заполните схему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68" name="Овал 2"/>
          <p:cNvSpPr/>
          <p:nvPr/>
        </p:nvSpPr>
        <p:spPr>
          <a:xfrm>
            <a:off x="2714760" y="1428840"/>
            <a:ext cx="4143240" cy="150012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Corbel"/>
              </a:rPr>
              <a:t>Федеральное Собр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кругленный прямоугольник 3"/>
          <p:cNvSpPr/>
          <p:nvPr/>
        </p:nvSpPr>
        <p:spPr>
          <a:xfrm>
            <a:off x="3571920" y="3429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3313"/>
                </a:solidFill>
                <a:latin typeface="Corbel"/>
              </a:rPr>
              <a:t>ПАЛА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1428840" y="3143160"/>
            <a:ext cx="1285920" cy="785880"/>
          </a:xfrm>
          <a:prstGeom prst="rect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6929280" y="3214800"/>
            <a:ext cx="1357560" cy="714240"/>
          </a:xfrm>
          <a:prstGeom prst="rect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Скругленный прямоугольник 6"/>
          <p:cNvSpPr/>
          <p:nvPr/>
        </p:nvSpPr>
        <p:spPr>
          <a:xfrm>
            <a:off x="3786120" y="507204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3313"/>
                </a:solidFill>
                <a:latin typeface="Corbel"/>
              </a:rPr>
              <a:t>ПОЛНОМОЧ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73" name="Прямая со стрелкой 10"/>
          <p:cNvCxnSpPr>
            <a:stCxn id="369" idx="1"/>
            <a:endCxn id="370" idx="3"/>
          </p:cNvCxnSpPr>
          <p:nvPr/>
        </p:nvCxnSpPr>
        <p:spPr>
          <a:xfrm flipH="1" flipV="1">
            <a:off x="2714040" y="3536280"/>
            <a:ext cx="857880" cy="3927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74" name="Прямая со стрелкой 12"/>
          <p:cNvCxnSpPr>
            <a:stCxn id="369" idx="3"/>
            <a:endCxn id="371" idx="1"/>
          </p:cNvCxnSpPr>
          <p:nvPr/>
        </p:nvCxnSpPr>
        <p:spPr>
          <a:xfrm flipV="1">
            <a:off x="6143760" y="3571560"/>
            <a:ext cx="786240" cy="3578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75" name="Прямая со стрелкой 15"/>
          <p:cNvCxnSpPr/>
          <p:nvPr/>
        </p:nvCxnSpPr>
        <p:spPr>
          <a:xfrm>
            <a:off x="6143760" y="5214960"/>
            <a:ext cx="1357920" cy="9295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76" name="Прямая со стрелкой 17"/>
          <p:cNvCxnSpPr/>
          <p:nvPr/>
        </p:nvCxnSpPr>
        <p:spPr>
          <a:xfrm flipH="1">
            <a:off x="2214000" y="5286240"/>
            <a:ext cx="1500840" cy="9295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f0000"/>
                </a:solidFill>
                <a:latin typeface="Corbel"/>
              </a:rPr>
              <a:t>Задание №9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Corbel"/>
              </a:rPr>
              <a:t>Используя представленные портреты политических деятелей, определите Ф.И.О., статус(ы), период нахождения в указанном статусе и запишите в хронологической последовательности.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78" name="Picture 5" descr="D:\20.jpg"/>
          <p:cNvPicPr/>
          <p:nvPr/>
        </p:nvPicPr>
        <p:blipFill>
          <a:blip r:embed="rId1"/>
          <a:stretch/>
        </p:blipFill>
        <p:spPr>
          <a:xfrm>
            <a:off x="1571760" y="2571840"/>
            <a:ext cx="1733400" cy="19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D:\0_1233_b100da46_XL.jpg"/>
          <p:cNvPicPr/>
          <p:nvPr/>
        </p:nvPicPr>
        <p:blipFill>
          <a:blip r:embed="rId2"/>
          <a:stretch/>
        </p:blipFill>
        <p:spPr>
          <a:xfrm>
            <a:off x="2357280" y="4714920"/>
            <a:ext cx="2600640" cy="1857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news.kremlin.ru/media/events/photos/medium/41d2d663aec17da6e903.jpg"/>
          <p:cNvPicPr/>
          <p:nvPr/>
        </p:nvPicPr>
        <p:blipFill>
          <a:blip r:embed="rId3"/>
          <a:stretch/>
        </p:blipFill>
        <p:spPr>
          <a:xfrm>
            <a:off x="4786200" y="2762280"/>
            <a:ext cx="2818080" cy="188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5ff3190e5b90ab735990733aefa28761.jpg"/>
          <p:cNvPicPr/>
          <p:nvPr/>
        </p:nvPicPr>
        <p:blipFill>
          <a:blip r:embed="rId4"/>
          <a:stretch/>
        </p:blipFill>
        <p:spPr>
          <a:xfrm>
            <a:off x="8170920" y="0"/>
            <a:ext cx="973080" cy="97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" descr="Картинка 5 из 1952"/>
          <p:cNvPicPr/>
          <p:nvPr/>
        </p:nvPicPr>
        <p:blipFill>
          <a:blip r:embed="rId5"/>
          <a:stretch/>
        </p:blipFill>
        <p:spPr>
          <a:xfrm>
            <a:off x="6715080" y="4214880"/>
            <a:ext cx="20718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Задачи  урока:</a:t>
            </a:r>
            <a:br>
              <a:rPr sz="32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Составить общее представление о Конституции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Познакомиться со структурой документ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Объяснить новые понятия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Научиться работать с документом и использовать его в необходимых ситуациях.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000"/>
                </a:solidFill>
                <a:latin typeface="Corbel"/>
              </a:rPr>
              <a:t>Итоговые вопросы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Что такое Конституция?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кова структура Конституции РФ?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Что является фундаментом Конституции РФ?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иведите примеры из жизни, когда вы можете реализовать личные, политические, экономические, социальные и культурные права.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кие обязанности есть у граждан России, в частности и у вас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Домашнее задание – параграф 11.</a:t>
            </a:r>
            <a:endParaRPr b="0" lang="en-US" sz="24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6" descr="D:\Конституция РФ\map2.jpg"/>
          <p:cNvPicPr/>
          <p:nvPr/>
        </p:nvPicPr>
        <p:blipFill>
          <a:blip r:embed="rId1"/>
          <a:stretch/>
        </p:blipFill>
        <p:spPr>
          <a:xfrm>
            <a:off x="1071720" y="500040"/>
            <a:ext cx="8072280" cy="60991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f0000"/>
                </a:solidFill>
                <a:latin typeface="Corbel"/>
              </a:rPr>
              <a:t>Объясните значение следующих понятий:</a:t>
            </a:r>
            <a:br>
              <a:rPr sz="3200"/>
            </a:br>
            <a:br>
              <a:rPr sz="3200"/>
            </a:br>
            <a:r>
              <a:rPr b="1" i="1" lang="ru-RU" sz="2500" spc="-1" strike="noStrike">
                <a:solidFill>
                  <a:srgbClr val="7f0000"/>
                </a:solidFill>
                <a:latin typeface="Corbel"/>
              </a:rPr>
              <a:t>1</a:t>
            </a: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. Правовое государство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2.Демократия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3.Суверенитет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4.Федеративная форма устройства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5.Референдум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6.Конституция.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64856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Конституция </a:t>
            </a:r>
            <a:r>
              <a:rPr b="1" lang="ru-RU" sz="3200" spc="-1" strike="noStrike">
                <a:solidFill>
                  <a:srgbClr val="773313"/>
                </a:solidFill>
                <a:latin typeface="Corbel"/>
              </a:rPr>
              <a:t>– это юридический документ, который принимают в современном обществе, чтобы установить и закрепить:</a:t>
            </a:r>
            <a:br>
              <a:rPr sz="3200"/>
            </a:br>
            <a:br>
              <a:rPr sz="3900"/>
            </a:br>
            <a:r>
              <a:rPr b="1" lang="ru-RU" sz="3900" spc="-1" strike="noStrike">
                <a:solidFill>
                  <a:srgbClr val="773313"/>
                </a:solidFill>
                <a:latin typeface="Corbel"/>
              </a:rPr>
              <a:t>- </a:t>
            </a:r>
            <a:r>
              <a:rPr b="1" lang="ru-RU" sz="2900" spc="-1" strike="noStrike">
                <a:solidFill>
                  <a:srgbClr val="773313"/>
                </a:solidFill>
                <a:latin typeface="Corbel"/>
              </a:rPr>
              <a:t>отношения между властью и гражданином;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773313"/>
                </a:solidFill>
                <a:latin typeface="Corbel"/>
              </a:rPr>
              <a:t>- устройство государственной власти;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773313"/>
                </a:solidFill>
                <a:latin typeface="Corbel"/>
              </a:rPr>
              <a:t>- устройство государства.</a:t>
            </a:r>
            <a:endParaRPr b="0" lang="en-US" sz="29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24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7394400" y="428760"/>
            <a:ext cx="1444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История создания Конституции</a:t>
            </a:r>
            <a:endParaRPr b="0" lang="en-US" sz="39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26" name="Таблица 6" descr=""/>
          <p:cNvPicPr/>
          <p:nvPr/>
        </p:nvPicPr>
        <p:blipFill>
          <a:blip r:embed="rId1"/>
          <a:stretch/>
        </p:blipFill>
        <p:spPr>
          <a:xfrm>
            <a:off x="1450800" y="1322280"/>
            <a:ext cx="6907320" cy="13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1566720" y="3411360"/>
          <a:ext cx="1076400" cy="374760"/>
        </p:xfrm>
        <a:graphic>
          <a:graphicData uri="http://schemas.openxmlformats.org/drawingml/2006/table">
            <a:tbl>
              <a:tblPr/>
              <a:tblGrid>
                <a:gridCol w="1076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071880" y="4643280"/>
          <a:ext cx="1071360" cy="428760"/>
        </p:xfrm>
        <a:graphic>
          <a:graphicData uri="http://schemas.openxmlformats.org/drawingml/2006/table">
            <a:tbl>
              <a:tblPr/>
              <a:tblGrid>
                <a:gridCol w="107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429080" y="3500280"/>
          <a:ext cx="1071720" cy="4287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715000" y="4643280"/>
          <a:ext cx="1143000" cy="3654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7143840" y="3500280"/>
          <a:ext cx="1214280" cy="42876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2" name="Прямая со стрелкой 13"/>
          <p:cNvCxnSpPr/>
          <p:nvPr/>
        </p:nvCxnSpPr>
        <p:spPr>
          <a:xfrm flipH="1">
            <a:off x="2069280" y="2642760"/>
            <a:ext cx="252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3" name="Прямая со стрелкой 15"/>
          <p:cNvCxnSpPr/>
          <p:nvPr/>
        </p:nvCxnSpPr>
        <p:spPr>
          <a:xfrm flipH="1">
            <a:off x="3498480" y="2642760"/>
            <a:ext cx="2160" cy="20026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4" name="Прямая со стрелкой 17"/>
          <p:cNvCxnSpPr/>
          <p:nvPr/>
        </p:nvCxnSpPr>
        <p:spPr>
          <a:xfrm flipH="1">
            <a:off x="4928400" y="2642760"/>
            <a:ext cx="2520" cy="7880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5" name="Прямая со стрелкой 19"/>
          <p:cNvCxnSpPr/>
          <p:nvPr/>
        </p:nvCxnSpPr>
        <p:spPr>
          <a:xfrm flipH="1">
            <a:off x="6286320" y="2642760"/>
            <a:ext cx="2160" cy="20026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6" name="Прямая со стрелкой 21"/>
          <p:cNvCxnSpPr/>
          <p:nvPr/>
        </p:nvCxnSpPr>
        <p:spPr>
          <a:xfrm>
            <a:off x="7643880" y="2642760"/>
            <a:ext cx="72000" cy="7866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f0000"/>
                </a:solidFill>
                <a:latin typeface="Corbel"/>
              </a:rPr>
              <a:t>Содержание Конституции РФ: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1. Преамбула (</a:t>
            </a: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вступление</a:t>
            </a: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);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2. Первый раздел (</a:t>
            </a: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9 глав,</a:t>
            </a:r>
            <a:br>
              <a:rPr sz="3900"/>
            </a:b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137 статей)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3. Второй раздел (</a:t>
            </a: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заключение и переходные положения</a:t>
            </a: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).</a:t>
            </a:r>
            <a:endParaRPr b="0" lang="en-US" sz="39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38" name="Picture 2" descr="D:\preview.gif"/>
          <p:cNvPicPr/>
          <p:nvPr/>
        </p:nvPicPr>
        <p:blipFill>
          <a:blip r:embed="rId1"/>
          <a:stretch/>
        </p:blipFill>
        <p:spPr>
          <a:xfrm>
            <a:off x="7286760" y="1714680"/>
            <a:ext cx="1633320" cy="25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а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и 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свободы человека и гражданина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Основные права и свободы человека неотчуждаемы и принадлежат каждому от рож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Все равны перед законом и суд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осударство гарантирует равенство прав и свобод человека и граж­данина независимо от пола, расы, национальности, языка, проис­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999720" y="304920"/>
            <a:ext cx="7839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жизн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свободу и личную неприкосновен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неприкосновенность частной жизни, личную и семейную тайну, защиту своей чести и доброго и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жилищ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определять и указывать свою национальную принадлеж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передвигаться, выбирать место пребывания и житель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Свобода совести, свобода вероисповед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ому гарантируется свобода мысли и сло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ый имеет право на объединения, включая право создавать профессиональные союзы для защиты своих интере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28584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меют право собираться мирно, без оружия, проводить собрания, митинги и демонстрации, шествия и пикетир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меют право участвовать в управлении делами государства как непосредственно, так и через своих представите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меет право на свободное использование своих способностей и имущества для предпринимательской и иной, не запрещенной законом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раждане и их объединения имеют право иметь в частной собственности земл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ый имеет право свободно распоряжаться своими способностями к труду, выбирать род деятельности и професс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 63</cp:lastModifiedBy>
  <dcterms:modified xsi:type="dcterms:W3CDTF">2011-06-13T17:33:18Z</dcterms:modified>
  <cp:revision>32</cp:revision>
  <dc:subject/>
  <dc:title>Конституция Российской Федерации</dc:title>
</cp:coreProperties>
</file>