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2E42-4978-481B-9F3D-ADD5275F3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1745-25C1-42AE-A4AC-58395274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00DA-B8BA-40BB-B2D7-5F8ECBD10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F75A-4326-4FAC-946C-9A9D09C5C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979A-03A5-49EC-A198-6FA93AE86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94FD-353A-4CB4-A726-449EE80E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721E-9FF5-487D-86B9-0625962F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12CE-CC53-4F7C-A2DC-6FEAC9E7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A9B4-195B-4F0E-8A94-8FECADEC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D97D-B236-4D7F-893A-5CA2E48C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9A90-C2EB-4C93-905B-894BE1C6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2143-3745-471B-890E-CE2A08AB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BBC2-4900-4F6C-A494-D8D353F4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E16D-60AA-4696-BE13-A1CCCEB5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9C42-D6F1-4C4A-9D69-3979D473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4129-DA8C-4211-891C-2BBED1F84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2469-76FE-4C10-9BE7-E6A5054E0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8FC8-5E08-4883-B5D5-E3D773C2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DEF1-4B0A-4568-8E8B-C51D5BDD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822E-D29B-4F1A-9568-A48C8309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D93A-108A-4AD5-8CA5-EB69C0D4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1F60-CFBD-4E92-87B8-1974937B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ED91-7E4B-4FB2-8B06-1E0A3563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21EF-26E9-4BFF-A3D9-296B258F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050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1f497d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c050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1f497d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0CCD-B8A3-43AC-BA09-3D837FE009C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050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1f497d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c050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1f497d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BF20-02B9-4EEA-85D7-79B34B80D1F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533160"/>
            <a:ext cx="723924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«Внедрение стандарта профессиональной деятельности педагога- новый шаг к качеству образования»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724280" y="4800600"/>
            <a:ext cx="39578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Заместитель заведующего по УВР МБДОУ №18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«Сказка» г.Чит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Рекомендации по внедрению профессионального стандарта в ДОУ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369800" y="1827360"/>
            <a:ext cx="73134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Организация ознакомления педагогических работников учреждения с содержанием профессионального стандарта «Педагог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организация обсуждения на педагогических, методических советах, методических объединениях, стажерских практиках ресурсных центров и др.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размещение информации на стендах в учреждении, сайте учрежде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разработка, согласование и утверждение локальных правовых актов детского сада в области формирования кадровой политики, трудовых отношений с  воспитателями, нормирования, оценки качества труда воспитателей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организация и проведение процедуры самооценки педагогами своей квалификации в соответствии с уровнями профессионального стандарта педагога в учреждени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составление дифференцированной программы профессионального развития педагогов детского сада на основе самоанализа (самооценки)  уровня соответствия компетенций педагога содержанию трудовых функций профессионального стандарта «Педагог»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Методы оценки выполнения требований профессионального стандарта педагога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827000"/>
            <a:ext cx="822960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рофессиональная деятельность воспитателя оценивается только комплексно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сокая оценка включает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четание показателей динамики развития интегративных качеств ребенк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ложительное отношение к детскому сад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сокой степени активности и вовлеченности родителей  в жизнь детского сад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Меняйтесь раньше, чем Вас заставят это делать!</a:t>
            </a: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ачество системы образования не может быть выше качества работающих в ней педагого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фстандарт способствует повышению профессиональной подготовки педагога и необходимости постоянного профессионального роста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фессиональный стандарт  повышает ответственность педагога за результаты своего труда, а соответственно повышает качество образова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31376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СПАСИБО ЗА ВНИМАНИЕ!</a:t>
            </a: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4800240"/>
            <a:ext cx="7313400" cy="11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Источник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www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профстандартпедагога.рф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</a:rPr>
              <a:t>Профессиональный стандарт педагога</a:t>
            </a: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69800" y="1827360"/>
            <a:ext cx="7313400" cy="44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фессиональный стандарт «Педагог (педагогическа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ятельность в сфере дошкольного, начального общего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ого общего, среднего общего образования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воспитатель, учитель)»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 приказом Министерства труда и соцзащиты Российской Федерации от 18 октября 2013 г. N 544н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егистрирован Министерством юстиции 06. 12. 2013 г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ится в массовое применение с 1 января 2017 г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с 2016 г.– режим апробаци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-1600200" y="-36360"/>
            <a:ext cx="12192120" cy="82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456840"/>
            <a:ext cx="7239240" cy="197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Профессиональный стандарт </a:t>
            </a: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педагога</a:t>
            </a:r>
            <a:r>
              <a:rPr b="0" lang="ru-RU" sz="2400" spc="-1" strike="noStrike">
                <a:solidFill>
                  <a:srgbClr val="215968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умент, включающий перечень профессиональных и личностных требований к учителю (воспитателю), действующий на всей территории Российской Федерации.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готовность учить всех без исключения детей, вне зависимости от их склонностей, способностей, особенностей развития, ограниченных возможностей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Объект 3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Область применения Профессионального стандарта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ХАРАКТЕРИСТИКА СТАНДАРТА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нем определяются основные требования к квалификации педагог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ожет дополнятся региональными требования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ожет быть дополнен внутренним стандартом образовательного учрежд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является уровневым, учитывающим специфику работы педагогов образовательного учрежд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тражает структуру профессиональной деятельности педагог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ыдвигает требования к личностным качествам педагог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3333cc"/>
                </a:solidFill>
                <a:latin typeface="Arial"/>
                <a:ea typeface="Calibri"/>
              </a:rPr>
              <a:t>Требования к образованию и обучению</a:t>
            </a:r>
            <a:br>
              <a:rPr sz="3200"/>
            </a:b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сшее профессиональное образование или среднее профессиональное образование по направлениям подготовки "Образование и педагогика" или в области, соответствующей преподаваемому предмету (с последующей профессиональной переподготовкой по профилю педагогической деятельности), либо высшее профессиональное образование или среднее профессиональное образование и дополнительное профессиональное образование по направлению деятельности в образовательной организац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Требования к опыту практической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не предъявляются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Объект 3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91520" cy="45352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06560" y="30456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Особые условия допуска к работе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ПРОФЕССИОНАЛЬНЫЕ КОМПЕТЕНЦИИ ВОСПИТАТЕЛЯ, ОТРАЖАЮЩИЕ СПЕЦИФИКУ РАБОТЫ НА ДОШКОЛЬНОМ УРОВНЕ ОБРАЗОВАНИЯ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imes New Roman"/>
              </a:rPr>
              <a:t>Педагог </a:t>
            </a:r>
            <a:r>
              <a:rPr b="1" lang="ru-RU" sz="2500" spc="-1" strike="noStrike" u="sng">
                <a:solidFill>
                  <a:srgbClr val="c00000"/>
                </a:solidFill>
                <a:uFillTx/>
                <a:latin typeface="Times New Roman"/>
              </a:rPr>
              <a:t>должен </a:t>
            </a:r>
            <a:r>
              <a:rPr b="0" lang="ru-RU" sz="2500" spc="-1" strike="noStrike">
                <a:solidFill>
                  <a:srgbClr val="c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нать специфику дошкольного образова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нать общие закономерности развития дет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меть организовывать ведущие виды деятель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ладеть теорией и методиками развития детей дошкольного возрас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меть планировать, реализовывать и анализировать образовательную работу с деть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меть планировать и корректировать образовательные задачи по результатам мониторинг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ладеть методами и средствами психолого-педагогического просвещения родител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ладеть ИКТ-компетенция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1</cp:lastModifiedBy>
  <dcterms:modified xsi:type="dcterms:W3CDTF">2016-11-13T07:10:05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