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F96-0F74-4C14-A8D6-EB4EAB47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855-70A8-469E-A86D-F5C0C636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00E-0358-4AEB-9E21-5CD4BC9C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747-1906-43B3-84B7-83312401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7C13-65C1-4E0B-B3C5-2A53EBFE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78E9-3941-417B-A948-9EFA21E6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56C6-3715-41D7-957A-91CA71CB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76B2-35DE-440E-B8BF-778C8617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0DAC-8FCA-40ED-A45F-34BE91AF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19E6-BC6F-4437-858E-295B3B14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790-FBE0-4F54-B0CB-EEE2F71B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9AB-8C72-4D84-8350-0F4F81E7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22FD-B738-4061-BF0D-86397374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744D-82B6-4A81-A240-297C5771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17F0-CCFD-4097-AF23-6032BA89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F6B3-7A11-46F0-9775-D824D1E7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00E2-A262-4A4C-9A49-86380A4E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9D81-A314-4FD8-9B79-0D1EB3D7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EAD4-31A4-413D-BFC5-C089FD3A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5B73-0D83-41CC-BAC2-B2354780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4CFD-A815-405B-8F49-66371C63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4052-5E0F-4A21-A74F-08A4272E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6ED-CC26-4E9F-ACD0-DB719AED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67D3-4FBD-49AA-8273-A1E4878C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5EF4-AC9F-4754-B778-288AE43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5E9E-914F-4247-90E1-069AB15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E89CE-C8AA-463B-BA4C-55F240F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6F63-3250-4146-8333-6B690DFC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04B3-5250-4875-AE8D-DCD663F0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432C-B93D-45F7-89D5-36C6071C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1B1A-BDBF-4261-BC1F-2A665B20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84808-3657-43F4-9D50-B4F52493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E612-EAF4-4564-B8DE-ABA8D027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6F7-2481-492A-83CA-33165CF5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F142-46FF-4DC8-90E2-D74D4562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41AA-77D1-4632-8365-AF690B93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94A1-E235-4B52-A865-29D49B30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D5FE-7A97-4203-A5AF-06508866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2B2A-659E-4F10-975A-37FF483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29BBD-8B49-41AA-95B1-742E9170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B3BE6-9539-4122-A0F0-D08BCB01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5BD9-DE2D-4F81-8446-DB45D58A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D481-A10F-40D5-A386-AE8B7859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24D-2E9F-4823-9E22-DBBE7ABD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3BF-30C8-4958-BFB6-81D9135D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805-414B-4DE8-A254-94D308E5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9DA-5D4F-4965-84B3-521A4068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20D-69E2-4261-AC8E-695B4820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227259-61E4-4EC4-B84C-AC336134CF4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FABA7E-EA9C-4D82-B976-D4FE0D7FFCA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A6251D-D104-4ECF-971D-0801C964753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3B502C-6813-4F83-B382-5B59967199B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1331640" y="354240"/>
            <a:ext cx="6264360" cy="1418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rcRect l="0" t="27196" r="36617" b="0"/>
          <a:stretch/>
        </p:blipFill>
        <p:spPr>
          <a:xfrm>
            <a:off x="-33840" y="0"/>
            <a:ext cx="9182880" cy="68576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4"/>
          <p:cNvSpPr/>
          <p:nvPr/>
        </p:nvSpPr>
        <p:spPr>
          <a:xfrm>
            <a:off x="391320" y="2277000"/>
            <a:ext cx="5188320" cy="2694960"/>
          </a:xfrm>
          <a:prstGeom prst="rect">
            <a:avLst/>
          </a:prstGeom>
          <a:solidFill>
            <a:srgbClr val="ffffff"/>
          </a:solidFill>
          <a:ln w="38100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Unreal"/>
              </a:rPr>
              <a:t>МЕТОДИКА ЗАУЧИВАНИЯ СТИХОТВО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8676360" y="6548400"/>
            <a:ext cx="432360" cy="309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www.proza.ru/pics/2011/02/24/4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62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74520" y="744480"/>
            <a:ext cx="8994240" cy="521424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12960" y="3960"/>
            <a:ext cx="9130680" cy="1480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0" y="0"/>
            <a:ext cx="9143640" cy="90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4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User\Documents\группа№1\P105012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proza.ru/pics/2011/02/24/4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62680"/>
          </a:xfrm>
          <a:prstGeom prst="rect">
            <a:avLst/>
          </a:prstGeom>
          <a:ln w="0">
            <a:noFill/>
          </a:ln>
        </p:spPr>
      </p:pic>
      <p:sp>
        <p:nvSpPr>
          <p:cNvPr id="169" name="Скругленный прямоугольник 1"/>
          <p:cNvSpPr/>
          <p:nvPr/>
        </p:nvSpPr>
        <p:spPr>
          <a:xfrm>
            <a:off x="503640" y="1016280"/>
            <a:ext cx="8136720" cy="483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softEdge rad="635040"/>
          </a:effectLst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« Читайте детям стихи, пусть ухо их приучится к гармонии русского слова, сердце преисполнится чувством изящного , пусть поэзия действу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на них так же, как и музы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В.Г.Бел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proza.ru/pics/2011/02/24/4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626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4"/>
          <p:cNvSpPr/>
          <p:nvPr/>
        </p:nvSpPr>
        <p:spPr>
          <a:xfrm>
            <a:off x="1259640" y="124560"/>
            <a:ext cx="6624360" cy="9140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softEdge rad="127080"/>
          </a:effectLst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оминание стихо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Таблица 2"/>
          <p:cNvGraphicFramePr/>
          <p:nvPr/>
        </p:nvGraphicFramePr>
        <p:xfrm>
          <a:off x="1019880" y="1268640"/>
          <a:ext cx="6864120" cy="5331240"/>
        </p:xfrm>
        <a:graphic>
          <a:graphicData uri="http://schemas.openxmlformats.org/drawingml/2006/table">
            <a:tbl>
              <a:tblPr/>
              <a:tblGrid>
                <a:gridCol w="3431880"/>
                <a:gridCol w="3431880"/>
              </a:tblGrid>
              <a:tr h="949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адши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ий 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3815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го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ществи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крет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ность с динамикой дей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3f9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а четверостишья с эпитетами и метафор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ес к содержанию стихотво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ка на запоми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ив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e2b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Таблица 8"/>
          <p:cNvGraphicFramePr/>
          <p:nvPr/>
        </p:nvGraphicFramePr>
        <p:xfrm>
          <a:off x="1011240" y="1274760"/>
          <a:ext cx="6857640" cy="533376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533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www.proza.ru/pics/2011/02/24/4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626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154440" y="11160"/>
            <a:ext cx="8989200" cy="7254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учивание  стихов  на  разных  возрастных  эта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Таблица 3"/>
          <p:cNvGraphicFramePr/>
          <p:nvPr/>
        </p:nvGraphicFramePr>
        <p:xfrm>
          <a:off x="154440" y="764640"/>
          <a:ext cx="8881920" cy="5976360"/>
        </p:xfrm>
        <a:graphic>
          <a:graphicData uri="http://schemas.openxmlformats.org/drawingml/2006/table">
            <a:tbl>
              <a:tblPr/>
              <a:tblGrid>
                <a:gridCol w="2960640"/>
                <a:gridCol w="2960640"/>
                <a:gridCol w="2960640"/>
              </a:tblGrid>
              <a:tr h="74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адшая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a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тельная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3584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 коротких стихов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игровых моментов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ять текс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 раз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ть разные приёмы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dd3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 игрового  приёма, наглядного материал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щать внимание на художественные образы, элементы сравнения, метафоры, эпите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ести до понимания смысл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поэтического настроени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ть умения осмысленно, отчётливо, ясно и выразительно читать стихотворение наизусть, проявлять инициативу и самосто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учиваются достаточно сложные стихи, бас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поэтического настро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ётся глубокий анализ стих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www.proza.ru/pics/2011/02/24/4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626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575640" y="116640"/>
            <a:ext cx="7992360" cy="12632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softEdge rad="635040"/>
          </a:effectLst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чи при заучивании стихо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41920" y="2002680"/>
            <a:ext cx="8624880" cy="432468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pic>
        <p:nvPicPr>
          <p:cNvPr id="180" name="Picture 6" descr=""/>
          <p:cNvPicPr/>
          <p:nvPr/>
        </p:nvPicPr>
        <p:blipFill>
          <a:blip r:embed="rId3"/>
          <a:stretch/>
        </p:blipFill>
        <p:spPr>
          <a:xfrm flipH="1" rot="10800000">
            <a:off x="2264760" y="2046600"/>
            <a:ext cx="4233240" cy="413172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2332440" y="2316960"/>
            <a:ext cx="4165920" cy="1543680"/>
          </a:xfrm>
          <a:prstGeom prst="rect">
            <a:avLst/>
          </a:prstGeom>
          <a:solidFill>
            <a:srgbClr val="ffffcc"/>
          </a:solidFill>
          <a:ln>
            <a:noFill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Добиваться хорошег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минания сти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2396880" y="4509000"/>
            <a:ext cx="4101120" cy="1668960"/>
          </a:xfrm>
          <a:prstGeom prst="rect">
            <a:avLst/>
          </a:prstGeom>
          <a:solidFill>
            <a:srgbClr val="ffffcc"/>
          </a:solidFill>
          <a:ln>
            <a:noFill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 Учить детей читать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ихотворени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аз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www.proza.ru/pics/2011/02/24/401.jpg"/>
          <p:cNvPicPr/>
          <p:nvPr/>
        </p:nvPicPr>
        <p:blipFill>
          <a:blip r:embed="rId1"/>
          <a:stretch/>
        </p:blipFill>
        <p:spPr>
          <a:xfrm>
            <a:off x="0" y="-5040"/>
            <a:ext cx="9143640" cy="68626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683640" y="404640"/>
            <a:ext cx="7416360" cy="143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3"/>
          <p:cNvSpPr/>
          <p:nvPr/>
        </p:nvSpPr>
        <p:spPr>
          <a:xfrm rot="21409800">
            <a:off x="-200880" y="389160"/>
            <a:ext cx="9545400" cy="5973840"/>
          </a:xfrm>
          <a:prstGeom prst="rect">
            <a:avLst/>
          </a:prstGeom>
          <a:solidFill>
            <a:srgbClr val="ffffcc">
              <a:alpha val="65000"/>
            </a:srgbClr>
          </a:solidFill>
          <a:ln>
            <a:noFill/>
          </a:ln>
          <a:scene3d>
            <a:camera prst="isometricOffAxis2Left"/>
            <a:lightRig dir="t" rig="threePt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873d89"/>
                </a:solidFill>
                <a:latin typeface="Arial Black"/>
              </a:rPr>
              <a:t>Методические треб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873d89"/>
                </a:solidFill>
                <a:latin typeface="Arial Black"/>
              </a:rPr>
              <a:t>к заучиванию стих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рекомендуется заучивать стихи х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ихотворение заучивается цел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нять форму повт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ывать индивидуальные особенности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вать «атмосферу поэз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учивать и читать стихи системат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потребность слушать и запомин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www.proza.ru/pics/2011/02/24/4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6268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"/>
          <p:cNvSpPr/>
          <p:nvPr/>
        </p:nvSpPr>
        <p:spPr>
          <a:xfrm>
            <a:off x="1331640" y="908640"/>
            <a:ext cx="280800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83640" y="476640"/>
            <a:ext cx="8064360" cy="158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f2e2b"/>
                </a:solidFill>
                <a:latin typeface="Calibri"/>
              </a:rPr>
              <a:t>Построения занятия по заучиванию стихотвор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827640" y="1823040"/>
            <a:ext cx="6984360" cy="4701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827640" y="1823040"/>
            <a:ext cx="7776360" cy="4485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ть эмоциональный на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одится небольшая 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зительное чтение без установки на запоми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(беседа о стихотворен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торное чтение с установкой на запоми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роизведение стихотворения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зительное чтение детьми или воспит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ttp://www.proza.ru/pics/2011/02/24/4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62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78472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ёмы при заучивани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-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гровы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-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сказывание детьми рифмующегося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слов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- чтение по ролям стихов написанных в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диалогической форм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- драматизация с игрушкам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- воспроизведение стихов методом игр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- использование схем и мнемотаблиц</a:t>
            </a:r>
            <a:br>
              <a:rPr sz="40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://www.proza.ru/pics/2011/02/24/4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62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ndou222.narod.ru/jpg/repka.jpg"/>
          <p:cNvPicPr/>
          <p:nvPr/>
        </p:nvPicPr>
        <p:blipFill>
          <a:blip r:embed="rId2"/>
          <a:stretch/>
        </p:blipFill>
        <p:spPr>
          <a:xfrm>
            <a:off x="485640" y="0"/>
            <a:ext cx="8172000" cy="69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  <Words>257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3:18:32Z</dcterms:created>
  <dc:creator>user1</dc:creator>
  <dc:description/>
  <dc:language>en-US</dc:language>
  <cp:lastModifiedBy>1800</cp:lastModifiedBy>
  <dcterms:modified xsi:type="dcterms:W3CDTF">2014-12-24T08:27:49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