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248-BAE0-4CCE-A155-34E9BB94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921-A9BD-44AD-A6B1-6CEFA502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27CD-17D3-43B7-ABC0-9448899E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481-6E03-4DCA-ACEC-7CC731DD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8AB-DA11-4254-B861-227BFDE3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0A3F-64A6-40C9-A6F2-B3794232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92A-C4CA-45D3-96A4-9DC7C056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C909-E515-4163-996C-CDA03975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EE8A-1B26-42CE-BA2B-7DBD26C8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D99-3C1C-4332-B729-872C79FF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4F4D-59EE-4CE6-B060-3752A23D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EC11-973D-4D88-BFDC-E3521F9B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A7C4-D218-4468-8EF6-E6557C5797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928880" y="652320"/>
            <a:ext cx="55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Franklin Gothic Medium"/>
                <a:ea typeface="GungsuhChe"/>
              </a:rPr>
              <a:t>ПРОЕК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940040" y="2492280"/>
            <a:ext cx="55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Calibri"/>
              </a:rPr>
              <a:t>«ФЛАГ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95280" y="4437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частники: воспитатель Епифанова Екатерина Серге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дети подготовительной групп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ижегородская область, г. Саров,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547640" y="692280"/>
            <a:ext cx="624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Н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08000" y="1628640"/>
            <a:ext cx="89280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«История возникновения Российского Флага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Изготовление макета из деревянного конструктора «Центральная площадь города Саров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«Я горжусь своей страной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Изготовление коллективной работы «Флаг России – символ государственност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«Рифмование слов – составление стихов о Флаге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79280" y="692280"/>
            <a:ext cx="88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Изготовление макета из деревянного конструктора «Центральная площадь города Саро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250920" y="2414520"/>
            <a:ext cx="2376360" cy="19908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2" descr=""/>
          <p:cNvPicPr/>
          <p:nvPr/>
        </p:nvPicPr>
        <p:blipFill>
          <a:blip r:embed="rId2"/>
          <a:stretch/>
        </p:blipFill>
        <p:spPr>
          <a:xfrm>
            <a:off x="6588000" y="2276640"/>
            <a:ext cx="2376720" cy="19875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"/>
          <p:cNvPicPr/>
          <p:nvPr/>
        </p:nvPicPr>
        <p:blipFill>
          <a:blip r:embed="rId3"/>
          <a:stretch/>
        </p:blipFill>
        <p:spPr>
          <a:xfrm>
            <a:off x="2919240" y="3457440"/>
            <a:ext cx="33912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179280" y="692280"/>
            <a:ext cx="877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Рифмование слов – составление стихов о Флаг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3813120" y="3022560"/>
            <a:ext cx="1511280" cy="2313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"/>
          <p:cNvPicPr/>
          <p:nvPr/>
        </p:nvPicPr>
        <p:blipFill>
          <a:blip r:embed="rId2"/>
          <a:stretch/>
        </p:blipFill>
        <p:spPr>
          <a:xfrm>
            <a:off x="108000" y="1900080"/>
            <a:ext cx="3524040" cy="26449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" descr=""/>
          <p:cNvPicPr/>
          <p:nvPr/>
        </p:nvPicPr>
        <p:blipFill>
          <a:blip r:embed="rId3"/>
          <a:stretch/>
        </p:blipFill>
        <p:spPr>
          <a:xfrm>
            <a:off x="5465880" y="1908000"/>
            <a:ext cx="352404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971640" y="692280"/>
            <a:ext cx="739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икторина «Символика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"/>
          <p:cNvPicPr/>
          <p:nvPr/>
        </p:nvPicPr>
        <p:blipFill>
          <a:blip r:embed="rId1"/>
          <a:stretch/>
        </p:blipFill>
        <p:spPr>
          <a:xfrm>
            <a:off x="179280" y="140004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" descr=""/>
          <p:cNvPicPr/>
          <p:nvPr/>
        </p:nvPicPr>
        <p:blipFill>
          <a:blip r:embed="rId2"/>
          <a:stretch/>
        </p:blipFill>
        <p:spPr>
          <a:xfrm>
            <a:off x="6227640" y="1360440"/>
            <a:ext cx="2737080" cy="20685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" descr=""/>
          <p:cNvPicPr/>
          <p:nvPr/>
        </p:nvPicPr>
        <p:blipFill>
          <a:blip r:embed="rId3"/>
          <a:stretch/>
        </p:blipFill>
        <p:spPr>
          <a:xfrm>
            <a:off x="3564000" y="1400040"/>
            <a:ext cx="1846080" cy="24606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" descr=""/>
          <p:cNvPicPr/>
          <p:nvPr/>
        </p:nvPicPr>
        <p:blipFill>
          <a:blip r:embed="rId4"/>
          <a:stretch/>
        </p:blipFill>
        <p:spPr>
          <a:xfrm>
            <a:off x="3008160" y="4149720"/>
            <a:ext cx="295776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971640" y="692280"/>
            <a:ext cx="739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Составление коллаж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1"/>
          <a:stretch/>
        </p:blipFill>
        <p:spPr>
          <a:xfrm>
            <a:off x="6875640" y="4471920"/>
            <a:ext cx="2011320" cy="1749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" descr=""/>
          <p:cNvPicPr/>
          <p:nvPr/>
        </p:nvPicPr>
        <p:blipFill>
          <a:blip r:embed="rId2"/>
          <a:stretch/>
        </p:blipFill>
        <p:spPr>
          <a:xfrm>
            <a:off x="1149480" y="1413000"/>
            <a:ext cx="6804000" cy="26733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2" descr=""/>
          <p:cNvPicPr/>
          <p:nvPr/>
        </p:nvPicPr>
        <p:blipFill>
          <a:blip r:embed="rId3"/>
          <a:stretch/>
        </p:blipFill>
        <p:spPr>
          <a:xfrm>
            <a:off x="3357720" y="4432320"/>
            <a:ext cx="262728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3" descr=""/>
          <p:cNvPicPr/>
          <p:nvPr/>
        </p:nvPicPr>
        <p:blipFill>
          <a:blip r:embed="rId4"/>
          <a:stretch/>
        </p:blipFill>
        <p:spPr>
          <a:xfrm>
            <a:off x="395280" y="4471920"/>
            <a:ext cx="20098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108000" y="692280"/>
            <a:ext cx="89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Экскурсия в центральную городскую библиотеку им. В.Маяковс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1" descr=""/>
          <p:cNvPicPr/>
          <p:nvPr/>
        </p:nvPicPr>
        <p:blipFill>
          <a:blip r:embed="rId1"/>
          <a:stretch/>
        </p:blipFill>
        <p:spPr>
          <a:xfrm>
            <a:off x="5195880" y="4437000"/>
            <a:ext cx="1670040" cy="18385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2" descr=""/>
          <p:cNvPicPr/>
          <p:nvPr/>
        </p:nvPicPr>
        <p:blipFill>
          <a:blip r:embed="rId2"/>
          <a:stretch/>
        </p:blipFill>
        <p:spPr>
          <a:xfrm>
            <a:off x="1744560" y="4491000"/>
            <a:ext cx="3186360" cy="1800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"/>
          <p:cNvPicPr/>
          <p:nvPr/>
        </p:nvPicPr>
        <p:blipFill>
          <a:blip r:embed="rId3"/>
          <a:stretch/>
        </p:blipFill>
        <p:spPr>
          <a:xfrm>
            <a:off x="122400" y="1844640"/>
            <a:ext cx="3244680" cy="24336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"/>
          <p:cNvPicPr/>
          <p:nvPr/>
        </p:nvPicPr>
        <p:blipFill>
          <a:blip r:embed="rId4"/>
          <a:stretch/>
        </p:blipFill>
        <p:spPr>
          <a:xfrm>
            <a:off x="3672000" y="1908000"/>
            <a:ext cx="1800000" cy="24004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"/>
          <p:cNvPicPr/>
          <p:nvPr/>
        </p:nvPicPr>
        <p:blipFill>
          <a:blip r:embed="rId5"/>
          <a:stretch/>
        </p:blipFill>
        <p:spPr>
          <a:xfrm>
            <a:off x="5791320" y="1700280"/>
            <a:ext cx="324468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971640" y="692280"/>
            <a:ext cx="739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росмотр видеофильмов о фла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250920" y="2270160"/>
            <a:ext cx="3421080" cy="25653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" descr=""/>
          <p:cNvPicPr/>
          <p:nvPr/>
        </p:nvPicPr>
        <p:blipFill>
          <a:blip r:embed="rId2"/>
          <a:stretch/>
        </p:blipFill>
        <p:spPr>
          <a:xfrm>
            <a:off x="6875640" y="1628640"/>
            <a:ext cx="2172960" cy="16290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"/>
          <p:cNvPicPr/>
          <p:nvPr/>
        </p:nvPicPr>
        <p:blipFill>
          <a:blip r:embed="rId3"/>
          <a:stretch/>
        </p:blipFill>
        <p:spPr>
          <a:xfrm>
            <a:off x="4211640" y="2637000"/>
            <a:ext cx="2181240" cy="16365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"/>
          <p:cNvPicPr/>
          <p:nvPr/>
        </p:nvPicPr>
        <p:blipFill>
          <a:blip r:embed="rId4"/>
          <a:stretch/>
        </p:blipFill>
        <p:spPr>
          <a:xfrm>
            <a:off x="6875640" y="3564000"/>
            <a:ext cx="21808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"/>
          <p:cNvSpPr/>
          <p:nvPr/>
        </p:nvSpPr>
        <p:spPr>
          <a:xfrm>
            <a:off x="971640" y="692280"/>
            <a:ext cx="739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Оформление альбома         «История Флага Российског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2" descr=""/>
          <p:cNvPicPr/>
          <p:nvPr/>
        </p:nvPicPr>
        <p:blipFill>
          <a:blip r:embed="rId1"/>
          <a:stretch/>
        </p:blipFill>
        <p:spPr>
          <a:xfrm>
            <a:off x="181080" y="1844640"/>
            <a:ext cx="3265560" cy="24480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3" descr=""/>
          <p:cNvPicPr/>
          <p:nvPr/>
        </p:nvPicPr>
        <p:blipFill>
          <a:blip r:embed="rId2"/>
          <a:stretch/>
        </p:blipFill>
        <p:spPr>
          <a:xfrm>
            <a:off x="5713560" y="1868400"/>
            <a:ext cx="3276360" cy="24465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"/>
          <p:cNvPicPr/>
          <p:nvPr/>
        </p:nvPicPr>
        <p:blipFill>
          <a:blip r:embed="rId3"/>
          <a:stretch/>
        </p:blipFill>
        <p:spPr>
          <a:xfrm>
            <a:off x="3327480" y="4668840"/>
            <a:ext cx="2495520" cy="18716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"/>
          <p:cNvPicPr/>
          <p:nvPr/>
        </p:nvPicPr>
        <p:blipFill>
          <a:blip r:embed="rId4"/>
          <a:stretch/>
        </p:blipFill>
        <p:spPr>
          <a:xfrm>
            <a:off x="3535200" y="1827360"/>
            <a:ext cx="20797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971640" y="692280"/>
            <a:ext cx="739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Оформление альбома         «Флаг моей семь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1" descr=""/>
          <p:cNvPicPr/>
          <p:nvPr/>
        </p:nvPicPr>
        <p:blipFill>
          <a:blip r:embed="rId1"/>
          <a:stretch/>
        </p:blipFill>
        <p:spPr>
          <a:xfrm>
            <a:off x="3444840" y="474336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" descr=""/>
          <p:cNvPicPr/>
          <p:nvPr/>
        </p:nvPicPr>
        <p:blipFill>
          <a:blip r:embed="rId2"/>
          <a:stretch/>
        </p:blipFill>
        <p:spPr>
          <a:xfrm>
            <a:off x="299880" y="1936800"/>
            <a:ext cx="2921040" cy="27795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" descr=""/>
          <p:cNvPicPr/>
          <p:nvPr/>
        </p:nvPicPr>
        <p:blipFill>
          <a:blip r:embed="rId3"/>
          <a:stretch/>
        </p:blipFill>
        <p:spPr>
          <a:xfrm>
            <a:off x="5940360" y="1886040"/>
            <a:ext cx="292104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324000" y="620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оздание патриотического угол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«Люби и знай свою Россию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" descr=""/>
          <p:cNvPicPr/>
          <p:nvPr/>
        </p:nvPicPr>
        <p:blipFill>
          <a:blip r:embed="rId1"/>
          <a:stretch/>
        </p:blipFill>
        <p:spPr>
          <a:xfrm>
            <a:off x="2384280" y="4292640"/>
            <a:ext cx="4303800" cy="21272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2" descr=""/>
          <p:cNvPicPr/>
          <p:nvPr/>
        </p:nvPicPr>
        <p:blipFill>
          <a:blip r:embed="rId2"/>
          <a:stretch/>
        </p:blipFill>
        <p:spPr>
          <a:xfrm>
            <a:off x="108000" y="1820880"/>
            <a:ext cx="2255760" cy="22557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3" descr=""/>
          <p:cNvPicPr/>
          <p:nvPr/>
        </p:nvPicPr>
        <p:blipFill>
          <a:blip r:embed="rId3"/>
          <a:stretch/>
        </p:blipFill>
        <p:spPr>
          <a:xfrm>
            <a:off x="3348000" y="1827360"/>
            <a:ext cx="2255760" cy="22557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"/>
          <p:cNvPicPr/>
          <p:nvPr/>
        </p:nvPicPr>
        <p:blipFill>
          <a:blip r:embed="rId4"/>
          <a:stretch/>
        </p:blipFill>
        <p:spPr>
          <a:xfrm>
            <a:off x="6515280" y="1827360"/>
            <a:ext cx="225576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369720" y="476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Актуально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11240" y="1492200"/>
            <a:ext cx="8929440" cy="43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питание чувства патриотизма и любви к своей Родине в современном мире и в современном воспитании детей является одной из наиболее актуальных и важных проблем современного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ворить о значении патриотического воспитания с учащимися нужно с ранних лет, начиная с детского сада . Необходимо проводить как можно больше занятий и мероприятий с детьми посвященные этой теме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дача педагога – это способность заинтересовать детей, привлечь внимание к этой теме, вызвать эмоциональный отклик. Прежде всего с  целью воспитания гражданской самоидентификации, чувство сопричастности своих национальных корней, чувство патриотизма и любви к Родине.  Именно умение  сформировать в детях уважения к ценностям культуры своей страны, и есть путь к воспитанию патриотизма, так как человек всегда ценит то, что ему близко и знакомо  с дет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.Ф. Бунаков отмечал, «что в детях уже есть зародыш любви к Родине, а педагоги должны способствовать его правильному развитию, необходимо опираться  на инстинктивный характер патриотизма в воспитании дете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971640" y="692280"/>
            <a:ext cx="739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Игровая деятель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08000" y="1442880"/>
            <a:ext cx="4751280" cy="52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идактические игр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Собери флаг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Что было бы, если бы…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Кто в какой стране живё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Узнай наш фла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Расскажи истор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утешествие по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Скажи, где находитс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сматривание карты мира, глоб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2" descr=""/>
          <p:cNvPicPr/>
          <p:nvPr/>
        </p:nvPicPr>
        <p:blipFill>
          <a:blip r:embed="rId9"/>
          <a:stretch/>
        </p:blipFill>
        <p:spPr>
          <a:xfrm>
            <a:off x="5311800" y="4724280"/>
            <a:ext cx="2239920" cy="16732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3" descr=""/>
          <p:cNvPicPr/>
          <p:nvPr/>
        </p:nvPicPr>
        <p:blipFill>
          <a:blip r:embed="rId10"/>
          <a:stretch/>
        </p:blipFill>
        <p:spPr>
          <a:xfrm>
            <a:off x="5364000" y="1442880"/>
            <a:ext cx="2187720" cy="16416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" descr=""/>
          <p:cNvPicPr/>
          <p:nvPr/>
        </p:nvPicPr>
        <p:blipFill>
          <a:blip r:embed="rId11"/>
          <a:stretch/>
        </p:blipFill>
        <p:spPr>
          <a:xfrm>
            <a:off x="7380360" y="3213000"/>
            <a:ext cx="14209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971640" y="573120"/>
            <a:ext cx="73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Игров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103320" y="1160640"/>
            <a:ext cx="8856360" cy="37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южетно-ролевые иг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утешествие по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звивать у детей чувство патриотизма и любви к своей Родин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общить и систематизировать знания детей о России, формировать уважительное отношение к государственным символа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крепить названия крупных российских городов и рек, названия народных промыслов;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атериалы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зображения гербов и флагов,  наглядно-дидактические пособия.</a:t>
            </a:r>
            <a:br>
              <a:rPr sz="16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варительная работа: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еседы о российской символике; чтение стихотворений, пословиц и поговорок о Родине; рассматривание фотографий городов и рек; беседы, рассматривание иллюстраций и выполнение работ по мотивам народного декоративно – прикладного искус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1" descr=""/>
          <p:cNvPicPr/>
          <p:nvPr/>
        </p:nvPicPr>
        <p:blipFill>
          <a:blip r:embed="rId2"/>
          <a:stretch/>
        </p:blipFill>
        <p:spPr>
          <a:xfrm>
            <a:off x="1835280" y="4941720"/>
            <a:ext cx="1908000" cy="14306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2" descr=""/>
          <p:cNvPicPr/>
          <p:nvPr/>
        </p:nvPicPr>
        <p:blipFill>
          <a:blip r:embed="rId3"/>
          <a:stretch/>
        </p:blipFill>
        <p:spPr>
          <a:xfrm>
            <a:off x="5219640" y="4941720"/>
            <a:ext cx="1908360" cy="14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971640" y="573120"/>
            <a:ext cx="73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Игров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106200" y="1125360"/>
            <a:ext cx="885672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южетно-ролевые иг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Мы турис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знакомить детей с флагами и культурой других стран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вить познавательный интерес к столицам разных стран и их достопримечательностя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овести в игровой форме экскурсию и совершить увлекательное путешестви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спитать активных и любознательных турист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Материалы: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ображения флагов разных стран,  наглядно-дидактические пособия.</a:t>
            </a: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Предварительная работа: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Беседы о флагах разных стран; чтение стихотворений, пословиц и поговорок о культуре других стран; рассматривание фотографий столиц стран; беседы, рассматривание иллюстрац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1" descr=""/>
          <p:cNvPicPr/>
          <p:nvPr/>
        </p:nvPicPr>
        <p:blipFill>
          <a:blip r:embed="rId2"/>
          <a:stretch/>
        </p:blipFill>
        <p:spPr>
          <a:xfrm>
            <a:off x="127080" y="4295880"/>
            <a:ext cx="3081240" cy="21574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2" descr=""/>
          <p:cNvPicPr/>
          <p:nvPr/>
        </p:nvPicPr>
        <p:blipFill>
          <a:blip r:embed="rId3"/>
          <a:stretch/>
        </p:blipFill>
        <p:spPr>
          <a:xfrm>
            <a:off x="5924520" y="4290840"/>
            <a:ext cx="3081240" cy="21337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3" descr=""/>
          <p:cNvPicPr/>
          <p:nvPr/>
        </p:nvPicPr>
        <p:blipFill>
          <a:blip r:embed="rId4"/>
          <a:stretch/>
        </p:blipFill>
        <p:spPr>
          <a:xfrm>
            <a:off x="3471840" y="4508640"/>
            <a:ext cx="212580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971640" y="573120"/>
            <a:ext cx="73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Игров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106200" y="1125360"/>
            <a:ext cx="8856720" cy="35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южетно-ролевые иг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очта: Отправь посылку другу в другую стран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знакомить детей с флагами и культурой других стран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знакомить детей с флагами и культурой других стран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общить и систематизировать знания детей о разных странах, о их флагах и марках,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атериалы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зображения гербов и флагов,  наглядно-дидактические пособия.</a:t>
            </a:r>
            <a:br>
              <a:rPr sz="16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варительная работа: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еседы о российской символике; чтение стихотворений, пословиц и поговорок о Родине; рассматривание фотографий городов и рек; беседы, рассматривание иллюстраций и выполнение работ по мотивам народного декоративно – прикладного искус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1" descr=""/>
          <p:cNvPicPr/>
          <p:nvPr/>
        </p:nvPicPr>
        <p:blipFill>
          <a:blip r:embed="rId2"/>
          <a:stretch/>
        </p:blipFill>
        <p:spPr>
          <a:xfrm>
            <a:off x="1619280" y="4678200"/>
            <a:ext cx="2376360" cy="17830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2" descr=""/>
          <p:cNvPicPr/>
          <p:nvPr/>
        </p:nvPicPr>
        <p:blipFill>
          <a:blip r:embed="rId3"/>
          <a:stretch/>
        </p:blipFill>
        <p:spPr>
          <a:xfrm>
            <a:off x="5364000" y="4678200"/>
            <a:ext cx="237672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971640" y="573120"/>
            <a:ext cx="73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Итоговое заня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106200" y="1125360"/>
            <a:ext cx="8856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«Путешествие по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точнить и углубить знания и представления дошкольников о России как государстве, в котором они жив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крепить изображение флага и герба родного города, страны, значение символов в нем, символикой ц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Воспитывать чувство гордости за Родину, чувство сопричастности к ее судь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ддерживать познавательный интерес к истории своей страны, развивать внимание, память, воображение, логическое мыш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1" descr=""/>
          <p:cNvPicPr/>
          <p:nvPr/>
        </p:nvPicPr>
        <p:blipFill>
          <a:blip r:embed="rId1"/>
          <a:stretch/>
        </p:blipFill>
        <p:spPr>
          <a:xfrm>
            <a:off x="250920" y="4010040"/>
            <a:ext cx="2911320" cy="21826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"/>
          <p:cNvPicPr/>
          <p:nvPr/>
        </p:nvPicPr>
        <p:blipFill>
          <a:blip r:embed="rId2"/>
          <a:stretch/>
        </p:blipFill>
        <p:spPr>
          <a:xfrm>
            <a:off x="3706920" y="3997440"/>
            <a:ext cx="1655640" cy="22082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3" descr=""/>
          <p:cNvPicPr/>
          <p:nvPr/>
        </p:nvPicPr>
        <p:blipFill>
          <a:blip r:embed="rId3"/>
          <a:stretch/>
        </p:blipFill>
        <p:spPr>
          <a:xfrm>
            <a:off x="5940360" y="3906720"/>
            <a:ext cx="29955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971640" y="692280"/>
            <a:ext cx="739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Формы и методы взаимодействия с родител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108000" y="2065320"/>
            <a:ext cx="892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седы с родите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ки для родителей и информационные букл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матические выста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дительское собрание с выступлениями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формление папка-передвижки «История Государственного Флаг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мощь в создании альбомов «Флаг моей семьи» и «История Государственного Флаг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полнение предметно-пространственной развивающ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местные праздники и развлеч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суговая форма работы (викторина с родителями, праздник семейных флаг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971640" y="692280"/>
            <a:ext cx="739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Достигнутые результ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8000" y="1628640"/>
            <a:ext cx="892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формировалось понятие флаг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формировалось представление о государственном флаге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у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детей повысилось чувство гордости за свою стра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ширился объем знаний детей о государственном флаге Ро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тоговым результатом является диагностика, где дети покажут свои знания. Планируется активное участие детей в выставках, конкурсах, беседах, других видах деятельности. Ребенок должен научится выражать собственное мнение, получить знания о флаге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539640" y="692280"/>
            <a:ext cx="783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Список используем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108000" y="1628640"/>
            <a:ext cx="892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tp://www.maam.ru/detskijsad/-simvolika-rosi-zanjatie-po-poznavatelnomu-razvitiyu-v-podgotovitelnoi-grup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tp://nsportal.ru/detskiy-sad/razvitie-rechi/2013/02/18/konspekt-nod-simvoly-rossii-v-podgotovitelnoy-gru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tp://vospitateljam.ru/konspekt-neposredstvenno-obrazovatelskoj-deyatelnosti-v-podgotovitelnoj-gruppe-my-zhivyom-v-rossi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http://1.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</a:rPr>
              <a:t>вседоу.рф/?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p=6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tp://ped-kopilka.ru/blogs/valentina-yurevna-poljakova/konspekt-obrazovatelnoi-dejatelnosti-o-poznavatelnoe-razvitie-dlja-podgotovitelnoi-grupy-detskogo-sad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925560" y="1052640"/>
            <a:ext cx="739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Calibri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Calibri"/>
              </a:rPr>
              <a:t>за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Calibri"/>
              </a:rPr>
              <a:t>внимание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395280" y="907920"/>
            <a:ext cx="522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libri"/>
              </a:rPr>
              <a:t>Цель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567360" y="2031840"/>
            <a:ext cx="828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накомство детей с понятием флаг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 историей возникновения фла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50920" y="830160"/>
            <a:ext cx="522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Задач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08000" y="1628640"/>
            <a:ext cx="8928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крепить и систематизировать знания о фла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овать представления о значении Государственного Флага Росс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вивать творческие способности детей, направленные на использование цвета, знаков-символов в процессе создания работ (флаг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спитывать любовь к Родине, чувство гордости за нее, уважительное отношение к Государственному Флагу Ро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общать детей к культуре русского народ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35080" y="797040"/>
            <a:ext cx="87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одготовительный эта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Разработка проек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630520" y="3573360"/>
            <a:ext cx="3816360" cy="106884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одготови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24000" y="2440080"/>
            <a:ext cx="2735280" cy="10087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одбор наглядного и дидактическ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281400" y="2085840"/>
            <a:ext cx="2736720" cy="131364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одбор методической, научно-популярной, художествен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6211800" y="2440080"/>
            <a:ext cx="2735280" cy="10087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диагностика детей «Россия и ее символы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6211800" y="4797360"/>
            <a:ext cx="2735280" cy="10087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создание предметно-пространственной развивающе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309600" y="4797360"/>
            <a:ext cx="2736720" cy="125208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разработка конспе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с использованием методов развивающего обу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3273480" y="4797360"/>
            <a:ext cx="2736720" cy="131364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разработка плана достижения цели совместно с родителями и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4"/>
          <p:cNvSpPr/>
          <p:nvPr/>
        </p:nvSpPr>
        <p:spPr>
          <a:xfrm flipV="1">
            <a:off x="4538520" y="3409920"/>
            <a:ext cx="0" cy="163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6"/>
          <p:cNvSpPr/>
          <p:nvPr/>
        </p:nvSpPr>
        <p:spPr>
          <a:xfrm flipV="1">
            <a:off x="4591080" y="4633920"/>
            <a:ext cx="0" cy="163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7"/>
          <p:cNvSpPr/>
          <p:nvPr/>
        </p:nvSpPr>
        <p:spPr>
          <a:xfrm>
            <a:off x="6446880" y="4118040"/>
            <a:ext cx="1133280" cy="6840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0"/>
          <p:cNvSpPr/>
          <p:nvPr/>
        </p:nvSpPr>
        <p:spPr>
          <a:xfrm flipV="1">
            <a:off x="6446880" y="3455640"/>
            <a:ext cx="1133280" cy="655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3"/>
          <p:cNvSpPr/>
          <p:nvPr/>
        </p:nvSpPr>
        <p:spPr>
          <a:xfrm flipH="1">
            <a:off x="1677960" y="4111560"/>
            <a:ext cx="952560" cy="6858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26"/>
          <p:cNvSpPr/>
          <p:nvPr/>
        </p:nvSpPr>
        <p:spPr>
          <a:xfrm flipH="1" flipV="1">
            <a:off x="1692360" y="3455640"/>
            <a:ext cx="938160" cy="655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324000" y="831960"/>
            <a:ext cx="87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Деятельностный этап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3933720" y="3451320"/>
            <a:ext cx="1349640" cy="70344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Н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2"/>
          <p:cNvSpPr/>
          <p:nvPr/>
        </p:nvSpPr>
        <p:spPr>
          <a:xfrm>
            <a:off x="1212840" y="2241720"/>
            <a:ext cx="2089080" cy="79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КОММУН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7"/>
          <p:cNvSpPr/>
          <p:nvPr/>
        </p:nvSpPr>
        <p:spPr>
          <a:xfrm>
            <a:off x="3564000" y="1725480"/>
            <a:ext cx="2087640" cy="79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ОЦИ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8"/>
          <p:cNvSpPr/>
          <p:nvPr/>
        </p:nvSpPr>
        <p:spPr>
          <a:xfrm>
            <a:off x="1271520" y="3451320"/>
            <a:ext cx="2087640" cy="79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9"/>
          <p:cNvSpPr/>
          <p:nvPr/>
        </p:nvSpPr>
        <p:spPr>
          <a:xfrm>
            <a:off x="1212840" y="4576680"/>
            <a:ext cx="2151000" cy="79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ХУДОЖЕСТВЕННОЕ ТВОР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10"/>
          <p:cNvSpPr/>
          <p:nvPr/>
        </p:nvSpPr>
        <p:spPr>
          <a:xfrm>
            <a:off x="5940360" y="2252520"/>
            <a:ext cx="2087640" cy="79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11"/>
          <p:cNvSpPr/>
          <p:nvPr/>
        </p:nvSpPr>
        <p:spPr>
          <a:xfrm>
            <a:off x="5856120" y="3425760"/>
            <a:ext cx="2089440" cy="79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2"/>
          <p:cNvSpPr/>
          <p:nvPr/>
        </p:nvSpPr>
        <p:spPr>
          <a:xfrm>
            <a:off x="5913360" y="4567320"/>
            <a:ext cx="2143080" cy="7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УЗЫКАЛЬН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13"/>
          <p:cNvSpPr/>
          <p:nvPr/>
        </p:nvSpPr>
        <p:spPr>
          <a:xfrm>
            <a:off x="3564000" y="5110200"/>
            <a:ext cx="2232000" cy="79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ЧТЕНИЕ ХУДОЖЕСТВЕННОЙ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6"/>
          <p:cNvSpPr/>
          <p:nvPr/>
        </p:nvSpPr>
        <p:spPr>
          <a:xfrm flipV="1">
            <a:off x="4608360" y="2517480"/>
            <a:ext cx="0" cy="93348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7"/>
          <p:cNvSpPr/>
          <p:nvPr/>
        </p:nvSpPr>
        <p:spPr>
          <a:xfrm flipV="1">
            <a:off x="4603680" y="4176360"/>
            <a:ext cx="0" cy="93348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6"/>
          <p:cNvSpPr/>
          <p:nvPr/>
        </p:nvSpPr>
        <p:spPr>
          <a:xfrm flipH="1">
            <a:off x="3382920" y="3805200"/>
            <a:ext cx="574560" cy="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22"/>
          <p:cNvSpPr/>
          <p:nvPr/>
        </p:nvSpPr>
        <p:spPr>
          <a:xfrm flipH="1">
            <a:off x="5283000" y="3811680"/>
            <a:ext cx="572760" cy="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21"/>
          <p:cNvSpPr/>
          <p:nvPr/>
        </p:nvSpPr>
        <p:spPr>
          <a:xfrm flipH="1" flipV="1">
            <a:off x="3288960" y="2986200"/>
            <a:ext cx="631800" cy="46656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26"/>
          <p:cNvSpPr/>
          <p:nvPr/>
        </p:nvSpPr>
        <p:spPr>
          <a:xfrm flipH="1" flipV="1">
            <a:off x="5283360" y="4134960"/>
            <a:ext cx="630000" cy="4669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29"/>
          <p:cNvSpPr/>
          <p:nvPr/>
        </p:nvSpPr>
        <p:spPr>
          <a:xfrm flipV="1">
            <a:off x="5245200" y="3011400"/>
            <a:ext cx="730080" cy="44136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35"/>
          <p:cNvSpPr/>
          <p:nvPr/>
        </p:nvSpPr>
        <p:spPr>
          <a:xfrm flipV="1">
            <a:off x="3240000" y="4135320"/>
            <a:ext cx="730440" cy="44136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35080" y="797040"/>
            <a:ext cx="87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Основной эта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ыполнение проек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3513240" y="3429000"/>
            <a:ext cx="2160360" cy="1224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снов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1547640" y="2414520"/>
            <a:ext cx="2592720" cy="7207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9"/>
          <p:cNvSpPr/>
          <p:nvPr/>
        </p:nvSpPr>
        <p:spPr>
          <a:xfrm>
            <a:off x="5148360" y="2416320"/>
            <a:ext cx="2592360" cy="7207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ллюстрационные 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0"/>
          <p:cNvSpPr/>
          <p:nvPr/>
        </p:nvSpPr>
        <p:spPr>
          <a:xfrm>
            <a:off x="711360" y="3624120"/>
            <a:ext cx="2592360" cy="71928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гров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1"/>
          <p:cNvSpPr/>
          <p:nvPr/>
        </p:nvSpPr>
        <p:spPr>
          <a:xfrm>
            <a:off x="5867280" y="3600360"/>
            <a:ext cx="2592360" cy="71928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ыставки, рисунки, фо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2"/>
          <p:cNvSpPr/>
          <p:nvPr/>
        </p:nvSpPr>
        <p:spPr>
          <a:xfrm>
            <a:off x="254160" y="4943520"/>
            <a:ext cx="2592360" cy="9367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икторины, просмотр видеофиль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3303720" y="4940280"/>
            <a:ext cx="2592360" cy="71928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экскурсии, составление коллаж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4"/>
          <p:cNvSpPr/>
          <p:nvPr/>
        </p:nvSpPr>
        <p:spPr>
          <a:xfrm>
            <a:off x="6354720" y="4940280"/>
            <a:ext cx="2592360" cy="9367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одборка художественной и детск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4"/>
          <p:cNvSpPr/>
          <p:nvPr/>
        </p:nvSpPr>
        <p:spPr>
          <a:xfrm flipH="1" flipV="1">
            <a:off x="3303720" y="4040280"/>
            <a:ext cx="209520" cy="144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5"/>
          <p:cNvSpPr/>
          <p:nvPr/>
        </p:nvSpPr>
        <p:spPr>
          <a:xfrm flipH="1">
            <a:off x="5657760" y="3995640"/>
            <a:ext cx="209520" cy="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6"/>
          <p:cNvSpPr/>
          <p:nvPr/>
        </p:nvSpPr>
        <p:spPr>
          <a:xfrm>
            <a:off x="4622760" y="4667400"/>
            <a:ext cx="6480" cy="28728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8"/>
          <p:cNvSpPr/>
          <p:nvPr/>
        </p:nvSpPr>
        <p:spPr>
          <a:xfrm flipH="1" flipV="1">
            <a:off x="3058920" y="3136680"/>
            <a:ext cx="453960" cy="29196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7"/>
          <p:cNvSpPr/>
          <p:nvPr/>
        </p:nvSpPr>
        <p:spPr>
          <a:xfrm flipV="1">
            <a:off x="5640480" y="3135240"/>
            <a:ext cx="503280" cy="29376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9"/>
          <p:cNvSpPr/>
          <p:nvPr/>
        </p:nvSpPr>
        <p:spPr>
          <a:xfrm flipH="1">
            <a:off x="2842920" y="4667400"/>
            <a:ext cx="669960" cy="27288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22"/>
          <p:cNvSpPr/>
          <p:nvPr/>
        </p:nvSpPr>
        <p:spPr>
          <a:xfrm flipH="1" flipV="1">
            <a:off x="5657400" y="4667400"/>
            <a:ext cx="669960" cy="27288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965160" y="620640"/>
            <a:ext cx="7399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Диагностика дете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«Россия и ее символы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14400" y="1636560"/>
            <a:ext cx="902160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водилось анкетирование детей подготовительной группы с целью определения уровня знаний дошкольников в вопросах знания своей страны и ее символики. В обследовании приняли участие дети подготовительной группы (23 чел.). Анкетирование проводилась индивидуально  с каждым ребенком. Детям было предложено 10 вопросов. В ходе анкетирования  проверялись знания детей относительно таких вопросов, к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Как называется страна, в которой ты жив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В каком городе ты жив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Как называется детский сад, который ты посеща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Что такое фла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Какие виды флагов быв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.Какие цвета встречаются на флаге Российской Федер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.Что изображено на гербе Росс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.Ты знаешь гимн нашей стра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.Как зовут президента Российской Федер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азови столиц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осс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965160" y="620640"/>
            <a:ext cx="7399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Диагностика дете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«Россия и ее символы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Диаграмма 6" descr=""/>
          <p:cNvPicPr/>
          <p:nvPr/>
        </p:nvPicPr>
        <p:blipFill>
          <a:blip r:embed="rId1"/>
          <a:stretch/>
        </p:blipFill>
        <p:spPr>
          <a:xfrm>
            <a:off x="128520" y="1550880"/>
            <a:ext cx="3198960" cy="236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3243240" y="1557360"/>
            <a:ext cx="576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ким образом, дети показали высокий уровень знаний в вопросах анкеты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ети самостоятельно называют столицу Росси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название города в котором живут, название сада; без помощи педагога называют гимн, цвета флага, герб страны и ФИО главы страны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труднения вызвали вопросы в знаниях видов флага и самого значения слова фла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103320" y="4292640"/>
            <a:ext cx="8896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ходя и вышеизложенного, мы будем продолжать работу в данном направлении, обогащая словарный запас и знания детей. С детьми, которые показали средний уровень знаний закрепить понятия «флаг», изучать виды флага, уделить внимание прослушиванию гимна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целью оценки качества проделанной работы, рекомендовано повторное анкетирование по данным вопросам в апреле 2015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7:49:41Z</dcterms:created>
  <dc:creator>User</dc:creator>
  <dc:description/>
  <dc:language>en-US</dc:language>
  <cp:lastModifiedBy>HP</cp:lastModifiedBy>
  <cp:lastPrinted>2015-04-11T12:38:14Z</cp:lastPrinted>
  <dcterms:modified xsi:type="dcterms:W3CDTF">2016-11-26T15:20:09Z</dcterms:modified>
  <cp:revision>71</cp:revision>
  <dc:subject/>
  <dc:title>Слайд 1</dc:title>
</cp:coreProperties>
</file>