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jpeg" ContentType="image/jpeg"/>
  <Override PartName="/ppt/media/image5.png" ContentType="image/png"/>
  <Override PartName="/ppt/media/image13.png" ContentType="image/png"/>
  <Override PartName="/ppt/media/image37.jpeg" ContentType="image/jpeg"/>
  <Override PartName="/ppt/media/image9.png" ContentType="image/png"/>
  <Override PartName="/ppt/media/image38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9A3-8BBB-4920-A537-98E567B1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A97-0074-4AC4-9B31-E6567C15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DF42D-5033-4230-A9F3-B338DDBD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0AC43-C668-435C-BD86-0F9F48DA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2E9E1-75EE-45F3-8EDE-842A66B9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8195A-916E-4A48-BAD9-35785BED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E1426-4971-4EE9-9DFF-D3AD6EB6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EEA19-8681-4347-A7DE-3263EE4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A76F9-6CEC-49EF-A38F-B7D06F0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CBBD2-06E9-47D0-B4E5-23BB3253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A7BB0-34E5-4CD9-AA54-556959CA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12EF0-672B-4422-A37B-7233F02C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6F8-35B1-48D5-A2EC-7BCFA515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7B1B3-1C99-4B47-B0FD-CB67B05F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B1E12-8ED1-4BFF-84C8-C69AC421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47D49-12D7-4AD9-B334-374A04E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0E5F4-9CA1-497F-A4A5-A1A60893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FE4C8-93F2-48CF-A981-3574DD7A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6300D-D6FC-4300-A98E-C6B06041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07BFE-38DE-465F-81AD-B84F3D5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DCC50-DB63-4549-868B-4631D578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90179-4294-44F7-A3EC-7069EFC2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68300-1E7B-4C86-B23B-F368F3C3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469-58BB-482B-A2DC-95491CDB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CB601-DEAD-403A-B6E8-8398C7ED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B5832-CD0C-435C-8F91-7720CD68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2B69F-EFE1-42A2-B868-6DEB85F8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23657-9A18-408E-AB83-F12EFFC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9D88C-2549-4C84-AD23-BEF3769F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5EF9F-889B-4BE1-8BBE-519240EA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8403E-0591-4F5F-9CA3-11BE41A1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8FD41-582C-48B1-9158-FE7093D5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F5157-EACF-4F21-8670-7CB7CA5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540EA-E05B-411A-803E-B8CC5F0A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99C8-9A36-46E1-B736-5EA389AE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997EE-C915-4764-904D-0FA41FC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1EBE1-C07A-40A6-BEDD-3BB5A9D0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2951E-0847-4597-A69A-7445A88B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45C8B-A077-4370-98F4-ED92C9BF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AF2EF-5292-46E7-81D9-380F77E2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09F73-6FDE-4533-8667-336D184F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FFB45-4826-4BCD-A6A0-3C80645F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56D71-BEB5-4776-BDB7-0360BB6D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B2168-808A-4282-9F76-76E3DC5A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C0236-39B5-4880-9EBF-C608238B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B259-6082-4E30-AE1A-991F0C96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8D394-1A94-4FE5-9582-5833EB6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D579C-ACAD-429B-B08B-423BDB5A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82ECE-7DB8-41D2-8044-E70CF964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DBA81-C399-44FE-9D16-36DE766D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20AD8-C0BA-4EE6-B6E5-0EE1135B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4D28-7B3C-4AA4-80DA-732845F2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7CD1-AC03-4F6F-9B1C-B1678AE5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6C4F-3E7B-47B1-9619-9BAEDBAA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17E9-12BB-4861-8A5D-D57A0587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946D-2604-4FEC-87F3-E84AEBA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CF4-FA6C-44FA-9390-E947F185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15F5-F101-4C77-A1E9-D52B958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B8BF-01BA-4149-A02B-C00AEFD3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ED28-C7D8-4147-8618-9487C176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64F7-BEB2-4EAA-B1CF-C9E4F8EE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3C5A-7D1D-4AB3-A120-5D01A39D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FB84-E1CD-4165-8B1D-AFA1582D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094E-05DF-4C78-A4F7-E39ACBF0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C09A-351C-40D4-9FD5-BD98CDA8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05FB9-A01F-4A56-85CA-DDCB8FB1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EBA6-D36D-4637-8314-266C97DE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161-9FE7-4D5D-98CA-65625509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3021-4740-4A9A-BCFB-3C029CB9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E1428-709C-439E-A24A-19500EFA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0345-FFE4-4212-BA62-067FCEE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C432-70DA-443A-9689-0B9C5786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176A-EF4A-40B7-B643-BDB85BFE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DCF4-6209-4954-BA01-EF2C5C6E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AF50-F81D-4CA7-ADBA-D46DF024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1BD01-F77C-4E83-BD09-8FCF5D6C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792E-813E-4D6D-878F-92B3B611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95EFB-E678-44E9-8F1E-36D5CE69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6A4-F4CE-45FB-80F2-6BFDA357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4B4A-471F-4FC6-A293-91F8417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70398-DAE3-4060-BF9E-898D4EB1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562EA-FB40-4A1A-BF00-0E82FC2D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157FB-B66C-4E8B-AFEB-B83A3B76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22072-456F-414E-8F4B-F324F562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9CB8-BFB4-4473-B2B9-9D82C5D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90EE-6331-4141-B617-6192F4A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2F1E-EA39-4E2E-91DD-A9D2CABC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2770-87DD-4223-91A5-024D0BF8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224A-48EA-45FA-B16D-5BD62A5C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E3C-F5AA-41AB-8273-66EBD3D9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22CF-C049-468C-81A2-2E7D2A1B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0D10A-7E35-48A9-B3BA-E2F2147D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B2DB-D860-4E42-9C1F-8F60B1AD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A8AF-8F40-46FB-A78D-8D764D76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73F4B-D2C3-4D6A-938A-1D3DF445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8A1B0-4654-4C8C-A708-7872E191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26FE1-621F-48DE-8808-120CDE60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016AC-88F4-47C5-A01F-274E538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5586-E529-484F-B955-5AC3D439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C85F2-5B98-406F-83B5-11CBA8AA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765-EA50-44E7-BCDE-FD18F2FE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51C60-0253-4C7A-9285-B0EC3ED4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7DFFB-8EEF-40B2-9768-F9FABAB2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50CC-FC4B-4203-8342-5DBFA867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BF54-C024-411A-BCFF-579AA47E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1298-918C-4BF8-AA07-BC907FFB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436E7-ABAE-4494-8689-65B195B1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C8996-DBF9-4ED8-A44A-0D47C635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7B1B2-BBB9-4C59-861C-A39687AA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7BCA5-FD28-4E25-99D3-A4E73EE5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C137E-10D6-4C9F-9CB9-2407A042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EA5-3C1A-4B41-AB71-B65A7E63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D3796-43CC-443F-97D7-275F59B7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73D9D-1E18-469E-BA83-05B11FC5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E5AA-D66B-4FD2-B77C-D64104D2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4E869-E932-4D53-841B-406D0EC6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6D341-836B-4021-A13F-64E6E448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3AE1D-CC90-46DE-BDCA-FAAB87A5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28727-744E-4D1F-B472-FBDDBAE2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37759-2C27-46E6-927D-F71D5218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BE7AE-556C-4390-901C-080194FB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A12F-FA40-4F42-B26C-46B6DA1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B91-66D1-450F-895A-CC4318E2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031C5-3F28-4165-AD66-97003EA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EC851-494F-44D0-9A81-F686F4F0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2843-B925-42DE-A6B0-95946BCA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40F61-F5EC-49DB-8EC4-F8A7FAF7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52A4E-A906-45C8-B50D-DD80683C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30D24-BEF9-4D1D-8CF3-5D6B56BD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733EC-907F-46DC-991B-3ADA81CA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1DEE-74A7-409C-9D91-B226F3E9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57B9E-88B6-4D49-8AA8-56AA5F62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38CEA-2A37-4109-9F57-FBDA3DD7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965-D429-4A57-AC42-2B3645D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182EC-5C7C-4621-926C-4D68900E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5C185-A0B6-4EDC-AEDD-1DE4E1DC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A1D90-763E-464E-A734-AC0586F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4946A-AA52-4123-BC71-621D94F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CBC80-0DFD-4096-AAFC-3DC8137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03812-AE55-4FEB-8936-C5F53B48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9B122-0DCC-427D-B199-1B379C75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500FC-B69A-4031-AB0A-50E78E24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4968C-7174-405C-AC35-42FB14A9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0F3BD-28D5-4380-ACD2-7D7774FB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577E-7298-4A70-BFAA-A59976B116F7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3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8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9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9A0-4431-463D-BF58-7C08ACBE7499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F2AB-056E-4E09-A813-3C88C40DFFD8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E203-D0EA-4687-B926-A54B194F1033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64A4-FDDC-404E-B375-D371764D60B8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FBC9-7302-4CCD-B36D-362FD16B4F8E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214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6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7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8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9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0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1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2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3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4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5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6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7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8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9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0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1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2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3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4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5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6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7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8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9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0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1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2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3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4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5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6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7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8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9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0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1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2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3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4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5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6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97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8D2D-87B4-42CC-BF42-7855768BC47D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E8C1-A6A1-48BB-9D4F-8119B63605F3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6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7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7583-08CD-4758-8FF8-2749C887FB85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9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0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DC13-444A-43AB-8FF8-F36E106B65B2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2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3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B47E-411D-4F06-94B6-80BC4C091998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8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5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6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6C2-559B-4285-9E0C-C42A0011709F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7993080" cy="324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РУК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1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1042920" y="4581360"/>
            <a:ext cx="77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т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зентации: учитель – логопед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идорова Инна Николаевна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БОУ д/с 1736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СКВА, 2013г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ёнку предлагается длинная толстая шерстяная нитка, которую нужно смотать в клубок. При этом проговаривать поставленный звук либо лексический материал, счёт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04" name="Рисунок 16" descr="1e518fd1119d.png"/>
          <p:cNvPicPr/>
          <p:nvPr/>
        </p:nvPicPr>
        <p:blipFill>
          <a:blip r:embed="rId2"/>
          <a:stretch/>
        </p:blipFill>
        <p:spPr>
          <a:xfrm>
            <a:off x="2556000" y="3357720"/>
            <a:ext cx="3887640" cy="287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ёнок заплетает косички кукле из верёвочек, шнурочков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воей сестрички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плету косички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шнура и из тесьмы,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нею очень мы дружны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07" name="Рисунок 17" descr="dcae3a44a614.png"/>
          <p:cNvPicPr/>
          <p:nvPr/>
        </p:nvPicPr>
        <p:blipFill>
          <a:blip r:embed="rId2"/>
          <a:stretch/>
        </p:blipFill>
        <p:spPr>
          <a:xfrm>
            <a:off x="5435640" y="2276640"/>
            <a:ext cx="2016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стить на столе шнурок зигзагом и предложить ребенку «перепрыгнуть» каждым пальчиком через изгибы ручейка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10" name="Рисунок 18" descr="924847d01d4b.png"/>
          <p:cNvPicPr/>
          <p:nvPr/>
        </p:nvPicPr>
        <p:blipFill>
          <a:blip r:embed="rId2"/>
          <a:stretch/>
        </p:blipFill>
        <p:spPr>
          <a:xfrm>
            <a:off x="2556000" y="3429000"/>
            <a:ext cx="3816360" cy="278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низывание на шнурок различных фигурок с дырочкой посередине в заданной последовательности (цветок, звёздочка, домик и т. д.). Можно нанизывать картинки и проговаривать их, закрепляя звук  в речи, активизируя словарь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13" name="Рисунок 18" descr=""/>
          <p:cNvPicPr/>
          <p:nvPr/>
        </p:nvPicPr>
        <p:blipFill>
          <a:blip r:embed="rId2"/>
          <a:stretch/>
        </p:blipFill>
        <p:spPr>
          <a:xfrm>
            <a:off x="3059280" y="3860640"/>
            <a:ext cx="316836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079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и зашнуровывают верёвочк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16" name="Рисунок 23" descr="1d487f2956cd.png"/>
          <p:cNvPicPr/>
          <p:nvPr/>
        </p:nvPicPr>
        <p:blipFill>
          <a:blip r:embed="rId2"/>
          <a:stretch/>
        </p:blipFill>
        <p:spPr>
          <a:xfrm>
            <a:off x="3132000" y="2205000"/>
            <a:ext cx="244800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382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пяльцах натянута сетка из-под фруктов, ребёнку предлагается «вышить» шнурочком какой-нибудь предмет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19" name="Рисунок 18" descr="924847d01d4b.png"/>
          <p:cNvPicPr/>
          <p:nvPr/>
        </p:nvPicPr>
        <p:blipFill>
          <a:blip r:embed="rId2"/>
          <a:stretch/>
        </p:blipFill>
        <p:spPr>
          <a:xfrm>
            <a:off x="2700360" y="328464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УПРАЖНЕНИЯ С ПРИЩЕПКАМИ</a:t>
            </a:r>
            <a:endParaRPr b="0" lang="en-US" sz="6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21" name="Рисунок 26" descr="4_03.gif"/>
          <p:cNvPicPr/>
          <p:nvPr/>
        </p:nvPicPr>
        <p:blipFill>
          <a:blip r:embed="rId1"/>
          <a:stretch/>
        </p:blipFill>
        <p:spPr>
          <a:xfrm>
            <a:off x="2124000" y="2565360"/>
            <a:ext cx="5040360" cy="3730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тягиваем верёвку на уровне плеч ребёнка и даём ему несколько бельевых прищепок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каждый ударный слог ребёнок цепляет прищепку к верёвке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щеплю прищепки ловко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на мамину верёвку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24" name="Рисунок 27" descr="59673517_Kopiya_P1120730.JPG"/>
          <p:cNvPicPr/>
          <p:nvPr/>
        </p:nvPicPr>
        <p:blipFill>
          <a:blip r:embed="rId2"/>
          <a:stretch/>
        </p:blipFill>
        <p:spPr>
          <a:xfrm>
            <a:off x="2771640" y="3141720"/>
            <a:ext cx="309564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Заголовок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290080" cy="113976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 txBox="1"/>
          <p:nvPr/>
        </p:nvSpPr>
        <p:spPr>
          <a:xfrm>
            <a:off x="179280" y="1268280"/>
            <a:ext cx="8785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уть игры состоит в том, чтобы научить ребёнка самостоятельно прищеплять прищепки. 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тобы игра была интересной для ребёнка, можно прикреплять прищепки по тематике (то есть лучики к солнцу, иголки к ёжику, дождик к тучке, травку к земле и тому подобное). 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место бельевых прищепок можно использовать детские заколки - крабики.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27" name="Picture 2" descr="DSCN3091"/>
          <p:cNvPicPr/>
          <p:nvPr/>
        </p:nvPicPr>
        <p:blipFill>
          <a:blip r:embed="rId2"/>
          <a:stretch/>
        </p:blipFill>
        <p:spPr>
          <a:xfrm>
            <a:off x="3995640" y="3860640"/>
            <a:ext cx="4537080" cy="284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Заголовок 1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атянутой рыболовной сети с помощью прищепок ребёнок прицепляет персонажей, рассказывая сказк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30" name="Рисунок 2" descr="D:\Фото\DSC01279.JPG"/>
          <p:cNvPicPr/>
          <p:nvPr/>
        </p:nvPicPr>
        <p:blipFill>
          <a:blip r:embed="rId2"/>
          <a:stretch/>
        </p:blipFill>
        <p:spPr>
          <a:xfrm>
            <a:off x="2124000" y="2637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ПРАЖНЕНИЯ С ПУГОВИЦАМИ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0" name="Рисунок 8" descr="a3a95129bc3e.png"/>
          <p:cNvPicPr/>
          <p:nvPr/>
        </p:nvPicPr>
        <p:blipFill>
          <a:blip r:embed="rId1"/>
          <a:stretch/>
        </p:blipFill>
        <p:spPr>
          <a:xfrm>
            <a:off x="2771640" y="2924280"/>
            <a:ext cx="3619800" cy="315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УПРАЖНЕНИЯ СО СПИЧКАМИ И СЧЁТНЫМИ ПАЛОЧКАМИ</a:t>
            </a: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32" name="Рисунок 66" descr="28327724145b.png"/>
          <p:cNvPicPr/>
          <p:nvPr/>
        </p:nvPicPr>
        <p:blipFill>
          <a:blip r:embed="rId1"/>
          <a:stretch/>
        </p:blipFill>
        <p:spPr>
          <a:xfrm>
            <a:off x="2916360" y="3213000"/>
            <a:ext cx="295092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м "сруб" из спичек (предварительно обломив головки) или счётных палочек. Чем выше и ровнее сруб, тем лучше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35" name="Рисунок 67" descr="schetnie_palochki-150x130.jpg"/>
          <p:cNvPicPr/>
          <p:nvPr/>
        </p:nvPicPr>
        <p:blipFill>
          <a:blip r:embed="rId2"/>
          <a:stretch/>
        </p:blipFill>
        <p:spPr>
          <a:xfrm>
            <a:off x="3203640" y="3645000"/>
            <a:ext cx="2736720" cy="2212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Заголовок 1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омощью спичек, счётных палочек выкладывать различные фигурки: сначала по схеме, затем по памяти, по воображению. Желательно, чтобы счётные палочки были не гладкие, а ребристые (это служит дополнительным массажем для пальцев)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38" name="Рисунок 70" descr="schetnie_palochki_babochka.jpg"/>
          <p:cNvPicPr/>
          <p:nvPr/>
        </p:nvPicPr>
        <p:blipFill>
          <a:blip r:embed="rId2"/>
          <a:stretch/>
        </p:blipFill>
        <p:spPr>
          <a:xfrm>
            <a:off x="1116000" y="40766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739" name="Рисунок 69" descr="schetnie_palochki_mashina.jpg"/>
          <p:cNvPicPr/>
          <p:nvPr/>
        </p:nvPicPr>
        <p:blipFill>
          <a:blip r:embed="rId3"/>
          <a:stretch/>
        </p:blipFill>
        <p:spPr>
          <a:xfrm>
            <a:off x="4859280" y="4076640"/>
            <a:ext cx="316872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Заголовок 1" descr=""/>
          <p:cNvPicPr/>
          <p:nvPr/>
        </p:nvPicPr>
        <p:blipFill>
          <a:blip r:embed="rId1"/>
          <a:stretch/>
        </p:blipFill>
        <p:spPr>
          <a:xfrm>
            <a:off x="542880" y="262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 txBox="1"/>
          <p:nvPr/>
        </p:nvSpPr>
        <p:spPr>
          <a:xfrm>
            <a:off x="468000" y="1341000"/>
            <a:ext cx="821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берите пуговицы разного цвета и размера. Сначала выложите рисунок сами, затем попросите малыша сделать то же самостоятельно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 того, как ребёнок научится выполнять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е без вашей помощи, предложите ему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думывать свои варианты рисунков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пуговичной мозаики можно выложить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валяшку, бабочку, снеговика, мячики, бусы и т.д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но предложить шаблоны для накладывания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говиц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fe6d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3" name="Рисунок 11" descr="D:\Фото\Картинки\мелкая моторика\78cf7bb7cb37.png"/>
          <p:cNvPicPr/>
          <p:nvPr/>
        </p:nvPicPr>
        <p:blipFill>
          <a:blip r:embed="rId2"/>
          <a:stretch/>
        </p:blipFill>
        <p:spPr>
          <a:xfrm>
            <a:off x="7596360" y="2708280"/>
            <a:ext cx="13683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низывать можно всё, что нанизывается: пуговицы, бусы, рожки и макароны, сушки и т.п. Можно составлять бусы из картонных кружочков, квадратиков, сердечек и т.д. На каждую бусину проговаривается поставленный звук, слог с определённым звуком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Я сижу, но не скучаю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Бусы маме собираю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низала бусы я -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Рада мамочка моя!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6" name="Рисунок 9" descr="busy1.jpg"/>
          <p:cNvPicPr/>
          <p:nvPr/>
        </p:nvPicPr>
        <p:blipFill>
          <a:blip r:embed="rId2"/>
          <a:stretch/>
        </p:blipFill>
        <p:spPr>
          <a:xfrm>
            <a:off x="5148360" y="3716280"/>
            <a:ext cx="33112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одном кусочке ткани пришиты три пуговицы разного диаметра. Во втором прорезаны соответствующие петли.  Большую пуговицу мы застёгиваем в большую петельку, среднюю пуговку - в среднюю петельку, а маленькую в маленькую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9" name="Рисунок 12" descr=""/>
          <p:cNvPicPr/>
          <p:nvPr/>
        </p:nvPicPr>
        <p:blipFill>
          <a:blip r:embed="rId2"/>
          <a:stretch/>
        </p:blipFill>
        <p:spPr>
          <a:xfrm>
            <a:off x="3059280" y="3789360"/>
            <a:ext cx="3168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ёнок шагает пальчиками по дорожке (нашиты пуговицы на длинный прямоугольник ткани), проговаривает поставленный звук, слоги с данным звуком или слова лексической темы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92" name="Рисунок 13" descr="cc1af76edf6b.png"/>
          <p:cNvPicPr/>
          <p:nvPr/>
        </p:nvPicPr>
        <p:blipFill>
          <a:blip r:embed="rId2"/>
          <a:stretch/>
        </p:blipFill>
        <p:spPr>
          <a:xfrm>
            <a:off x="2195640" y="4005360"/>
            <a:ext cx="4464000" cy="168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УПРАЖНЕНИЯ С ШНУРКАМИ И ВЕРЁВОЧКАМИ</a:t>
            </a: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94" name="Рисунок 14" descr="cbb6a7cfad3e.pn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07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этого необходимо взять верёвочку длиной 0,5 м и выкладывать её по схеме какого-либо узора, предмета. Суть упражнений заключается в том, что художественный образ следует создать или дополнить с помощью шнурков, нитей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97" name="Рисунок 18" descr="924847d01d4b.png"/>
          <p:cNvPicPr/>
          <p:nvPr/>
        </p:nvPicPr>
        <p:blipFill>
          <a:blip r:embed="rId2"/>
          <a:stretch/>
        </p:blipFill>
        <p:spPr>
          <a:xfrm>
            <a:off x="2771640" y="386064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рём верёвку (толщиной с мизинец ребёнка) и завязываем на ней несколько узлов. Ребёнок, развязывает  узлы пальцами, на каждый узел называет поставленный звук, лексический материал, счёт. Можно сделать подобные приспособления из бусин, пуговиц и т.д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00" name="Рисунок 15" descr="96df76e08023.png"/>
          <p:cNvPicPr/>
          <p:nvPr/>
        </p:nvPicPr>
        <p:blipFill>
          <a:blip r:embed="rId2"/>
          <a:stretch/>
        </p:blipFill>
        <p:spPr>
          <a:xfrm flipH="1" rot="9464400">
            <a:off x="2068200" y="4506480"/>
            <a:ext cx="4780080" cy="99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1:46:13Z</dcterms:created>
  <dc:creator>User</dc:creator>
  <dc:description/>
  <dc:language>en-US</dc:language>
  <cp:lastModifiedBy>For_Game</cp:lastModifiedBy>
  <dcterms:modified xsi:type="dcterms:W3CDTF">2016-11-26T17:33:53Z</dcterms:modified>
  <cp:revision>114</cp:revision>
  <dc:subject/>
  <dc:title>Городская экспериментальная площадка</dc:title>
</cp:coreProperties>
</file>