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4.jpeg" ContentType="image/jpeg"/>
  <Override PartName="/ppt/media/image31.jpeg" ContentType="image/jpeg"/>
  <Override PartName="/ppt/media/image2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DEC-68F9-4FB1-8A0C-E2651D3E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8822-37DF-448F-960C-32D1336E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EC838-C2C8-4ABE-B803-6049727A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CDF38-ED67-4EDA-BEE3-C7D47609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EFD60-8632-4E24-AFD5-5AC4FE9D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056AD-45F1-46C7-A4FF-50959863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AFC2F-5253-4142-89EE-2B189471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299C9-ADEB-491A-A33B-166B631F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E008B-F8CF-460B-ACD7-569B933C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E14DC-FF62-4465-9302-D1B83118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55B00-90F2-41AA-BC7D-FF047C4D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D6249-BD58-4B15-B73D-ACD03219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208F-C6BE-4C2C-81F8-09CBBCF1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79B8E-9F6D-4D46-A9FB-92EB97A9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3418C-8569-47E5-820E-FC51C0ED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EF0DB-7B89-418C-9B8B-B654D537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3AFE2-8251-4CE5-979E-10976F86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5E5F6-1D7C-48E4-B0B9-ACF84155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B947E-60B8-4988-A38E-4FB86D6A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750A1-6D53-40FF-B6CF-3B40FB5A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6F7CC-9EF5-4905-BE8F-F3EED05F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0201C-0544-42F6-804A-8C5F0BAB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6496D-474F-42D2-84A8-829C8B0F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7E5-C1BE-4D39-AD1B-AAB4CFAF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A8F8B-259A-40FF-BCD7-E2FCF0E6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B2FD4-4110-42FC-9A0D-3ACABE9F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88A8F-8CF4-4A09-B71F-227A143B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29073-9C3C-4E23-849B-CCF0447F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7D591-2EE1-4D55-84FA-2711CF0C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E3605-789A-42F1-818F-26B82C06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23B50-CA49-4B7C-A28C-5F2B2888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D8991-E8B8-474E-8165-A6827B90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01B8B-0DD4-4951-8B9E-FAFF1C2B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C9038-154D-48ED-8338-982786AD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CD05-B05F-4A10-9A0F-2F3271CF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B896F-793C-465A-947B-4A4E76C0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6E723-3746-4F7D-8A17-6813C423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AB49F-6116-4552-A649-33CD6F32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1E686-FB8B-4769-A4FC-AE864CE5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08F47-4DC1-412C-8812-0FEE3DAB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22CAE-A8BB-493D-AF3E-E8841EAA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D8BFE-5814-4D85-AF26-69374E51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C386F-2DA6-4755-B3D5-589507A7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74511-002F-407D-813A-9DDE78E7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80FE0-C989-4073-923F-4427FA3B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6EC7-FBD3-4CEA-8EDA-A539DAA3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43502-E00D-4112-89BA-1AD3FBA1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FB957-27EF-4D03-9117-78507C03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CDB39-4901-4B2C-B560-3B06BE74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0676F-D6FC-42B5-9D8A-CAC8A76E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6C54C-DDA0-401E-9631-B76EAA4B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A693-4BE2-41B2-8625-38F8BEA7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B6D9-A119-41FA-9E3D-175D989E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A095-F5E0-4852-BCDD-30BB6A9A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9676-C9CD-4D8C-A9B4-C5BEE62F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4B1C-B8EE-4526-A1F9-C6CDEFE4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628-8AE0-4F99-87EB-096864D2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4149-EA99-4128-AC8F-E05D9719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4AF7-DBF2-49D7-86DE-1B80904B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9B8E-8EDA-4795-93B7-2CD43754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9743-F721-4C6F-BF5F-545B8C87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4A8E-BE2C-4CB7-AB66-B104D498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5B263-EB57-4415-A26F-8714E1E0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4C0DD-632B-429D-A03F-F9C59C32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1C570-D794-42F7-B531-4F16FD8B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6B1B8-8CBB-4777-B854-3FC060A9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3AB30-B238-46BD-A5BF-7178B33C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971-ECD5-45F9-A2C4-4A7539C6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E243A-E2C9-4C73-9E78-FACFF742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56F28-1A59-4C00-90BA-A7EE8170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B0FE9-179C-43B0-926C-F4E4B4A7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7760E-86A7-4D74-8746-D45EDC32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22BE5-C8AC-46DB-8A84-76A65CC6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93124-24AF-40A0-A368-A7FF2F7C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028D9-8185-4D91-BFB6-D9AFEB3B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4CB31-B6BD-4FD9-8376-D26DA2E7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876BC-D622-43DF-BBE0-61308A54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6B951-DB66-4CCB-89C0-160CF2D5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F427-6390-401C-8EAD-A437DB7B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4FE72-F496-4A89-BF52-6DC5AFA8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EA907-633F-4614-B9C2-A08A3A40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FFC63-74FB-4CFC-B8ED-B7E70944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4EDFF-199B-489B-99FC-BDC2D21E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735E3-4AF5-412D-BCD8-FC569975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5C211-686F-4697-8AAE-9E6B1F76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AD161-4F86-40B3-9D3E-514281F9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3816F-B5B3-4837-9EBB-C3D938B0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DF0DA-6455-4F48-9857-FEC2FA7A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A585D-62BE-4D4B-92B4-431EF849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D73-56E1-4453-86CF-568B7F8C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F6C3D-5628-4B97-A28C-D3950B67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DF805-F26E-40D8-82F0-557C6057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4545B-64A3-40EF-8EA6-4A249AB6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C93B0-C37A-418B-BC04-BB347801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D6A27-85C7-4EFB-84D0-EBB26057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B8603-E8D3-4853-B44C-D6627146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2F9D0-B109-40F6-80B8-294E68D4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B016E-3A32-468C-9044-E2F63761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ABACD-D5C1-455A-9A98-59D2111C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94693-332C-4D92-8327-14E8123A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1FDD-890E-4F45-B0C4-FEC6C08C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2CF1C-21E7-4BF4-8D3F-F5A6BB14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14053-93F3-4388-A1D3-B81CC76E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199CD-4059-4C89-A874-5E0E2619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980DB-49F1-46D8-8CF4-DADADAC0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F7EBB-B9DE-47CA-ABA3-8F2CF93E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3E2FD-276A-41FC-AC1D-755237D8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B347C-AE70-4C80-8B76-DEC87ED1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BC0E2-D748-42F6-9DA6-E541ED2E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D451F-D8B2-4264-B674-16554C14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83292-205E-4883-B73D-0E0633A5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2B26-4B66-4D88-A654-62E6848F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62BF7-B30A-44F5-BF2C-0DF77D96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64195-7E1A-4FF9-A677-8B023781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55F7C-1085-4E63-87B3-315977B8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57124-872F-4438-8B2C-07C09DA0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34F7B-2090-4C16-B6D1-382ADD2D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ECA2A-B903-4778-893A-56456E55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499B4-4BA0-4B2D-8BD7-E359E6CD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695B4-A38E-4131-9F94-806D54BE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27C86-0A7A-4C8D-A4C2-97C92996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98009-196C-4B60-B659-00D14780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BEB-3DA7-46D8-8259-1605BDC5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DE90D-7D4A-463C-9F8B-6AF8FA97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21CE8-89DC-46B7-B734-6A4001CC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A692C-D077-4953-A3CF-873E7FC3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2E180-2673-430D-932D-23496691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B2645-1732-4E43-8DC1-A159EF39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10CA2-782B-45A1-8326-0FFFB29C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5C94B-0813-4284-97DA-25CC4270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B48A2-8171-47A7-8920-49FE6B67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77DCF-D234-4BE8-BEFB-5C7727C9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BFF00-8225-4F74-AA44-51A3BE38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4506-BD45-4932-A7ED-A1C0AA87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C26FE-6BED-4A01-86C9-AD91A76A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37E0B-8053-4959-B5D2-BEAA4DF6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DD264-36F9-4882-BF96-7FB4C46B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0CCA8-F6D8-4797-A77E-56FA7DB2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22835-8151-45E7-9E68-E9D1FD49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5AD3D-6203-4E8F-AA71-94783F3B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8267D-2974-45F3-AC4A-09E035E5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94886-54D3-40C7-A819-297DDE44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A0FCE-7867-4A2B-8AD3-4B1B0040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E1111-3D67-4CE7-8A3D-63F88E1B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462A-641D-4F3F-A32D-B03FBC43FCB7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1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2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3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28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29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AE87-5751-420A-A0A5-5AD5B5F76541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F2FA-6D64-4B17-8D19-82CE4B63F3D8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3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3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8450-1308-40DC-A095-1F315B31BE88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7115-7018-494B-B5DA-7F8E0311F63A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BA28-BB4B-472C-9F67-74CE173CB2B4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214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6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7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8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9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0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1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2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3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4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5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6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7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8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9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0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1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2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3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4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5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6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7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8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9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0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1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2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3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4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5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6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7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8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9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90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91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92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93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94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95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96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97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9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3EB7-3D43-40E8-A783-06B757290E71}" type="slidenum">
              <a:rPr b="0" lang="ru-RU" sz="1200" spc="-1" strike="noStrike">
                <a:solidFill>
                  <a:srgbClr val="1d364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79A3-7BFE-4C06-902D-865A702608DD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6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7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6FD8-2A2E-40B4-B5E5-38B1C92B8D6D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9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0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D514-7B78-4AB6-9936-6A183EE525B1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2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3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D373-836E-4C60-A9FC-ACA0A64BFA2B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6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7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8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5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6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CDB5-F46A-4A06-ACE1-B8119C7C00D7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610920" y="1341360"/>
            <a:ext cx="7993080" cy="3240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ЕЛКОЙ МОТОРИКИ РУК</a:t>
            </a:r>
            <a:endParaRPr b="0" lang="en-US" sz="4400" spc="-1" strike="noStrike">
              <a:solidFill>
                <a:srgbClr val="dfe6d0"/>
              </a:solidFill>
              <a:latin typeface="Calibri"/>
            </a:endParaRPr>
          </a:p>
          <a:p>
            <a:pPr algn="ctr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1042920" y="4581360"/>
            <a:ext cx="77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вто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зентации: учитель – логопед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дорова Инна Николаевна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БОУ д/с № 1736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СКВА, 2013г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Заголовок 1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59840" cy="129384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листу картона равномерно распределите пластилин, на котором выкладывается рисунок. Для упражнения используются  косточки, семечки, скорлупки. Ребёнок составляет сюжетную картинку по теме, затем рассказывает, что получилось.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 упражнения – развивать воображение, фантазию, связную речь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Заголовок 1" descr=""/>
          <p:cNvPicPr/>
          <p:nvPr/>
        </p:nvPicPr>
        <p:blipFill>
          <a:blip r:embed="rId1"/>
          <a:stretch/>
        </p:blipFill>
        <p:spPr>
          <a:xfrm>
            <a:off x="463680" y="974880"/>
            <a:ext cx="8242200" cy="115236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 txBox="1"/>
          <p:nvPr/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песке ребёнку предлагается выложить букву, узор, картинку, используя крупные бусины, камешки, пуговицы.</a:t>
            </a:r>
            <a:br>
              <a:rPr sz="2400"/>
            </a:b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УПРАЖНЕНИЯ С КРУПАМИ</a:t>
            </a: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05" name="Рисунок 89" descr="92873f739402.png"/>
          <p:cNvPicPr/>
          <p:nvPr/>
        </p:nvPicPr>
        <p:blipFill>
          <a:blip r:embed="rId1"/>
          <a:stretch/>
        </p:blipFill>
        <p:spPr>
          <a:xfrm>
            <a:off x="2700360" y="2924280"/>
            <a:ext cx="3816360" cy="3457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ыпаем в коробку горох или фасоль. Ребёнок запускает туда руки и изображает, как месят тесто.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сим, месим тесто,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ть в печи место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дут-будут из печи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лочки и калачи.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оробке с горохом спрятать маленькие игрушки (из киндер-сюрприза). Ребёнок с закрытыми глазами перебирает горох руками, ищет, кто спрятался внутри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ведре не соль, совсем не соль,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разноцветная фасоль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дне игрушки для детей,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их достанем без затей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ыпаем в кружку сухой горох. Ребёнок на каждый ударный слог перекладывает горошины по одной в другую кружку. Сначала одной рукой, затем двумя руками одновременно, попеременно большим и средним пальцами, большим и безымянным, большим и мизинцем.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ёрнышки все, что хозяйка давала,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очка клювом по штучке склевала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егирь, сорока, и клёст, и синицы –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имуют у нас эти чудные птицы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чтоб они жили по-прежнему с нами,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будем кормить их, конечно же, сами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fe6d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чашку насыпать два вида крупы. Предложить сортировать в две разные чашечки: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5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 помощницей расту.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ей маме помогу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 крупу переберу,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ис от гречки отберу!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fe6d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14" name="Рисунок 89" descr="92873f739402.png"/>
          <p:cNvPicPr/>
          <p:nvPr/>
        </p:nvPicPr>
        <p:blipFill>
          <a:blip r:embed="rId2"/>
          <a:stretch/>
        </p:blipFill>
        <p:spPr>
          <a:xfrm>
            <a:off x="4500720" y="3284640"/>
            <a:ext cx="309564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ложить из гороха или фасоли дорожку: прямую, волнистую и т. д. (по образцу, трафарету или самостоятельно)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 горошины возьму, выложу дорожку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жали по дорожке зайчик, белка, козлик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ыпаем горох на блюдце. Ребёнок большим и указательным пальцами берёт горошину и удерживает её остальными пальцами (как при сборе ягод), потом берёт следующую горошину, потом ещё и ещё - так набирает целую горсть. Можно делать это одной или двумя руками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пка из теста (рецепт теста: 1 стакан муки, 1\2 стакана соли, немного воды). Преимущество лепки из теста перед лепкой из пластилина заключается в том, что «скульптуры» впоследствии можно использовать в качестве игрушек.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УПРАЖНЕНИЯ С ПРОБКАМИ</a:t>
            </a:r>
            <a:endParaRPr b="0" lang="en-US" sz="48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680" name="Рисунок 75" descr="_Capsule Soft Drink - Hot Fill.jpg"/>
          <p:cNvPicPr/>
          <p:nvPr/>
        </p:nvPicPr>
        <p:blipFill>
          <a:blip r:embed="rId1"/>
          <a:stretch/>
        </p:blipFill>
        <p:spPr>
          <a:xfrm>
            <a:off x="2987640" y="2924280"/>
            <a:ext cx="3456000" cy="2450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Calibri"/>
              </a:rPr>
              <a:t>РИСОВАНИЕ</a:t>
            </a:r>
            <a:endParaRPr b="0" lang="en-US" sz="66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23" name="Рисунок 91" descr="b6d5742cd75c2c3ae662f6b94f2b0fab_6a2b873c63725644215387e5ce9dcbd6.jpeg"/>
          <p:cNvPicPr/>
          <p:nvPr/>
        </p:nvPicPr>
        <p:blipFill>
          <a:blip r:embed="rId1"/>
          <a:stretch/>
        </p:blipFill>
        <p:spPr>
          <a:xfrm>
            <a:off x="2916360" y="2421000"/>
            <a:ext cx="3485880" cy="3486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водить можно всё: дно стакана, перевёрнутое блюдце, собственную ладонь, плоскую игрушку и т.д.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     </a:t>
            </a:r>
            <a:endParaRPr b="0" lang="en-US" sz="40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Рисование по опорным точкам</a:t>
            </a:r>
            <a:endParaRPr b="0" lang="en-US" sz="40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лагается контур предмета из точек, ребёнок должен обвести его, чтоб получилась картинка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26" name="Рисунок 20" descr="9d5eebab52fb.png"/>
          <p:cNvPicPr/>
          <p:nvPr/>
        </p:nvPicPr>
        <p:blipFill>
          <a:blip r:embed="rId2"/>
          <a:stretch/>
        </p:blipFill>
        <p:spPr>
          <a:xfrm>
            <a:off x="2771640" y="2924280"/>
            <a:ext cx="3600720" cy="151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Заголовок 1" descr=""/>
          <p:cNvPicPr/>
          <p:nvPr/>
        </p:nvPicPr>
        <p:blipFill>
          <a:blip r:embed="rId1"/>
          <a:stretch/>
        </p:blipFill>
        <p:spPr>
          <a:xfrm>
            <a:off x="371520" y="-6480"/>
            <a:ext cx="8528040" cy="143352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лагается половина картинки, ребёнок должен дорисовать её, чтоб получился полноценный  предмет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29" name="Рисунок 25" descr="1266567666_b4484afb1c5b.jpg"/>
          <p:cNvPicPr/>
          <p:nvPr/>
        </p:nvPicPr>
        <p:blipFill>
          <a:blip r:embed="rId2"/>
          <a:stretch/>
        </p:blipFill>
        <p:spPr>
          <a:xfrm>
            <a:off x="3635280" y="3213000"/>
            <a:ext cx="1584360" cy="2697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Заголовок 1" descr=""/>
          <p:cNvPicPr/>
          <p:nvPr/>
        </p:nvPicPr>
        <p:blipFill>
          <a:blip r:embed="rId1"/>
          <a:stretch/>
        </p:blipFill>
        <p:spPr>
          <a:xfrm>
            <a:off x="463680" y="182520"/>
            <a:ext cx="8242200" cy="115272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 txBox="1"/>
          <p:nvPr/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ве пробки от пластиковых бутылок кладём на столе резьбой вверх. Это - "лыжи". Указательный и средний пальцы встают в них, как ноги. Двигаемся на "лыжах", делая по шагу на каждый ударный слог.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ы едем на лыжах, мы мчимся с горы,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ы любим забавы холодной зимы.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о же самое можно попробовать проделать двумя руками одновременно.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альчик – мальчик, где ты был?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 этим братцем в лес ходил, 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 этим братцем щи варил,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 этим братцем кашу ел, 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 этим братцем песни пел.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683" name="Рисунок 1" descr="lyzhy.gif"/>
          <p:cNvPicPr/>
          <p:nvPr/>
        </p:nvPicPr>
        <p:blipFill>
          <a:blip r:embed="rId2"/>
          <a:stretch/>
        </p:blipFill>
        <p:spPr>
          <a:xfrm>
            <a:off x="1258920" y="2637000"/>
            <a:ext cx="1800360" cy="1439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Заголовок 1" descr=""/>
          <p:cNvPicPr/>
          <p:nvPr/>
        </p:nvPicPr>
        <p:blipFill>
          <a:blip r:embed="rId1"/>
          <a:stretch/>
        </p:blipFill>
        <p:spPr>
          <a:xfrm>
            <a:off x="463680" y="268200"/>
            <a:ext cx="8242200" cy="143208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бёнку предлагается пособие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приклеенными горлышками от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стиковых бутылок по определённой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ксической теме, ему нужно закрутить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ышки на горлышки.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жно проговаривать поставленный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ук, закрепляя изолированное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изношение; считать, называть цвет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ышечки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686" name="Рисунок 76" descr="DSC01258.JPG"/>
          <p:cNvPicPr/>
          <p:nvPr/>
        </p:nvPicPr>
        <p:blipFill>
          <a:blip r:embed="rId2"/>
          <a:stretch/>
        </p:blipFill>
        <p:spPr>
          <a:xfrm>
            <a:off x="6156360" y="1700280"/>
            <a:ext cx="2519280" cy="2233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2" descr=""/>
          <p:cNvPicPr/>
          <p:nvPr/>
        </p:nvPicPr>
        <p:blipFill>
          <a:blip r:embed="rId3"/>
          <a:stretch/>
        </p:blipFill>
        <p:spPr>
          <a:xfrm>
            <a:off x="6372360" y="4005360"/>
            <a:ext cx="216036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Заголовок 1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12938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2" descr=""/>
          <p:cNvPicPr/>
          <p:nvPr/>
        </p:nvPicPr>
        <p:blipFill>
          <a:blip r:embed="rId2"/>
          <a:stretch/>
        </p:blipFill>
        <p:spPr>
          <a:xfrm>
            <a:off x="2268360" y="2060640"/>
            <a:ext cx="4526280" cy="3390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Заголовок 1" descr=""/>
          <p:cNvPicPr/>
          <p:nvPr/>
        </p:nvPicPr>
        <p:blipFill>
          <a:blip r:embed="rId1"/>
          <a:stretch/>
        </p:blipFill>
        <p:spPr>
          <a:xfrm>
            <a:off x="463680" y="480960"/>
            <a:ext cx="8242200" cy="143352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помощью пробок выкладывать различные фигурки: сначала по схеме, затем по памяти, по воображению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УПРАЖНЕНИЯ С ПРИРОДНЫМ МАТЕРИАЛОМ</a:t>
            </a:r>
            <a:endParaRPr b="0" lang="en-US" sz="4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693" name="Рисунок 87" descr="d29ae2171c9a.png"/>
          <p:cNvPicPr/>
          <p:nvPr/>
        </p:nvPicPr>
        <p:blipFill>
          <a:blip r:embed="rId1"/>
          <a:stretch/>
        </p:blipFill>
        <p:spPr>
          <a:xfrm>
            <a:off x="2916360" y="2924280"/>
            <a:ext cx="3225600" cy="3049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ьмите яркий поднос. Тонким равномерным слоем рассыпьте по подносу песок или любую мелкую крупу. Ребёнку предлагается нарисовать пальчиком какие-нибудь предметы (забор, дождик, волны, буквы) и т.д. Для особого интереса на дно подноса можно положить зеркало.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696" name="Рисунок 80" descr="рисунок-на-песке.jpg"/>
          <p:cNvPicPr/>
          <p:nvPr/>
        </p:nvPicPr>
        <p:blipFill>
          <a:blip r:embed="rId2"/>
          <a:stretch/>
        </p:blipFill>
        <p:spPr>
          <a:xfrm>
            <a:off x="3132000" y="4089240"/>
            <a:ext cx="3167280" cy="2508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мушки представлены как части животных, дети складывают хрюшку, мишку, лису и т.д., подбирая их по размеру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699" name="Рисунок 82" descr="32-300x177.jpg"/>
          <p:cNvPicPr/>
          <p:nvPr/>
        </p:nvPicPr>
        <p:blipFill>
          <a:blip r:embed="rId2"/>
          <a:stretch/>
        </p:blipFill>
        <p:spPr>
          <a:xfrm>
            <a:off x="3132000" y="3309840"/>
            <a:ext cx="3168720" cy="2640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1:46:13Z</dcterms:created>
  <dc:creator>User</dc:creator>
  <dc:description/>
  <dc:language>en-US</dc:language>
  <cp:lastModifiedBy>Sidorov</cp:lastModifiedBy>
  <dcterms:modified xsi:type="dcterms:W3CDTF">2013-04-13T08:46:42Z</dcterms:modified>
  <cp:revision>125</cp:revision>
  <dc:subject/>
  <dc:title>Городская экспериментальная площадка</dc:title>
</cp:coreProperties>
</file>