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703-C8D0-4F60-8F46-E5A84323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CEE-C540-4967-99D1-BE4F053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2B1-871F-45B7-8528-1F102B5F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BB8-3407-4CDB-91CD-5F635A52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4DFD-6789-433F-B510-4FE4FA3F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6506-2395-43E1-B6CB-8F1F561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218A-9EEA-43EF-AEF3-F260967C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E8AC-8611-42EE-8EC3-C561A8B3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5057-1C4A-433F-8531-61C509A0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FCE-7D25-4EAA-BFCC-0748666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E42-A0B2-4933-BEF0-319EE60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5ED-83A0-4EA7-A200-1595603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C924-727E-4AF5-B6CF-34F632B5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2DB7-F520-42BB-A762-A22DC135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8177-5B67-4C9C-B83D-191DBDE3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8AAC-1611-477C-8AD5-C8EDEF46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083D-C7A1-44B9-B546-233B2724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519-49B4-4665-9CF1-69C5E44A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4AE-1453-4FC0-AF2D-5BAA6114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BA0-CC75-40BF-8E64-757C016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42C-86E5-426A-A95A-3D5ABDC7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9F6-F09F-42F9-94C7-A578083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0AE-2463-4BE2-A8F3-4BBE6FB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008-67AA-410C-8766-024D1236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CDBE-9E0C-47A3-8237-DB6D5680C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fon_104_small.jpg"/>
          <p:cNvPicPr/>
          <p:nvPr/>
        </p:nvPicPr>
        <p:blipFill>
          <a:blip r:embed="rId2"/>
          <a:stretch/>
        </p:blipFill>
        <p:spPr>
          <a:xfrm>
            <a:off x="-23760" y="-96840"/>
            <a:ext cx="9264600" cy="709452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0" descr="floral-corner-6647164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4214880"/>
            <a:ext cx="2814480" cy="264312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11" descr="floral-corner-6647164.jpg"/>
          <p:cNvPicPr/>
          <p:nvPr/>
        </p:nvPicPr>
        <p:blipFill>
          <a:blip r:embed="rId4">
            <a:lum contrast="-10000"/>
          </a:blip>
          <a:stretch/>
        </p:blipFill>
        <p:spPr>
          <a:xfrm>
            <a:off x="0" y="0"/>
            <a:ext cx="2406600" cy="228924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2" descr="floral-corner-6647164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6357960" y="4286160"/>
            <a:ext cx="2865240" cy="259740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3" descr="floral-corner-6647164.jpg"/>
          <p:cNvPicPr/>
          <p:nvPr/>
        </p:nvPicPr>
        <p:blipFill>
          <a:blip r:embed="rId6">
            <a:lum bright="-10000"/>
          </a:blip>
          <a:stretch/>
        </p:blipFill>
        <p:spPr>
          <a:xfrm>
            <a:off x="6715080" y="0"/>
            <a:ext cx="2428920" cy="254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6" descr="fon_104_small.jpg"/>
          <p:cNvPicPr/>
          <p:nvPr/>
        </p:nvPicPr>
        <p:blipFill>
          <a:blip r:embed="rId2"/>
          <a:stretch/>
        </p:blipFill>
        <p:spPr>
          <a:xfrm>
            <a:off x="-23760" y="-96840"/>
            <a:ext cx="9264600" cy="7094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floral-corner-6647164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4214880"/>
            <a:ext cx="2814480" cy="2643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floral-corner-6647164.jpg"/>
          <p:cNvPicPr/>
          <p:nvPr/>
        </p:nvPicPr>
        <p:blipFill>
          <a:blip r:embed="rId4">
            <a:lum contrast="-10000"/>
          </a:blip>
          <a:stretch/>
        </p:blipFill>
        <p:spPr>
          <a:xfrm>
            <a:off x="0" y="0"/>
            <a:ext cx="2406600" cy="22892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floral-corner-6647164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6357960" y="4286160"/>
            <a:ext cx="2865240" cy="25974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3" descr="floral-corner-6647164.jpg"/>
          <p:cNvPicPr/>
          <p:nvPr/>
        </p:nvPicPr>
        <p:blipFill>
          <a:blip r:embed="rId6">
            <a:lum bright="-10000"/>
          </a:blip>
          <a:stretch/>
        </p:blipFill>
        <p:spPr>
          <a:xfrm>
            <a:off x="6715080" y="0"/>
            <a:ext cx="2428920" cy="2549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0148-F216-498B-9E4A-C4B9E5DFF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poccuu.com/kulikovskaya-bitva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poccuu.com/stoyanie-na-reke-ugre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133360"/>
            <a:ext cx="68356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История Донского казачества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1187280" y="115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Arial"/>
              </a:rPr>
              <a:t>12 мая 1570 года считается датой основания                              Донского  казачеств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3492360" y="1268280"/>
            <a:ext cx="51832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заки существовали и до этого дня – впервые казаки  упоминаются в летописи под 1444 годом. Но тогда эти казаки были ещё  рязанскими.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Куликовской битв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битва произошла на территории Рязанского княжества. Княжество это находилось на самой границе. Границей же Рязанского княжества как раз и служил Дон. А на Дону жили вольные люди, которых рязанский князь периодически нанимал для охраны границы. Основу Рязанского казачества составили осевшие на Верхнем Дону новгородские ушкуйники – воины из состава добровольных профессиональных дружин созданных в Новгороде для защиты новгородского пограничья и для захвата и освоения новых земель и речных путей.  Сами ушкуйники часто именовали себя потомками варягов-русов, пришедших в Новгород вместе с Рюри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ttp://www.opoccuu.com/kazaki26.jpg"/>
          <p:cNvPicPr/>
          <p:nvPr/>
        </p:nvPicPr>
        <p:blipFill>
          <a:blip r:embed="rId2"/>
          <a:stretch/>
        </p:blipFill>
        <p:spPr>
          <a:xfrm>
            <a:off x="900000" y="1357200"/>
            <a:ext cx="16909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2"/>
          <p:cNvSpPr/>
          <p:nvPr/>
        </p:nvSpPr>
        <p:spPr>
          <a:xfrm>
            <a:off x="2771640" y="476280"/>
            <a:ext cx="603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их военных походах ушкуйники использовали тактику варягов. Воевали казаки вплоть до конца 17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 казаки называли себя станичниками, а словом «казак», означающим одновременно и «беглец», и «вольный человек», их окрестили тюркоязычные ногай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ое прекращение татарских набегов, наступившее после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Стояния на реке Уг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вело к резкому росту численности населения, и рязанским казакам, как и простым рязанским крестьянам, земли перестало хватать, а вниз по Дону земли были никем не заселены, но зато плодородны, степи обильны зверьём, а водоёмы полны рыбой. Туда-то и стали переселяться казаки, которых уже с начала 16 столетия стали называть дон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донские &lt;strong&gt;казак&lt;/strong&gt;и"/>
          <p:cNvPicPr/>
          <p:nvPr/>
        </p:nvPicPr>
        <p:blipFill>
          <a:blip r:embed="rId2"/>
          <a:stretch/>
        </p:blipFill>
        <p:spPr>
          <a:xfrm>
            <a:off x="192240" y="1554120"/>
            <a:ext cx="23637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http://www.opoccuu.com/12050111.jpg"/>
          <p:cNvPicPr/>
          <p:nvPr/>
        </p:nvPicPr>
        <p:blipFill>
          <a:blip r:embed="rId1"/>
          <a:stretch/>
        </p:blipFill>
        <p:spPr>
          <a:xfrm>
            <a:off x="2050920" y="260280"/>
            <a:ext cx="4653000" cy="2952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1332000" y="3500280"/>
            <a:ext cx="638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донской станицей считается станица Раздорская. Именно дата её возникновения и считается отправной точкой в истории Донского казачеств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нское казачество занимало современных Ростовской, а также части Волгоградской, Воронежской, Луганской областей и Калмыкии.. Во время войн у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 выбирался походный атаман с неограниченной властью. Войско делилось на сотни и полусотни, возглавляемые сотниками, пятидесятниками и хорунж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емейный уклад</a:t>
            </a:r>
            <a:br>
              <a:rPr sz="4400"/>
            </a:br>
            <a:r>
              <a:rPr b="1" lang="ru-RU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Воспитание мальч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мальчику исполнялся год его подстригала крёстная, а ряди хранились всю жизнь за именной иконой. Подстриженного мальчика  отец сажал на коня и водил вокруг церкви. Если ребёнок хватался за гриву будет жив в бою. Заплачет, повалится с коня – быть убито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 с 3-5 казачонка приучали к седлу. Обучение было тяжёлым и постоянным. Стрелять учили с 5 лет, рубить шашкой – с 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а воспитывали гораздо строже, чем девочку, его жизнь с раннего детства была заполнена трудом и обучен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 лет мальчонку стригли ритуально второй раз. И он шёл с мужиками в баню. Последний раз ел сладости. Собирал постель и шёл в мужскую половину до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0 лет ребёнок понимал ответственность за семью. Если уезжали старшие оставался за хозя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летние вполне справлялись с лошадьми и волами- боронили, сгребали се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Воспитание дево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 девочки не праздновалось так широко, как рождение мальчика и было тихим, семейным праздни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е внушалось что самое главное- спокойная душа и чистое сердце, а счастье- крепкая сем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рёх месяцев ребёнка никому не показывали. Даже крестить в церковь носили  с укрытым кружевом лиц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и начинали работать очень рано, делая всё, что делает мать-стирали, мыли п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яти лет учились вышивать, шить, вяз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я работа была быть нянькой- трёхлетняя могла нянчить годовалого. А с 5 лет отдавали в няньки «в люд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девочка становилась девушкой по секрету сообщалось деду, тот покупал серебряное колеч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го момента девушка начинала готовить себе приданн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чки пользовались большой свободой- наследовала имущество. Хозяйничала в доме. Женщина мать, вдова получала материальную поддерж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Картинки по запросу донские казаки участвовали в битвах"/>
          <p:cNvPicPr/>
          <p:nvPr/>
        </p:nvPicPr>
        <p:blipFill>
          <a:blip r:embed="rId1"/>
          <a:stretch/>
        </p:blipFill>
        <p:spPr>
          <a:xfrm>
            <a:off x="2771640" y="907920"/>
            <a:ext cx="3384720" cy="2521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360" y="-171720"/>
            <a:ext cx="896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Calibri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468360" y="3594240"/>
            <a:ext cx="62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чему рождение мальчика в казачьей семье было особой радост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250920" y="42940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рождался мальчик, то это считалось прибытком, наделяли земельный участок, а рождение девочки считали убытком, т.к. со временем она уходила из дома и за нее необходимо было дать прида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485640" y="5589720"/>
            <a:ext cx="74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 какого времени женщинам запрещалось ругать казачо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78000" y="595800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семи лет, когда он переходил на мужскую половину дома и по-праву становился защитником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395280" y="33336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акой сын является кормильцем родит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539640" y="979560"/>
            <a:ext cx="58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мильцем родителей был самый младший сын, он не отделялся от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523440" y="162864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Ск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 служил казак в войс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395280" y="1998720"/>
            <a:ext cx="768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ужба начиналась с 18 лет. Служил 20 лет, из них: 4 года в приготовительном отряде готовятся к военной службе в своей станице. Следующие 4 года была действительная военная служба на охране рубежей России. В течение следующих лет казаки ежегодно были на месячных военных сборах, потом в течение 4 лет один раз был на сборах. И последние 4 года был в запасном отряде. Казак отсутствовал всего 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554040" y="4043520"/>
            <a:ext cx="59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900000" y="4043520"/>
            <a:ext cx="59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Что было первыми пеленками для ребе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900000" y="472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выми пеленками для ребенка были отцовские рубахи, они имели обереговое 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197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6. Зачем отцу на крестинах давали есть “горькую кашу”?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76360" y="1268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тец ел кашу и не морщился, чтобы сыну или дочке меньше в жизни досталось горе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7.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Место для строительства нового дома выбиралось при помощи коня. Каким образом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ам, где более других конь ел траву или даже ложился отдохнуть, делали разметку и забивали колышки для до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98989"/>
                </a:solidFill>
                <a:latin typeface="Calibri"/>
              </a:rPr>
              <a:t>8.</a:t>
            </a:r>
            <a:r>
              <a:rPr b="1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Дарили ли мальчикам подар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Совсем не дарили, как напоминание о том, что мужчина не должен ждать подарков, а ему необходимо зарабатывать своим трудом. Девочек же с младенчества задаривали подар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0:59:24Z</dcterms:created>
  <dc:creator>Lenovo</dc:creator>
  <dc:description/>
  <dc:language>en-US</dc:language>
  <cp:lastModifiedBy>Roman</cp:lastModifiedBy>
  <dcterms:modified xsi:type="dcterms:W3CDTF">2016-11-22T13:28:16Z</dcterms:modified>
  <cp:revision>28</cp:revision>
  <dc:subject/>
  <dc:title>Слайд 1</dc:title>
</cp:coreProperties>
</file>