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2A5-21EB-43F4-B0F9-DE3E02D9C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06BD-AD79-43C7-BE87-6A384D5DD4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9713-1248-4329-A339-1E4086BC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87A9-74B9-4AFE-B307-E207ADEE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F750-D5F1-495E-9A54-D6078935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E954-4CCF-4FF2-B8DD-723326C1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D99A-08C1-4B30-9080-98A353C4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3E1-9123-4F17-B0E7-29FCA57C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E6EE-71B2-4354-BE0C-CBC6949E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26EB-A5B7-4299-ABEF-05F03343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455D-5278-458D-8B6C-55E04F6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E407-5EFE-4BA4-88B2-60907F18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CE34-8955-480F-B416-09A0D84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3E7F-343F-4AD4-B276-41F283A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42D3-4F46-43B0-AD6A-37100CB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4921-1BEC-4517-ACB2-F77A056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13BB-594C-46E5-A467-DF234AD9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08E-4461-402D-B58F-8A29058A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A646-324E-45AE-99BD-35DD7293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58A0-673B-4B22-A515-ED0A9FA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C0D4-EF00-4E68-8978-27E4EC3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AA8F-98AD-4D1B-B877-4C3FBC8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F8AC-7C19-4057-9EFF-FA967005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0B93-4D82-43E9-A6A7-49744AA2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CDBA-433F-4058-8669-6027466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0097-F7CE-4527-BAA2-0730121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6295-5EB9-4394-93E5-E88467F79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5200" cy="4571280"/>
            <a:chOff x="914760" y="1219320"/>
            <a:chExt cx="731520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4920" y="1219320"/>
              <a:ext cx="865080" cy="4548600"/>
              <a:chOff x="1114920" y="1219320"/>
              <a:chExt cx="86508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49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500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1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00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0640"/>
              <a:ext cx="7315200" cy="4095000"/>
              <a:chOff x="914760" y="1430640"/>
              <a:chExt cx="7315200" cy="409500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0640"/>
                <a:ext cx="7297200" cy="820080"/>
                <a:chOff x="914760" y="1430640"/>
                <a:chExt cx="7297200" cy="82008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06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042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8600" y="1976040"/>
                  <a:ext cx="72216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000" y="2250720"/>
                  <a:ext cx="72216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200" y="2512440"/>
                <a:ext cx="7295760" cy="820440"/>
                <a:chOff x="934200" y="2512440"/>
                <a:chExt cx="729576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200" y="251244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8000" y="278712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6240" y="305892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160" y="333288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0520"/>
                <a:ext cx="7297200" cy="820440"/>
                <a:chOff x="914760" y="3620520"/>
                <a:chExt cx="729720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052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89556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8600" y="4167000"/>
                  <a:ext cx="72216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000" y="4440960"/>
                  <a:ext cx="72216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200" y="4703760"/>
                <a:ext cx="7295760" cy="821880"/>
                <a:chOff x="934200" y="4703760"/>
                <a:chExt cx="7295760" cy="82188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200" y="470376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8000" y="497772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6240" y="5251680"/>
                  <a:ext cx="72223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160" y="5525640"/>
                  <a:ext cx="72219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4560" y="1243080"/>
              <a:ext cx="865080" cy="4547520"/>
              <a:chOff x="2284560" y="1243080"/>
              <a:chExt cx="86508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45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4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1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9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71120" y="1243080"/>
              <a:ext cx="865080" cy="4547520"/>
              <a:chOff x="3471120" y="1243080"/>
              <a:chExt cx="86508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711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97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784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6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7680" y="1243080"/>
              <a:ext cx="865080" cy="4547520"/>
              <a:chOff x="4657680" y="1243080"/>
              <a:chExt cx="86508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76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63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318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227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4920" y="1243080"/>
              <a:ext cx="863280" cy="4547520"/>
              <a:chOff x="5794920" y="1243080"/>
              <a:chExt cx="86328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49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717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84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8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5200" y="1243080"/>
              <a:ext cx="865080" cy="4547520"/>
              <a:chOff x="6955200" y="1243080"/>
              <a:chExt cx="86508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5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338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94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20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E9FA-A21C-4F14-844C-7A1C4087D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6705720" y="4911840"/>
            <a:ext cx="2338200" cy="1761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883800"/>
            <a:ext cx="73915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ая мотивация как один из способов повышения качества образ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045880" y="240120"/>
            <a:ext cx="57312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и кита учебной мотив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85800" y="995040"/>
            <a:ext cx="81532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щущение самостоятельности поиск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это поняли, узнали, придумали сам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762120" y="2439720"/>
            <a:ext cx="8001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ехника «Проблемные вопрос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80880" y="3049200"/>
            <a:ext cx="87631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ехника «Знаю — не знаю — хочу узн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3733920"/>
          <a:ext cx="8076960" cy="2590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887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031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это знал(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для меня абсолютно н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противоречит тому, что я знал(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хочу об этом узнать побо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2045880" y="240120"/>
            <a:ext cx="57312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и кита учебной мотив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5800" y="995040"/>
            <a:ext cx="81532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щущение самостоятельности поиск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это поняли, узнали, придумали сам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62120" y="2557080"/>
            <a:ext cx="807696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щущение свободы выбор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можем выбирать» («Мы не пешки, у нас есть выбор!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09480" y="4347720"/>
            <a:ext cx="80010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Т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щущение компетентност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меня это получается, я понял, я умею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838080" y="263160"/>
            <a:ext cx="80773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я учебной мотив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718920" y="1906200"/>
            <a:ext cx="7661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перв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пелляция к жизненному опыт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2515680"/>
            <a:ext cx="83818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второй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здание проблем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18560" y="3125160"/>
            <a:ext cx="66668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прием: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подход и деловая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08120" y="3659760"/>
            <a:ext cx="719424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ый прием: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естандартных зад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калку и лог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781200" y="4649400"/>
            <a:ext cx="4781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ый прием: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и конк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772560" y="5336280"/>
            <a:ext cx="704664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й прием: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сканворды, ребу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сочинени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838080" y="482040"/>
            <a:ext cx="8077320" cy="533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ает высокая мотивация учения ребен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уверенности в собственных силах после решения трудной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обственной значим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учителей и свер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сть собой и своими успех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успешного челов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609480" y="245160"/>
            <a:ext cx="6629400" cy="3753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бёнок – не робот, привязанный к книжк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ть и играть должен юный мальчи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чонка не хочет всегда сидеть дома,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проблема всем взрослым знако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сё же ребёнка заставить уч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нижкой упорно весь вечер с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время как может он просто влю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мыслях в другие миры улет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ребёнка ругать бесконе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лучше в нём волю разв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вместе вам надо учиться, конеч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главное – просто ребёнка люби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http://www.playcast.ru/uploads/2015/08/25/14813834.png"/>
          <p:cNvPicPr/>
          <p:nvPr/>
        </p:nvPicPr>
        <p:blipFill>
          <a:blip r:embed="rId1"/>
          <a:stretch/>
        </p:blipFill>
        <p:spPr>
          <a:xfrm>
            <a:off x="5486400" y="3803760"/>
            <a:ext cx="365760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наши замыслы, все поис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роения превращаются в прах, если у ученика нет желания учить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млинский В.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1428840" y="2133720"/>
            <a:ext cx="7562880" cy="44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8002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– это то, что побуждает человека к действию.</a:t>
            </a:r>
            <a:br>
              <a:rPr sz="8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907560"/>
            <a:ext cx="822960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отивац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4800" spc="-1" strike="noStrike">
                <a:solidFill>
                  <a:srgbClr val="b33c00"/>
                </a:solidFill>
                <a:latin typeface="Times New Roman"/>
                <a:ea typeface="Times New Roman"/>
              </a:rPr>
              <a:t>это процессы, методы, средства побуждающие учащихся к продуктивной познавательной деятельности, к активному освоению содержания образов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Цикл мотивации. Потреб- ности. Удовлетворение. Усилия. Вознаграждение. Действие."/>
          <p:cNvPicPr/>
          <p:nvPr/>
        </p:nvPicPr>
        <p:blipFill>
          <a:blip r:embed="rId1"/>
          <a:stretch/>
        </p:blipFill>
        <p:spPr>
          <a:xfrm>
            <a:off x="990720" y="309600"/>
            <a:ext cx="772776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cc"/>
                </a:solidFill>
                <a:latin typeface="Arial"/>
              </a:rPr>
              <a:t>Виды мотив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4088880" y="1066680"/>
            <a:ext cx="863640" cy="12240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4927680" y="1066680"/>
            <a:ext cx="863640" cy="12240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373480" y="220968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знав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135760" y="22050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654960" y="990720"/>
            <a:ext cx="1726920" cy="71892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6675480" y="990720"/>
            <a:ext cx="792000" cy="194292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1473120" y="1125360"/>
            <a:ext cx="1727280" cy="71928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H="1">
            <a:off x="1976400" y="1125360"/>
            <a:ext cx="1224000" cy="1872000"/>
          </a:xfrm>
          <a:prstGeom prst="line">
            <a:avLst/>
          </a:prstGeom>
          <a:ln w="93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6891480" y="1676520"/>
            <a:ext cx="225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правленные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 дости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6494400" y="2819520"/>
            <a:ext cx="257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3b0f"/>
                </a:solidFill>
                <a:latin typeface="Times New Roman"/>
                <a:ea typeface="Times New Roman"/>
              </a:rPr>
              <a:t>Направл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3b0f"/>
                </a:solidFill>
                <a:latin typeface="Times New Roman"/>
                <a:ea typeface="Times New Roman"/>
              </a:rPr>
              <a:t>на избег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3b0f"/>
                </a:solidFill>
                <a:latin typeface="Times New Roman"/>
                <a:ea typeface="Times New Roman"/>
              </a:rPr>
              <a:t>неу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1216800" y="297180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3b0f"/>
                </a:solidFill>
                <a:latin typeface="Times New Roman"/>
                <a:ea typeface="Times New Roman"/>
              </a:rPr>
              <a:t>Внеш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591480" y="1809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нутре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2687760" y="394020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от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амо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5951520" y="3886200"/>
            <a:ext cx="243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о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о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отру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 flipH="1">
            <a:off x="3123720" y="2666880"/>
            <a:ext cx="838440" cy="137160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5961240" y="2666880"/>
            <a:ext cx="668160" cy="129564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учебной мотив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чень высо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есть познавательный мотив, стремление наиболее успешно выполнять все предъявляемые школьные треб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со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учащиеся успешно справляются с 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рм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ожительное отношение к школе, но школа привлекает таких детей вне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ниже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сещают школу неохотно, допускают пропуски зан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чень низк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егативное отношение к школе, школьная дезадап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1676520" y="468360"/>
            <a:ext cx="69339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чинами снижения мотивации, зависящими от учителя,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09480" y="1620720"/>
            <a:ext cx="8153640" cy="423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авильный отбор содержания учебного материала, вызывающий перегрузку уча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ладение учителем современными методами обучения и их оптимальным сочетание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умение строить отношения с учащимися и организовывать взаимодействия школьников друг с дру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обенности личности уч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1447920" y="460440"/>
            <a:ext cx="70102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чинами снижения мотивации, зависящими от ученика,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85800" y="1616760"/>
            <a:ext cx="7924680" cy="3506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зкий уровень знаний: несформированность учебной деятельности, и, прежде всего, приёмов самостоятельного приобретения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ложившиеся отношения с класс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задержки развития, аномальное развит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---</cp:lastModifiedBy>
  <dcterms:modified xsi:type="dcterms:W3CDTF">2016-11-26T07:53:44Z</dcterms:modified>
  <cp:revision>57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