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BE7-61DA-409B-B326-8620E67D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EE0-A58F-4382-8C53-DA34482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7B2-40DA-4678-B527-CAA397F3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54D-C3E6-4567-857D-A782210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8C60-1165-47AA-94CF-79120536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521-799C-47A2-AFFF-4E38F5A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667-BED1-4AC3-A4FD-79AA3C6D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B06-AA6E-49C8-9579-C0C6C438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2FEA-024F-4FFC-8F85-AD71011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EFF5-46AB-4709-AF72-2DF80C4E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952A-F00B-4624-8779-E744E10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A89-ED3D-4E22-9AA3-5D44FC3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4BEC-D021-420C-9B41-10510B6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960C-72F2-480C-B3B5-A451D58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63EB-BE94-4D99-A8CB-5F826563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475-85CB-43EC-BC20-DE35DB6E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381-9384-4381-A9A6-EDF040F8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623-8363-4C8B-ADD9-19A6B9E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4B8-26F0-492F-BD9A-7593B01D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059-FACB-4567-8936-8E1FE48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75E-0564-45D8-9D20-12D85FAF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FE9-DB4B-485C-9543-89980B5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F85-29A3-456C-B23F-FC59D48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527-23F7-4D23-B9AB-98CD537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26E6-51FD-43FA-8645-92A847F7A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C384-56F7-4F8A-B8A3-925865F72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25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ЯДОВИТЫЕ РАСТЕНИЯ КРЫ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01600" y="4584600"/>
            <a:ext cx="66708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3-В класса МОУ школа-гимназия №6 г.Джанкоя Кондратьева Андр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Джанкой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Безвременник</a:t>
            </a:r>
            <a:br>
              <a:rPr sz="1400"/>
            </a:br>
            <a:r>
              <a:rPr b="0" lang="ru-RU" sz="1400" spc="-1" strike="noStrike">
                <a:solidFill>
                  <a:srgbClr val="ffffb7"/>
                </a:solidFill>
                <a:latin typeface="Arial Black"/>
              </a:rPr>
              <a:t>Безвременник, или зимовник (лат. Colchicum) — род растений из семейства безвременниковых</a:t>
            </a:r>
            <a:br>
              <a:rPr sz="1400"/>
            </a:br>
            <a:r>
              <a:rPr b="0" lang="ru-RU" sz="1400" spc="-1" strike="noStrike">
                <a:solidFill>
                  <a:srgbClr val="ffffb7"/>
                </a:solidFill>
                <a:latin typeface="Arial Black"/>
              </a:rPr>
              <a:t>Его можно встретить на лесных полянах горного Крыма. Цветет в конце августа и сентябре. На его тонком стебле появляются б лепестков светло-фиолетового или розового цвета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Безвременник"/>
          <p:cNvPicPr/>
          <p:nvPr/>
        </p:nvPicPr>
        <p:blipFill>
          <a:blip r:embed="rId1"/>
          <a:stretch/>
        </p:blipFill>
        <p:spPr>
          <a:xfrm>
            <a:off x="1619280" y="1844640"/>
            <a:ext cx="6095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b7"/>
                </a:solidFill>
                <a:latin typeface="Arial Black"/>
              </a:rPr>
              <a:t>Дурман обыкновенный</a:t>
            </a:r>
            <a:br>
              <a:rPr sz="1400"/>
            </a:b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Народные названия: Дурман вонючий, водопьян, бешеное зелье, одурь-трава, шальная трава.</a:t>
            </a:r>
            <a:br>
              <a:rPr sz="1400"/>
            </a:br>
            <a:r>
              <a:rPr b="1" lang="ru-RU" sz="1400" spc="-1" strike="noStrike">
                <a:solidFill>
                  <a:srgbClr val="ffffb7"/>
                </a:solidFill>
                <a:latin typeface="Arial Black"/>
              </a:rPr>
              <a:t> Дурман легко узнать: он невысокий, с мягкими, как будто войлочными листьями, у него большие белые цветы, похожие на граммофоны. Дурман в Крыму используют как декоративное растение, несмотря на то, что он очень ядовитый. Еще древние перуанцы знали о его анестезирующих свойствах. Плоды дурмана — зеленые коробочки с шипами. В состав семян и коробочек входят алкалоиды, которые вызывают сильнейшие галлюцинации, нарушение памяти и ориентации в пространстве.</a:t>
            </a:r>
            <a:br>
              <a:rPr sz="40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Дурман обыкновенный"/>
          <p:cNvPicPr/>
          <p:nvPr/>
        </p:nvPicPr>
        <p:blipFill>
          <a:blip r:embed="rId1"/>
          <a:stretch/>
        </p:blipFill>
        <p:spPr>
          <a:xfrm>
            <a:off x="2340000" y="2133720"/>
            <a:ext cx="44402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b7"/>
                </a:solidFill>
                <a:latin typeface="Arial Black"/>
              </a:rPr>
              <a:t>Ясенец (Купина неопалимая)</a:t>
            </a:r>
            <a:br>
              <a:rPr sz="1400"/>
            </a:br>
            <a:r>
              <a:rPr b="1" lang="en-US" sz="1400" spc="-1" strike="noStrike">
                <a:solidFill>
                  <a:srgbClr val="ffffb7"/>
                </a:solidFill>
                <a:latin typeface="Arial Black"/>
              </a:rPr>
              <a:t>Летом ясенец можно отличить по розоватым небольшим цветкам. Уметь отличать этот кустик очень важно. Он может попасться в лесу или на поляне, когда вы пойдете в поход. Обходите его стороной: ясенец жжется так, что никакая крапива ему в подметки не годится. Рубцы и пятна остаются на год!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Ясенец (Купина неопалимая)"/>
          <p:cNvPicPr/>
          <p:nvPr/>
        </p:nvPicPr>
        <p:blipFill>
          <a:blip r:embed="rId1"/>
          <a:stretch/>
        </p:blipFill>
        <p:spPr>
          <a:xfrm>
            <a:off x="2340000" y="1844640"/>
            <a:ext cx="4608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Белена</a:t>
            </a:r>
            <a:br>
              <a:rPr sz="4000"/>
            </a:br>
            <a:r>
              <a:rPr b="0" lang="ru-RU" sz="1400" spc="-1" strike="noStrike">
                <a:solidFill>
                  <a:srgbClr val="ffffb7"/>
                </a:solidFill>
                <a:latin typeface="Arial Black"/>
              </a:rPr>
              <a:t>Белена, блекота, бешеная трава, бешенница, зубник, короста (лат. Hyoscyamus niger) — двулетнее травянистое растение из семейства паслёновых</a:t>
            </a:r>
            <a:br>
              <a:rPr sz="1400"/>
            </a:br>
            <a:r>
              <a:rPr b="0" lang="ru-RU" sz="1400" spc="-1" strike="noStrike">
                <a:solidFill>
                  <a:srgbClr val="ffffb7"/>
                </a:solidFill>
                <a:latin typeface="Arial Black"/>
              </a:rPr>
              <a:t>В «Сказке о рыбаке и рыбке» старик восклицает: «Что ты, баба, белены объелась?» (когда его вздорная старуха захотела стать царицей). Да уж, белену есть не стоит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Белена"/>
          <p:cNvPicPr/>
          <p:nvPr/>
        </p:nvPicPr>
        <p:blipFill>
          <a:blip r:embed="rId1"/>
          <a:stretch/>
        </p:blipFill>
        <p:spPr>
          <a:xfrm>
            <a:off x="2195640" y="1916280"/>
            <a:ext cx="48006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2T17:13:07Z</dcterms:created>
  <dc:creator>Елизавета</dc:creator>
  <dc:description/>
  <dc:language>en-US</dc:language>
  <cp:lastModifiedBy>Елизавета</cp:lastModifiedBy>
  <dcterms:modified xsi:type="dcterms:W3CDTF">2016-11-12T17:45:04Z</dcterms:modified>
  <cp:revision>3</cp:revision>
  <dc:subject/>
  <dc:title>ЯДОВИТЫЕ РАСТЕНИЯ КРЫМА</dc:title>
</cp:coreProperties>
</file>