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51AC6C-AB31-4C51-99FA-EC0C21AB4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B861BE-E188-449E-B902-2E4912E3392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B88657-3C44-4945-A8AF-563882EF02F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CD1803-B292-4200-A173-8AB9CEE791E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00EE80-C81A-4AB7-8378-F3C764306DB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A9C1A1-9B76-40A2-8C00-DF4C62F7CA9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316-C14D-4273-A8B0-AFD5AC91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1A7-D626-4F39-BB3E-0B25E402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49F-B2F1-4F28-9678-9DCCA5CE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A6B-2853-4209-AF2F-E09D9FDD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52A0-2CCD-4730-AC06-D3960957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AC20-9F84-4DB2-92BE-337D19BE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BE7B-071A-4A30-AE16-45ECCD8D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BC12-1E94-4E3A-8970-B6311DB5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43F5-41D2-46E0-BF3C-3513B6C0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0C6C-79D5-460F-95D2-46FA47A6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D931-F146-4524-9891-8B7564DF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2E6-B58A-4E47-B0F6-8865609A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AD06-E587-47D2-912A-FB57BEF9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C8BC-8307-44BF-A944-0C604436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CCA6-908B-4CE0-8B4D-55DB64B5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3467-FA5E-4544-B9F8-9575E227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FDEA-EFD1-4E98-9E0C-A7AE5984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70EC8-3A66-437B-B29D-A018130D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5BD31-B207-46FD-B110-8DAD9D10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CC63F-1DE6-4E76-9304-63A33324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138CB-C876-422C-A1C3-895440EE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A238-0EE4-44CE-BA0C-48B8C24E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B21-9452-4DB8-A91D-631899E1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1E17-8313-4011-A20D-86E5C0ED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65E0E-63B8-4E35-8DAC-4FE6C2B8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7CC56-F13E-4C21-865A-EFB397B4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A027B-44A4-481E-8885-C6B266D1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BF9C7-CAC7-4A2E-97A5-751C69FE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649EE-48FF-4384-9B71-CB05F546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8CDCE-99E4-491F-BC1A-DB0E1335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026-9E44-44F4-BE06-D49DCBC2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7DC-DC82-4F2B-9289-95D25554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EA2-D5A5-4AE6-9CFD-07970A91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B3C-CF9C-43C5-97FF-DA7560C2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EFE-FD5C-433A-80C2-B1F9381F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E95-A9B7-4644-BCB4-84C1A2A8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1ec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72167A-CF93-4BA5-885B-A97960A8778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1ec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513834-23BE-44E2-8908-59102B010CE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1ec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5915AC-CBA0-4428-B807-7FE6EE1D596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mathb-ege.sdamgia.ru/test?a=catlistwstat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  <a:ea typeface="AR StdMingti Bold B5"/>
              </a:rPr>
              <a:t>Задания В2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8b8b8b"/>
                </a:solidFill>
                <a:latin typeface="Calibri"/>
              </a:rPr>
              <a:t>Чтение графиков и диа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AN00790_"/>
          <p:cNvPicPr/>
          <p:nvPr/>
        </p:nvPicPr>
        <p:blipFill>
          <a:blip r:embed="rId1"/>
          <a:stretch/>
        </p:blipFill>
        <p:spPr>
          <a:xfrm>
            <a:off x="214200" y="695160"/>
            <a:ext cx="1999800" cy="2085480"/>
          </a:xfrm>
          <a:prstGeom prst="rect">
            <a:avLst/>
          </a:prstGeom>
          <a:ln w="9525">
            <a:noFill/>
          </a:ln>
        </p:spPr>
      </p:pic>
      <p:sp>
        <p:nvSpPr>
          <p:cNvPr id="132" name="TextBox 4"/>
          <p:cNvSpPr/>
          <p:nvPr/>
        </p:nvSpPr>
        <p:spPr>
          <a:xfrm>
            <a:off x="6072120" y="214200"/>
            <a:ext cx="2428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ГЭ 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786280" y="5857920"/>
            <a:ext cx="28573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Работу подгото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Коваленко Ирина Анатольевна, учитель математики школы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города Стародуба Брян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диаграмме показано количество посетителей сайта РИА Новости во все дни с 10 по 29 ноября 2009 года. По горизонтали указываются дни месяца, по вертикали — количество посетителей сайта за данный день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ределите по диаграмме, во сколько раз наибольшее количество посетителей больше, чем наименьшее количество посетителей за день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857240" y="2143080"/>
            <a:ext cx="5077080" cy="3980520"/>
          </a:xfrm>
          <a:prstGeom prst="rect">
            <a:avLst/>
          </a:prstGeom>
          <a:ln w="3810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вый посев семян петрушки рекомендуется проводить в апреле при дневной температуре воздуха не менее 6°С. На рисунке показан прогноз дневной температуры воздуха в первых трех неделях апреля. Определите, в течение скольких дней за этот период можно производить посев петрушк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2" descr="diagnos.21"/>
          <p:cNvPicPr/>
          <p:nvPr/>
        </p:nvPicPr>
        <p:blipFill>
          <a:blip r:embed="rId1"/>
          <a:stretch/>
        </p:blipFill>
        <p:spPr>
          <a:xfrm>
            <a:off x="1857240" y="1857240"/>
            <a:ext cx="5686200" cy="3152520"/>
          </a:xfrm>
          <a:prstGeom prst="rect">
            <a:avLst/>
          </a:prstGeom>
          <a:ln w="3810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1320" y="9288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графике, изображенном на рисунке, представлено изменение биржевой стоимости акций нефтедобывающей компании в первые две недели сентября. 3 сентября бизнесмен приобрел 10 акций этой компании. Шесть из них он продал 10 сентября, а 12 сентября продал остальные 4. Сколько рублей потерял бизнесмен в результате этих операций?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2" descr="diagnos.51"/>
          <p:cNvPicPr/>
          <p:nvPr/>
        </p:nvPicPr>
        <p:blipFill>
          <a:blip r:embed="rId1"/>
          <a:stretch/>
        </p:blipFill>
        <p:spPr>
          <a:xfrm>
            <a:off x="1714320" y="2714760"/>
            <a:ext cx="5686200" cy="3028680"/>
          </a:xfrm>
          <a:prstGeom prst="rect">
            <a:avLst/>
          </a:prstGeom>
          <a:ln w="3810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графике, изображенном на рисунке, представлено изменение биржевой стоимости акций горнодобывающей компании в первой половине сентября. 7 сентября бизнесмен купил пакет акций, а 13 сентября продал его. В результате этих операций прибыль бизнесмена составила 3600 рублей. Сколько акций было в пакете?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2" descr="diagnos.91"/>
          <p:cNvPicPr/>
          <p:nvPr/>
        </p:nvPicPr>
        <p:blipFill>
          <a:blip r:embed="rId1"/>
          <a:stretch/>
        </p:blipFill>
        <p:spPr>
          <a:xfrm>
            <a:off x="1785960" y="2786040"/>
            <a:ext cx="6286320" cy="3328560"/>
          </a:xfrm>
          <a:prstGeom prst="rect">
            <a:avLst/>
          </a:prstGeom>
          <a:ln w="3810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7120" y="5643720"/>
            <a:ext cx="8643600" cy="49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4000"/>
          </a:bodyPr>
          <a:p>
            <a:pPr indent="0">
              <a:lnSpc>
                <a:spcPct val="100000"/>
              </a:lnSpc>
              <a:buNone/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Определите по рисунку наибольшую среднемесячную цену нефти в период с ноября 2008 по июль 2009 года (в долларах за баррель)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286160" y="142920"/>
            <a:ext cx="4714560" cy="3670200"/>
          </a:xfrm>
          <a:prstGeom prst="rect">
            <a:avLst/>
          </a:prstGeom>
          <a:ln w="28575">
            <a:solidFill>
              <a:srgbClr val="00b050"/>
            </a:solidFill>
            <a:miter/>
          </a:ln>
        </p:spPr>
      </p:pic>
      <p:sp>
        <p:nvSpPr>
          <p:cNvPr id="160" name="TextBox 3"/>
          <p:cNvSpPr/>
          <p:nvPr/>
        </p:nvSpPr>
        <p:spPr>
          <a:xfrm>
            <a:off x="285840" y="285840"/>
            <a:ext cx="40716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рисунке жирными точками показана среднемесячная цена нефти с сентября 2007 по август 2009 года. По горизонтали указываются месяцы, по вертикали — цена барреля нефти в долларах США. Для наглядности жирные точки на рисунке соединены лини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357120" y="2928960"/>
            <a:ext cx="34286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285840" y="2571840"/>
            <a:ext cx="3142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1. Определите по рисунку, какой была среднемесячная цена нефти в мае 2009 года (в долларах за барре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357120" y="3714840"/>
            <a:ext cx="3785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2. Определите по рисунку, сколько было таких месяцев, когда среднемесячная цена нефти была больше 100 долларов за барр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4286160" y="3929040"/>
            <a:ext cx="457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3. Определите по рисунку, во сколько раз наибольшая среднемесячная цена нефти за указанный период превосходила ее наименьшую среднемесячную ц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285840" y="5072040"/>
            <a:ext cx="8643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Определите по рисунку наименьшую среднемесячную цену нефти в период с ноября 2007 по сентябрь 2008 года (в долларах за барре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диаграмме показано распределение выплавки цинка (в тысячах тонн) в 11 странах мира за 2009 год. Среди представленных стран первое место по выплавке цинка занимало Марокко, одиннадцатое место — Болгария. Какое место занимала Греция?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0" y="2160"/>
            <a:ext cx="248040" cy="39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https://mathb-ege.sdamgia.ru/get_file?id=13417"/>
          <p:cNvPicPr/>
          <p:nvPr/>
        </p:nvPicPr>
        <p:blipFill>
          <a:blip r:embed="rId1"/>
          <a:stretch/>
        </p:blipFill>
        <p:spPr>
          <a:xfrm>
            <a:off x="1214280" y="2500200"/>
            <a:ext cx="6915600" cy="24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240" cy="21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таблице приведены размеры штрафов за превышение максимальной разрешённой скорости, зафиксированное с помощью средств автоматической фиксации, установленных на территории России с 1 сентября 2013 года. Какой штраф должен заплатить владелец автомобиля, зафиксированная скорость которого составила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195 км/ч на участке дороги с максимальной разрешённой скоростью 110 км/ч?</a:t>
            </a:r>
            <a:br>
              <a:rPr sz="2200"/>
            </a:b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Таблица 2"/>
          <p:cNvGraphicFramePr/>
          <p:nvPr/>
        </p:nvGraphicFramePr>
        <p:xfrm>
          <a:off x="928800" y="2428920"/>
          <a:ext cx="7143480" cy="3214440"/>
        </p:xfrm>
        <a:graphic>
          <a:graphicData uri="http://schemas.openxmlformats.org/drawingml/2006/table">
            <a:tbl>
              <a:tblPr/>
              <a:tblGrid>
                <a:gridCol w="2747520"/>
                <a:gridCol w="1098720"/>
                <a:gridCol w="1098720"/>
                <a:gridCol w="1098720"/>
                <a:gridCol w="1098720"/>
              </a:tblGrid>
              <a:tr h="160704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вышение скорости, км/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—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— 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 — 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 и 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7040"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мер штрафа,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040" y="-142920"/>
            <a:ext cx="822924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оревнованиях по метанию молота участники показали следующие результаты: места распределяются по результатам лучшей попытки каждого спортсмена: чем дальше он метнул молот, тем лучше. Каков результат лучшей попытки (в метрах) спортсмена, занявшего второе место?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Таблица 2"/>
          <p:cNvGraphicFramePr/>
          <p:nvPr/>
        </p:nvGraphicFramePr>
        <p:xfrm>
          <a:off x="642960" y="1643040"/>
          <a:ext cx="7786440" cy="4285800"/>
        </p:xfrm>
        <a:graphic>
          <a:graphicData uri="http://schemas.openxmlformats.org/drawingml/2006/table">
            <a:tbl>
              <a:tblPr/>
              <a:tblGrid>
                <a:gridCol w="1643040"/>
                <a:gridCol w="928440"/>
                <a:gridCol w="1071360"/>
                <a:gridCol w="1000080"/>
                <a:gridCol w="1143000"/>
                <a:gridCol w="1000080"/>
                <a:gridCol w="1000080"/>
              </a:tblGrid>
              <a:tr h="949680">
                <a:tc rowSpan="2"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ортс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 gridSpan="6"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 попытки,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н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лих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в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плицы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На игре КВН судьи поставили следующие оценки командам за конкурсы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Для каждой команды баллы по всем конкурсам суммируются, победителем считается команда, набравшая в сумме наибольшее количество баллов. Какое место заняла команда «Шумы»?</a:t>
            </a:r>
            <a:br>
              <a:rPr sz="22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Таблица 2"/>
          <p:cNvGraphicFramePr/>
          <p:nvPr/>
        </p:nvGraphicFramePr>
        <p:xfrm>
          <a:off x="642960" y="1643040"/>
          <a:ext cx="7929360" cy="4312800"/>
        </p:xfrm>
        <a:graphic>
          <a:graphicData uri="http://schemas.openxmlformats.org/drawingml/2006/table">
            <a:tbl>
              <a:tblPr/>
              <a:tblGrid>
                <a:gridCol w="1785600"/>
                <a:gridCol w="2071440"/>
                <a:gridCol w="2089440"/>
                <a:gridCol w="1982160"/>
              </a:tblGrid>
              <a:tr h="226260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ан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аллы за кон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Приветстви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аллы за конкурс«СТЭ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 музык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</a:tr>
              <a:tr h="47016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АТО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Шум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Топчан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Лёлек и Боле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24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таблице показано распределение медалей на зимних Олимпийских играх в Сочи среди стран, занявших первые 10 мест по количеству золотых медалей.</a:t>
            </a:r>
            <a:br>
              <a:rPr sz="20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 Определите с помощью таблицы, сколько всего медалей у страны, занявшей четвёртое место по числу золотых медалей.</a:t>
            </a:r>
            <a:br>
              <a:rPr sz="8000"/>
            </a:b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Таблица 2"/>
          <p:cNvGraphicFramePr/>
          <p:nvPr/>
        </p:nvGraphicFramePr>
        <p:xfrm>
          <a:off x="428760" y="1928880"/>
          <a:ext cx="8357760" cy="4713840"/>
        </p:xfrm>
        <a:graphic>
          <a:graphicData uri="http://schemas.openxmlformats.org/drawingml/2006/table">
            <a:tbl>
              <a:tblPr/>
              <a:tblGrid>
                <a:gridCol w="1143000"/>
                <a:gridCol w="1643040"/>
                <a:gridCol w="1392840"/>
                <a:gridCol w="1392840"/>
                <a:gridCol w="1392840"/>
                <a:gridCol w="1392840"/>
              </a:tblGrid>
              <a:tr h="403560">
                <a:tc rowSpan="2"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 rowSpan="2"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а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 gridSpan="4"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д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ребря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онз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</a:tr>
              <a:tr h="33984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ве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дерлан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вейца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ору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рисунке жирными точками показано суточное количество осадков, выпадавших в Казани с 3 по 15 февраля 1909 года. По горизонтали указываются числа месяца, по вертикали — количество осадков, выпавших в соответствующий день, в миллиметрах. Для наглядности жирные точки на рисунке соединены линией. Определите по рисунку, какого числа впервые выпало 5 миллиметров осадков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928880" y="2466000"/>
            <a:ext cx="5000400" cy="3148920"/>
          </a:xfrm>
          <a:prstGeom prst="rect">
            <a:avLst/>
          </a:prstGeom>
          <a:ln w="3810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ная литератур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щенко И.В., ШестаковС.А, Захаров П.И. «Подготовка к ЕГЭ по математике 2016г.»-М.:МЦНМО,2016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редакцией Семенова А.Л. «ЕГЭ: 4000 задач с ответами. Все задания группы В»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285840" y="4857840"/>
            <a:ext cx="83577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тернет-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mathb-ege.sdamgia.ru/test?a=catlistw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рисунке жирными точками показана цена нефти на момент закрытия биржевых торгов во все рабочие дни с 17 по 31 августа 2004 года. По горизонтали указываются числа месяца, по вертикали — цена барреля нефти в долларах США. Для наглядности жирные точки на рисунке соединены линией. Определите по рисунку наименьшую цену нефти на момент закрытия торгов в указанный период (в долларах США за баррель)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785960" y="2428920"/>
            <a:ext cx="5357520" cy="3373920"/>
          </a:xfrm>
          <a:prstGeom prst="rect">
            <a:avLst/>
          </a:prstGeom>
          <a:ln w="3810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рисунке жирными точками показана цена никеля на момент закрытия биржевых торгов во все рабочие дни с 6 по 20 мая 2009 года. По горизонтали указываются числа месяца, по вертикали — цена тонны никеля в долларах США. Для наглядности жирные точки на рисунке соединены линией. Определите по рисунку разность между  наибольшей и наименьшей  ценой никеля на момент закрытия торгов в указанный период (в долларах США за тонну)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5214600" cy="3291840"/>
          </a:xfrm>
          <a:prstGeom prst="rect">
            <a:avLst/>
          </a:prstGeom>
          <a:ln w="3810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графике показано изменение напряжения на батарейке (в вольтах) в зависимости от времени ее использования. Известно, что некоторый прибор работает только при напряжении, большем </a:t>
            </a:r>
            <a:r>
              <a:rPr b="1" lang="ru-RU" sz="2000" spc="-1" strike="noStrike" cap="small">
                <a:solidFill>
                  <a:srgbClr val="000000"/>
                </a:solidFill>
                <a:latin typeface="Calibri"/>
              </a:rPr>
              <a:t>0,9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. Сколько часов проработает прибор на данной батарейке?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71800" y="1928880"/>
            <a:ext cx="5143320" cy="3830400"/>
          </a:xfrm>
          <a:prstGeom prst="rect">
            <a:avLst/>
          </a:prstGeom>
          <a:ln w="3810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диаграмме показана среднемесячная температура воздуха в Нижнем Новгороде (Горьком) за каждый месяц 1994 года. По горизонтали указываются месяцы, по вертикали - температура в градусах Цельсия. Определите по диаграмме наименьшую среднемесячную температуру в 1994 году. Ответ дайте в градусах Цельсия.</a:t>
            </a:r>
            <a:br>
              <a:rPr sz="2000"/>
            </a:br>
            <a:br>
              <a:rPr sz="18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787400" y="1714320"/>
            <a:ext cx="5253120" cy="4571640"/>
          </a:xfrm>
          <a:prstGeom prst="rect">
            <a:avLst/>
          </a:prstGeom>
          <a:ln w="3810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диаграмме показана среднемесячная температура воздуха в Минске за каждый месяц 2003 года. По горизонтали указываются месяцы, по вертикали - температура в градусах Цельсия. Определите по диаграмме, сколько было месяцев, когда среднемесячная температура была отрицательной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805400" y="1500120"/>
            <a:ext cx="5313600" cy="4928760"/>
          </a:xfrm>
          <a:prstGeom prst="rect">
            <a:avLst/>
          </a:prstGeom>
          <a:ln w="3810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диаграмме показана среднемесячная температура воздуха в Симферополе за каждый месяц 1988 года. По горизонтали указываются месяцы, по вертикали - температура в градусах Цельсия. Определите по диаграмме, сколько было месяцев, когда среднемесячная температура превышала 20 градусов Цельсия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286000" y="2071800"/>
            <a:ext cx="4357440" cy="3650040"/>
          </a:xfrm>
          <a:prstGeom prst="rect">
            <a:avLst/>
          </a:prstGeom>
          <a:ln w="3810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диаграмме показано количество посетителей сайта РИА Новости во все дни с 10 по 29 ноября 2009 года. По горизонтали указываются дни месяца, по вертикали — количество посетителей сайта за данный день. Определите по диаграмме, какого числа количество посетителей сайта РИА Новости было наименьшим за указанный период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881360" y="1753560"/>
            <a:ext cx="5381280" cy="4219200"/>
          </a:xfrm>
          <a:prstGeom prst="rect">
            <a:avLst/>
          </a:prstGeom>
          <a:ln w="3810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  <Words>1065</Words>
  <Paragraphs>18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8:11:26Z</dcterms:created>
  <dc:creator>Admin</dc:creator>
  <dc:description/>
  <dc:language>en-US</dc:language>
  <cp:lastModifiedBy>админ</cp:lastModifiedBy>
  <dcterms:modified xsi:type="dcterms:W3CDTF">2016-11-26T20:29:37Z</dcterms:modified>
  <cp:revision>26</cp:revision>
  <dc:subject/>
  <dc:title>Задания В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Экран (4:3)</vt:lpwstr>
  </property>
  <property fmtid="{D5CDD505-2E9C-101B-9397-08002B2CF9AE}" pid="4" name="Slides">
    <vt:r8>20</vt:r8>
  </property>
</Properties>
</file>