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gif" ContentType="image/gif"/>
  <Override PartName="/ppt/media/image3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6879-001E-45D3-8E89-EEB66B1C67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1AE3-2341-4EDC-AAC2-0B527F69DF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FADD-5628-491C-8D28-80D9AAB3F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E8F2-F88C-4500-BEEC-A70B5376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84B9-A846-4AEC-9C00-961782F51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CB4E-3F5D-4F1E-B21C-38CC2AC2E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AB93-2EFD-4026-895D-4C7AE509E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E4DDD-4A60-458F-B4F1-CE6A92E1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D01F-6DC0-4DE8-8766-F67E6D84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4244-3F72-42D4-8293-9D735287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F99F-39F8-45FE-B121-6A4A9BCA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FD40-3B48-4236-B509-A9FE1B84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AEF5-B7DD-4E50-B819-E1B86DBF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B31E-2616-4532-93BC-6E78E3EA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22600-AD4A-440B-92F5-3A8BB505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7AF8-E399-490F-B628-5987BC35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4F3A-499E-46BE-B3AD-4854127D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7CEC-C877-408F-98FA-CF7BF0399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E814-A149-455A-AF50-31F28AD82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429EB-F3CD-4880-ACB7-A23E3CEFE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AB01F-91CD-44F7-A9AE-847B87AD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9C245-56F7-4CA0-8805-7DD7B5E3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74BBF-ED89-487B-A5B8-3EBDD0D6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C8599-B340-4482-87C9-7D637F8A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DAFD-3CCF-410A-A10C-6841E5F5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B14E7-05B0-4F02-8DFF-DF3D9684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BBDC0-F1C3-42C0-8979-9862379D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227D4-DEF3-4846-BCF8-0244F350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DC20B-1A19-49C3-BCBB-B3E84A34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8813F-4DE3-419D-AB97-2D509BD2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AB699-E854-4522-829D-5C507DE0D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E3EFF-61D1-4667-9299-99B3A02B0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83121-CAEF-419D-86CA-062233698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0AB2E-113A-4E1A-B0B6-512C97BC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FD507-A14E-42EB-84E7-B82B5240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5E04-028E-48ED-B2EE-FCA202B7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9D52E-F05D-484A-BA51-C89E1E45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C8756-EC0A-4C9F-BFA6-548A9FEA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5ED72-45FD-4847-AB62-DCF929E5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D3576-C7E8-470B-BFBB-FC38D62F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33579-0E48-4519-A4CA-47086F07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94761-2CDB-429D-9E78-1A356DC6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AE356-253D-426F-A8CF-4DFE89CF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7793F-E1CA-4BCB-B6FA-628B254EE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19188-A3F3-497C-8095-ADB0F70FF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2E92-4185-4D7B-A664-B17C7F04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51FF-220A-4560-A8AD-CC420F2C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86EE-E60E-446E-93CF-6EE8B696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38A1-75E6-4142-9E54-C2F21CE3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E5B5-6C9B-4C76-8219-C0358675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a566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E070-D503-416D-973E-B6CA6C182679}" type="slidenum">
              <a:rPr b="0" lang="ru-RU" sz="1200" spc="-1" strike="noStrike">
                <a:solidFill>
                  <a:srgbClr val="4a566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e1f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e1f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e1f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B166-BAFD-4BAC-AD2C-FDF010A23F9D}" type="slidenum">
              <a:rPr b="0" lang="ru-RU" sz="1200" spc="-1" strike="noStrike">
                <a:solidFill>
                  <a:srgbClr val="cce1f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e1f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e1f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e1f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E8A0-8C7A-4347-A6C3-85925D6B81A1}" type="slidenum">
              <a:rPr b="0" lang="ru-RU" sz="1200" spc="-1" strike="noStrike">
                <a:solidFill>
                  <a:srgbClr val="cce1f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a566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6E59-0762-4D1B-BF9F-6E63E872D78A}" type="slidenum">
              <a:rPr b="0" lang="ru-RU" sz="1200" spc="-1" strike="noStrike">
                <a:solidFill>
                  <a:srgbClr val="4a566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54960" cy="2011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4" descr="04_zst"/>
          <p:cNvPicPr/>
          <p:nvPr/>
        </p:nvPicPr>
        <p:blipFill>
          <a:blip r:embed="rId2"/>
          <a:stretch/>
        </p:blipFill>
        <p:spPr>
          <a:xfrm>
            <a:off x="420840" y="3243240"/>
            <a:ext cx="287172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C:\Documents and Settings\Валентина\Рабочий стол\A18-3.png"/>
          <p:cNvPicPr/>
          <p:nvPr/>
        </p:nvPicPr>
        <p:blipFill>
          <a:blip r:embed="rId1"/>
          <a:srcRect l="0" t="0" r="127" b="44232"/>
          <a:stretch/>
        </p:blipFill>
        <p:spPr>
          <a:xfrm>
            <a:off x="179280" y="0"/>
            <a:ext cx="88567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C:\Documents and Settings\Валентина\Рабочий стол\A18-3.png"/>
          <p:cNvPicPr/>
          <p:nvPr/>
        </p:nvPicPr>
        <p:blipFill>
          <a:blip r:embed="rId1"/>
          <a:srcRect l="0" t="0" r="561" b="91418"/>
          <a:stretch/>
        </p:blipFill>
        <p:spPr>
          <a:xfrm>
            <a:off x="684360" y="0"/>
            <a:ext cx="8135640" cy="1295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C:\Documents and Settings\Валентина\Рабочий стол\A18-3.png"/>
          <p:cNvPicPr/>
          <p:nvPr/>
        </p:nvPicPr>
        <p:blipFill>
          <a:blip r:embed="rId2"/>
          <a:srcRect l="0" t="56320" r="561" b="0"/>
          <a:stretch/>
        </p:blipFill>
        <p:spPr>
          <a:xfrm>
            <a:off x="684360" y="1268280"/>
            <a:ext cx="813564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лгоритм разбор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редели часть речи, задав к слову вопрос. </a:t>
            </a: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Помни!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 самостоятельным частям речи можно задать вопрос, к служебным – нет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зависимости от части речи вспомни правил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C:\Users\Андрей\Pictures\Мои рисунки\ЕГЭ, ГИА\0_b4175_e1979a89_L.png"/>
          <p:cNvPicPr/>
          <p:nvPr/>
        </p:nvPicPr>
        <p:blipFill>
          <a:blip r:embed="rId1"/>
          <a:stretch/>
        </p:blipFill>
        <p:spPr>
          <a:xfrm>
            <a:off x="1676520" y="-12600"/>
            <a:ext cx="5383080" cy="5850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C:\Users\Андрей\Pictures\Мои рисунки\ЕГЭ, ГИА\6.jpg"/>
          <p:cNvPicPr/>
          <p:nvPr/>
        </p:nvPicPr>
        <p:blipFill>
          <a:blip r:embed="rId2"/>
          <a:stretch/>
        </p:blipFill>
        <p:spPr>
          <a:xfrm>
            <a:off x="-36360" y="-30240"/>
            <a:ext cx="1523880" cy="20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5"/>
          <p:cNvSpPr/>
          <p:nvPr/>
        </p:nvSpPr>
        <p:spPr>
          <a:xfrm>
            <a:off x="380880" y="2895480"/>
            <a:ext cx="82296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1"/>
          <p:cNvSpPr/>
          <p:nvPr/>
        </p:nvSpPr>
        <p:spPr>
          <a:xfrm>
            <a:off x="-76320" y="708120"/>
            <a:ext cx="92203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3. Определите  предложение,  в  котором  оба  выделенных  слова  пишутся  СЛИТНО. Раскройте скобки и выпишите эти два сло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(ЗА)ЧАСТУЮ  мы  даже  не  представляем,  (НА)СКОЛЬКО  человеку   важ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онять, что является для него в жизни главным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Ни  громоотводы,  ни  вечный  двигатель  городу  Калинову  не  нужны, ПОТОМУ(ЧТО)  всему  этому  (ПО)ПРОСТУ  нет  места  в  патриархальном мире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Можно  (ПО)РАЗНОМУ  объяснить  сцену  словесного  поединка  Базарова  и Павла Петровича, и (ПО)НАЧАЛУ может показаться, что прав нигилист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ЧТО(БЫ)  вернуть  Радищева  современному  читателю,  необходим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опытаться беспристрастно оценить его философские взгляды, ТАК(ЖЕ) как  и литературное творчество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(ПО)ВИДИМОМУ,  Боттичелли  был  учеником  известного  живопис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Филиппе  Липпи,  а  ТАК(ЖЕ)  флорентийского  живописца  и  скульптора  Андреа Веррокки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C:\Users\Андрей\Pictures\Мои рисунки\ЕГЭ, ГИА\6.jpg"/>
          <p:cNvPicPr/>
          <p:nvPr/>
        </p:nvPicPr>
        <p:blipFill>
          <a:blip r:embed="rId1"/>
          <a:stretch/>
        </p:blipFill>
        <p:spPr>
          <a:xfrm>
            <a:off x="-36360" y="-66600"/>
            <a:ext cx="1066680" cy="150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30"/>
          <p:cNvSpPr/>
          <p:nvPr/>
        </p:nvSpPr>
        <p:spPr>
          <a:xfrm>
            <a:off x="0" y="456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1"/>
          <p:cNvSpPr/>
          <p:nvPr/>
        </p:nvSpPr>
        <p:spPr>
          <a:xfrm>
            <a:off x="0" y="1371600"/>
            <a:ext cx="8696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А)КОНЕЦ мне удалось поймать (ТОТ)ЧАС, когда лучи солнца начинают насквозь пронизывать л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тор согласился быть моим секундантом, я дал ему ТАК(ЖЕ) несколько наставлений (НА)СЧЁТ условий поеди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жики можно собирать как осенью, так и (В)ТЕЧЕНИЕ лета: всё зависит (ОТ)ТОГО, какое лет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владел языком ТАК(ЖЕ) легко, как люди владеют своим голосом, (ПО)ТОМУ что учился языку у простых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й друг, так(же) как и я, долго выбирал, что(бы) ему почит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1"/>
          <p:cNvSpPr/>
          <p:nvPr/>
        </p:nvSpPr>
        <p:spPr>
          <a:xfrm>
            <a:off x="19080" y="41400"/>
            <a:ext cx="8896320" cy="1191240"/>
          </a:xfrm>
          <a:prstGeom prst="rect">
            <a:avLst/>
          </a:prstGeom>
          <a:noFill/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3-2. Определите  предложение,  в  котором  оба  выделенных  слова  пишутся  СЛИТНО. Раскройте скобки и выпишите эти два сл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5"/>
          <p:cNvSpPr/>
          <p:nvPr/>
        </p:nvSpPr>
        <p:spPr>
          <a:xfrm>
            <a:off x="3809880" y="6172200"/>
            <a:ext cx="4724640" cy="461880"/>
          </a:xfrm>
          <a:prstGeom prst="rect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nstantia"/>
              </a:rPr>
              <a:t>такженасч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3" descr="C:\Users\Андрей\Pictures\Мои рисунки\ЕГЭ, ГИА\image003.gif"/>
          <p:cNvPicPr/>
          <p:nvPr/>
        </p:nvPicPr>
        <p:blipFill>
          <a:blip r:embed="rId1"/>
          <a:stretch/>
        </p:blipFill>
        <p:spPr>
          <a:xfrm>
            <a:off x="19080" y="6291360"/>
            <a:ext cx="1657440" cy="56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1"/>
          <p:cNvSpPr/>
          <p:nvPr/>
        </p:nvSpPr>
        <p:spPr>
          <a:xfrm>
            <a:off x="19080" y="41400"/>
            <a:ext cx="8896320" cy="703800"/>
          </a:xfrm>
          <a:prstGeom prst="rect">
            <a:avLst/>
          </a:prstGeom>
          <a:noFill/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3-7. Определите  предложение,  в  котором  оба  выделенных  слова  пишутся  СЛИТНО. Раскройте скобки и выпишите эти два сло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2"/>
          <p:cNvSpPr/>
          <p:nvPr/>
        </p:nvSpPr>
        <p:spPr>
          <a:xfrm>
            <a:off x="9360" y="1143000"/>
            <a:ext cx="87631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иногда часами молчали, ЗА(ТО) каждый чувствовал, что им обоим хорошо, и (ПО)ТОМУ именно хорошо, что они вме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)ЧЕМУ судите вы о культуре человека – по его манерам, вкусам, привычкам? И (ОТ)ЧЕГО вы так требовательны к н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у свою Сергеев знал и любил ее ЗА(ТО), что она ему давалась, (ПО)ЭТОМУ и считали его на заводе хорошим масте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рший сын, Анисим, приезжал домой очень редко, только в большие праздники, ЗА(ТО) часто присылал с земляками гостинцы и ТАК(ЖЕ), как средний, Степан, короткие пись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азговоре люди ведут себя (ПО)РАЗНОМУ – в зависимости от темы, а ТАК(ЖЕ) мотива и цели общ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3"/>
          <p:cNvSpPr/>
          <p:nvPr/>
        </p:nvSpPr>
        <p:spPr>
          <a:xfrm>
            <a:off x="3809880" y="6172200"/>
            <a:ext cx="4724640" cy="461880"/>
          </a:xfrm>
          <a:prstGeom prst="rect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nstantia"/>
              </a:rPr>
              <a:t>затопот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3" descr="C:\Users\Андрей\Pictures\Мои рисунки\ЕГЭ, ГИА\image003.gif"/>
          <p:cNvPicPr/>
          <p:nvPr/>
        </p:nvPicPr>
        <p:blipFill>
          <a:blip r:embed="rId1"/>
          <a:stretch/>
        </p:blipFill>
        <p:spPr>
          <a:xfrm>
            <a:off x="19080" y="6291360"/>
            <a:ext cx="1657440" cy="56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1" descr="ege-2017-1.jpg"/>
          <p:cNvPicPr/>
          <p:nvPr/>
        </p:nvPicPr>
        <p:blipFill>
          <a:blip r:embed="rId1"/>
          <a:stretch/>
        </p:blipFill>
        <p:spPr>
          <a:xfrm>
            <a:off x="1571760" y="428760"/>
            <a:ext cx="5614920" cy="421452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2" descr="849272997.gif"/>
          <p:cNvPicPr/>
          <p:nvPr/>
        </p:nvPicPr>
        <p:blipFill>
          <a:blip r:embed="rId2"/>
          <a:stretch/>
        </p:blipFill>
        <p:spPr>
          <a:xfrm>
            <a:off x="1000080" y="4286160"/>
            <a:ext cx="664380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Слитное, раздельное, дефисное написание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В этом задании тебе понадобятся знания о частях реч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мни! </a:t>
            </a:r>
            <a:r>
              <a:rPr b="1" i="1" lang="ru-RU" sz="2600" spc="-1" strike="noStrike">
                <a:solidFill>
                  <a:srgbClr val="00b050"/>
                </a:solidFill>
                <a:latin typeface="Constantia"/>
              </a:rPr>
              <a:t>вдребезги, впросак, воочию, вкупе, навзничь, навзрыд, наизусть, наотмашь, натощак, наискосок, насмарку, поодаль, понаслышке, невдомек, невзначай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Помни! Наречия, начинающиеся на </a:t>
            </a:r>
            <a:r>
              <a:rPr b="1" i="1" lang="ru-RU" sz="2600" spc="-1" strike="noStrike">
                <a:solidFill>
                  <a:srgbClr val="ff0000"/>
                </a:solidFill>
                <a:latin typeface="Constantia"/>
              </a:rPr>
              <a:t>ВПЕРЕ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, </a:t>
            </a:r>
            <a:r>
              <a:rPr b="1" i="1" lang="ru-RU" sz="2600" spc="-1" strike="noStrike">
                <a:solidFill>
                  <a:srgbClr val="ff0000"/>
                </a:solidFill>
                <a:latin typeface="Constantia"/>
              </a:rPr>
              <a:t>НАПЕРЕ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, </a:t>
            </a:r>
            <a:r>
              <a:rPr b="1" i="1" lang="ru-RU" sz="2600" spc="-1" strike="noStrike">
                <a:solidFill>
                  <a:srgbClr val="ff0000"/>
                </a:solidFill>
                <a:latin typeface="Constantia"/>
              </a:rPr>
              <a:t>ВПРИ-, ВРАЗ-, ВЗА-, ВНА-, НАВЫ-, ВПОЛ-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ишутся </a:t>
            </a:r>
            <a:r>
              <a:rPr b="1" i="1" lang="ru-RU" sz="2600" spc="-1" strike="noStrike" u="sng">
                <a:solidFill>
                  <a:srgbClr val="8e9bb0"/>
                </a:solidFill>
                <a:uFillTx/>
                <a:latin typeface="Constantia"/>
              </a:rPr>
              <a:t>слитн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1" i="1" lang="ru-RU" sz="2600" spc="-1" strike="noStrike">
                <a:solidFill>
                  <a:srgbClr val="ff0000"/>
                </a:solidFill>
                <a:latin typeface="Constantia"/>
              </a:rPr>
              <a:t>впере</a:t>
            </a:r>
            <a:r>
              <a:rPr b="1" i="1" lang="ru-RU" sz="2600" spc="-1" strike="noStrike">
                <a:solidFill>
                  <a:srgbClr val="c00000"/>
                </a:solidFill>
                <a:latin typeface="Constantia"/>
              </a:rPr>
              <a:t>бежку, </a:t>
            </a:r>
            <a:r>
              <a:rPr b="1" i="1" lang="ru-RU" sz="2600" spc="-1" strike="noStrike">
                <a:solidFill>
                  <a:srgbClr val="ff0000"/>
                </a:solidFill>
                <a:latin typeface="Constantia"/>
              </a:rPr>
              <a:t>напере</a:t>
            </a:r>
            <a:r>
              <a:rPr b="1" i="1" lang="ru-RU" sz="2600" spc="-1" strike="noStrike">
                <a:solidFill>
                  <a:srgbClr val="c00000"/>
                </a:solidFill>
                <a:latin typeface="Constantia"/>
              </a:rPr>
              <a:t>вес, </a:t>
            </a:r>
            <a:r>
              <a:rPr b="1" i="1" lang="ru-RU" sz="2600" spc="-1" strike="noStrike">
                <a:solidFill>
                  <a:srgbClr val="ff0000"/>
                </a:solidFill>
                <a:latin typeface="Constantia"/>
              </a:rPr>
              <a:t>впри</a:t>
            </a:r>
            <a:r>
              <a:rPr b="1" i="1" lang="ru-RU" sz="2600" spc="-1" strike="noStrike">
                <a:solidFill>
                  <a:srgbClr val="c00000"/>
                </a:solidFill>
                <a:latin typeface="Constantia"/>
              </a:rPr>
              <a:t>глядку, </a:t>
            </a:r>
            <a:r>
              <a:rPr b="1" i="1" lang="ru-RU" sz="2600" spc="-1" strike="noStrike">
                <a:solidFill>
                  <a:srgbClr val="ff0000"/>
                </a:solidFill>
                <a:latin typeface="Constantia"/>
              </a:rPr>
              <a:t>враз</a:t>
            </a:r>
            <a:r>
              <a:rPr b="1" i="1" lang="ru-RU" sz="2600" spc="-1" strike="noStrike">
                <a:solidFill>
                  <a:srgbClr val="c00000"/>
                </a:solidFill>
                <a:latin typeface="Constantia"/>
              </a:rPr>
              <a:t>бивку, </a:t>
            </a:r>
            <a:r>
              <a:rPr b="1" i="1" lang="ru-RU" sz="2600" spc="-1" strike="noStrike">
                <a:solidFill>
                  <a:srgbClr val="ff0000"/>
                </a:solidFill>
                <a:latin typeface="Constantia"/>
              </a:rPr>
              <a:t>вза</a:t>
            </a:r>
            <a:r>
              <a:rPr b="1" i="1" lang="ru-RU" sz="2600" spc="-1" strike="noStrike">
                <a:solidFill>
                  <a:srgbClr val="c00000"/>
                </a:solidFill>
                <a:latin typeface="Constantia"/>
              </a:rPr>
              <a:t>ем,  </a:t>
            </a:r>
            <a:r>
              <a:rPr b="1" i="1" lang="ru-RU" sz="2600" spc="-1" strike="noStrike">
                <a:solidFill>
                  <a:srgbClr val="ff0000"/>
                </a:solidFill>
                <a:latin typeface="Constantia"/>
              </a:rPr>
              <a:t>вна</a:t>
            </a:r>
            <a:r>
              <a:rPr b="1" i="1" lang="ru-RU" sz="2600" spc="-1" strike="noStrike">
                <a:solidFill>
                  <a:srgbClr val="c00000"/>
                </a:solidFill>
                <a:latin typeface="Constantia"/>
              </a:rPr>
              <a:t>кидку, </a:t>
            </a:r>
            <a:r>
              <a:rPr b="1" i="1" lang="ru-RU" sz="2600" spc="-1" strike="noStrike">
                <a:solidFill>
                  <a:srgbClr val="ff0000"/>
                </a:solidFill>
                <a:latin typeface="Constantia"/>
              </a:rPr>
              <a:t>навы</a:t>
            </a:r>
            <a:r>
              <a:rPr b="1" i="1" lang="ru-RU" sz="2600" spc="-1" strike="noStrike">
                <a:solidFill>
                  <a:srgbClr val="c00000"/>
                </a:solidFill>
                <a:latin typeface="Constantia"/>
              </a:rPr>
              <a:t>ворот, </a:t>
            </a:r>
            <a:r>
              <a:rPr b="1" i="1" lang="ru-RU" sz="2600" spc="-1" strike="noStrike">
                <a:solidFill>
                  <a:srgbClr val="ff0000"/>
                </a:solidFill>
                <a:latin typeface="Constantia"/>
              </a:rPr>
              <a:t>впол</a:t>
            </a:r>
            <a:r>
              <a:rPr b="1" i="1" lang="ru-RU" sz="2600" spc="-1" strike="noStrike">
                <a:solidFill>
                  <a:srgbClr val="c00000"/>
                </a:solidFill>
                <a:latin typeface="Constantia"/>
              </a:rPr>
              <a:t>глазка. </a:t>
            </a:r>
            <a:r>
              <a:rPr b="1" i="1" lang="ru-RU" sz="2600" spc="-1" strike="noStrike" u="sng">
                <a:solidFill>
                  <a:srgbClr val="c00000"/>
                </a:solidFill>
                <a:uFillTx/>
                <a:latin typeface="Constantia"/>
              </a:rPr>
              <a:t>Исключения</a:t>
            </a:r>
            <a:r>
              <a:rPr b="1" i="1" lang="ru-RU" sz="2600" spc="-1" strike="noStrike">
                <a:solidFill>
                  <a:srgbClr val="0070c0"/>
                </a:solidFill>
                <a:latin typeface="Constantia"/>
              </a:rPr>
              <a:t>: в придачу, в прибавку, в забросе, в замену, в наклон, в насмешку, на выбор,  на выучку, на выручку, на вырос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C:\Documents and Settings\Валентина\Рабочий стол\A18-1.png"/>
          <p:cNvPicPr/>
          <p:nvPr/>
        </p:nvPicPr>
        <p:blipFill>
          <a:blip r:embed="rId1"/>
          <a:stretch/>
        </p:blipFill>
        <p:spPr>
          <a:xfrm>
            <a:off x="468360" y="189000"/>
            <a:ext cx="82296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C:\Documents and Settings\Валентина\Рабочий стол\A18-2.png"/>
          <p:cNvPicPr/>
          <p:nvPr/>
        </p:nvPicPr>
        <p:blipFill>
          <a:blip r:embed="rId1"/>
          <a:srcRect l="0" t="19643" r="-3699" b="54578"/>
          <a:stretch/>
        </p:blipFill>
        <p:spPr>
          <a:xfrm>
            <a:off x="250920" y="115920"/>
            <a:ext cx="856908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C:\Documents and Settings\Валентина\Рабочий стол\A18-2.png"/>
          <p:cNvPicPr/>
          <p:nvPr/>
        </p:nvPicPr>
        <p:blipFill>
          <a:blip r:embed="rId1"/>
          <a:srcRect l="0" t="45989" r="-6629" b="42538"/>
          <a:stretch/>
        </p:blipFill>
        <p:spPr>
          <a:xfrm>
            <a:off x="179280" y="115920"/>
            <a:ext cx="89647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C:\Documents and Settings\Валентина\Рабочий стол\A18-2.png"/>
          <p:cNvPicPr/>
          <p:nvPr/>
        </p:nvPicPr>
        <p:blipFill>
          <a:blip r:embed="rId1"/>
          <a:srcRect l="0" t="57752" r="-3393" b="34070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C:\Documents and Settings\Валентина\Рабочий стол\A18-2.png"/>
          <p:cNvPicPr/>
          <p:nvPr/>
        </p:nvPicPr>
        <p:blipFill>
          <a:blip r:embed="rId1"/>
          <a:srcRect l="4259" t="65864" r="8846" b="128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1" name="Прямоугольник 2" descr=""/>
          <p:cNvPicPr/>
          <p:nvPr/>
        </p:nvPicPr>
        <p:blipFill>
          <a:blip r:embed="rId2"/>
          <a:stretch/>
        </p:blipFill>
        <p:spPr>
          <a:xfrm>
            <a:off x="281160" y="1530360"/>
            <a:ext cx="42516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C:\Documents and Settings\Валентина\Рабочий стол\A18-2.png"/>
          <p:cNvPicPr/>
          <p:nvPr/>
        </p:nvPicPr>
        <p:blipFill>
          <a:blip r:embed="rId1"/>
          <a:srcRect l="0" t="87261" r="1723" b="0"/>
          <a:stretch/>
        </p:blipFill>
        <p:spPr>
          <a:xfrm>
            <a:off x="468360" y="236520"/>
            <a:ext cx="799128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Constantia"/>
              </a:rPr>
              <a:t>СОЮЗ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или </a:t>
            </a:r>
            <a:r>
              <a:rPr b="1" i="1" lang="ru-RU" sz="2600" spc="-1" strike="noStrike">
                <a:solidFill>
                  <a:srgbClr val="ff0000"/>
                </a:solidFill>
                <a:latin typeface="Constantia"/>
              </a:rPr>
              <a:t>МЕСТОИМЕНИЯ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и </a:t>
            </a:r>
            <a:r>
              <a:rPr b="1" i="1" lang="ru-RU" sz="2600" spc="-1" strike="noStrike">
                <a:solidFill>
                  <a:srgbClr val="ff0000"/>
                </a:solidFill>
                <a:latin typeface="Constantia"/>
              </a:rPr>
              <a:t>НАРЕЧИЯ с предлогом и частицей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юзы </a:t>
            </a:r>
            <a:r>
              <a:rPr b="1" lang="ru-RU" sz="2600" spc="-1" strike="noStrike">
                <a:solidFill>
                  <a:srgbClr val="00b050"/>
                </a:solidFill>
                <a:latin typeface="Constantia"/>
              </a:rPr>
              <a:t>ТАК ЧТО, ТАК КАК, КАК БУДТО, ПРИ ЭТОМ, НЕ ТО…НЕ Т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i="1" lang="ru-RU" sz="2600" spc="-1" strike="noStrike">
                <a:solidFill>
                  <a:srgbClr val="00b050"/>
                </a:solidFill>
                <a:latin typeface="Constantia"/>
              </a:rPr>
              <a:t>то есть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ишутся </a:t>
            </a: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раздельн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b0f0"/>
                </a:solidFill>
                <a:uFillTx/>
                <a:latin typeface="Constantia"/>
              </a:rPr>
              <a:t>Различай!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5T20:30:04Z</dcterms:created>
  <dc:creator>Образцова Валентина</dc:creator>
  <dc:description/>
  <dc:language>en-US</dc:language>
  <cp:lastModifiedBy>Витос</cp:lastModifiedBy>
  <dcterms:modified xsi:type="dcterms:W3CDTF">2016-11-27T15:56:27Z</dcterms:modified>
  <cp:revision>16</cp:revision>
  <dc:subject/>
  <dc:title>Слайд 1</dc:title>
</cp:coreProperties>
</file>