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9648-4132-491A-8DBB-401824630E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D9DF-267D-4EFC-9869-78ED81B931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18.11.2009 г. Последнюю версию шаблон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9968-A991-411A-849D-092AD37AA5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26E-1D18-4129-94B5-2308F029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E94-4714-4A9E-A448-E4397581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5A7-1E14-49BA-BB95-BCC693E4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304-3F84-4B99-B851-7F34E6D3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435-B523-4DD6-B14E-E5D02E1C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FB4-371F-40FB-8B8A-BA475FD6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65D-3E47-4809-BB73-1ED34DD0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5E0-05D4-488E-A169-9603698F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4BC-A933-4003-9C2C-22DB5EFA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58A-1290-46DE-B1FD-219D11B3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70D-BE54-4ADF-AE09-4A09B28E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99F-6FF8-4F29-B928-F1C08BDE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8667-CCFA-4752-8589-BA992A4591D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82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Out_Tim" hidden="1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682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e3d2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Tx_Tim" hidden="1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e3d2d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x_min" hidden="1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e3d2d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61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62" name="Freeform 22"/>
              <p:cNvSpPr/>
              <p:nvPr/>
            </p:nvSpPr>
            <p:spPr>
              <a:xfrm>
                <a:off x="228600" y="919080"/>
                <a:ext cx="461880" cy="35712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ffa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23"/>
              <p:cNvSpPr/>
              <p:nvPr/>
            </p:nvSpPr>
            <p:spPr>
              <a:xfrm>
                <a:off x="250920" y="995760"/>
                <a:ext cx="111600" cy="22464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24"/>
              <p:cNvSpPr/>
              <p:nvPr/>
            </p:nvSpPr>
            <p:spPr>
              <a:xfrm>
                <a:off x="250920" y="122868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26"/>
              <p:cNvSpPr/>
              <p:nvPr/>
            </p:nvSpPr>
            <p:spPr>
              <a:xfrm>
                <a:off x="429480" y="1097640"/>
                <a:ext cx="56520" cy="15588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27"/>
              <p:cNvSpPr/>
              <p:nvPr/>
            </p:nvSpPr>
            <p:spPr>
              <a:xfrm>
                <a:off x="504000" y="112356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70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ffa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ffa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ffa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ffa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ffa9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8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e3d2d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1432080" y="1682640"/>
            <a:ext cx="60292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82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Out_Tim" hidden="1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e3d2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4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9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5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4c600"/>
              </a:gs>
              <a:gs pos="50000">
                <a:srgbClr val="ffffff"/>
              </a:gs>
              <a:gs pos="100000">
                <a:srgbClr val="94c600"/>
              </a:gs>
            </a:gsLst>
            <a:lin ang="5400000"/>
          </a:gradFill>
          <a:ln w="38160">
            <a:solidFill>
              <a:srgbClr val="e6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9.Афанасий Никитин пересекал мор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ёр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вер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пийск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51"/>
          <p:cNvSpPr/>
          <p:nvPr/>
        </p:nvSpPr>
        <p:spPr>
          <a:xfrm>
            <a:off x="1292400" y="391788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зовск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изем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вийск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54" name="Rectangle 13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Rectangle 14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1f2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1b24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Metka" hidden="1"/>
            <p:cNvSpPr/>
            <p:nvPr/>
          </p:nvSpPr>
          <p:spPr>
            <a:xfrm>
              <a:off x="554040" y="2138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60" name="Rectangle 13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14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1f2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1b24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Metka" hidden="1"/>
            <p:cNvSpPr/>
            <p:nvPr/>
          </p:nvSpPr>
          <p:spPr>
            <a:xfrm>
              <a:off x="554040" y="27734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66" name="Rectangle 13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1f2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1b24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Metka" hidden="1"/>
            <p:cNvSpPr/>
            <p:nvPr/>
          </p:nvSpPr>
          <p:spPr>
            <a:xfrm>
              <a:off x="554040" y="340848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72" name="Rectangle 13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463680" y="39546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1f2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Rectangle 15"/>
            <p:cNvSpPr/>
            <p:nvPr/>
          </p:nvSpPr>
          <p:spPr>
            <a:xfrm>
              <a:off x="500040" y="39909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1b24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16"/>
            <p:cNvSpPr/>
            <p:nvPr/>
          </p:nvSpPr>
          <p:spPr>
            <a:xfrm>
              <a:off x="536760" y="40276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Metka" hidden="1"/>
            <p:cNvSpPr/>
            <p:nvPr/>
          </p:nvSpPr>
          <p:spPr>
            <a:xfrm>
              <a:off x="554040" y="40435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7" name="KAN_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378" name="Rectangle 13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Rectangle 14"/>
            <p:cNvSpPr/>
            <p:nvPr/>
          </p:nvSpPr>
          <p:spPr>
            <a:xfrm>
              <a:off x="463680" y="4589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1f2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Rectangle 15"/>
            <p:cNvSpPr/>
            <p:nvPr/>
          </p:nvSpPr>
          <p:spPr>
            <a:xfrm>
              <a:off x="500040" y="4626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1b24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16"/>
            <p:cNvSpPr/>
            <p:nvPr/>
          </p:nvSpPr>
          <p:spPr>
            <a:xfrm>
              <a:off x="536760" y="4662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Metka" hidden="1"/>
            <p:cNvSpPr/>
            <p:nvPr/>
          </p:nvSpPr>
          <p:spPr>
            <a:xfrm>
              <a:off x="554040" y="4678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" name="KAN_6"/>
          <p:cNvGrpSpPr/>
          <p:nvPr/>
        </p:nvGrpSpPr>
        <p:grpSpPr>
          <a:xfrm>
            <a:off x="444600" y="5207040"/>
            <a:ext cx="647640" cy="395280"/>
            <a:chOff x="444600" y="5207040"/>
            <a:chExt cx="647640" cy="395280"/>
          </a:xfrm>
        </p:grpSpPr>
        <p:sp>
          <p:nvSpPr>
            <p:cNvPr id="384" name="Rectangle 13"/>
            <p:cNvSpPr/>
            <p:nvPr/>
          </p:nvSpPr>
          <p:spPr>
            <a:xfrm>
              <a:off x="444600" y="520704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14"/>
            <p:cNvSpPr/>
            <p:nvPr/>
          </p:nvSpPr>
          <p:spPr>
            <a:xfrm>
              <a:off x="463680" y="52246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1f2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Rectangle 15"/>
            <p:cNvSpPr/>
            <p:nvPr/>
          </p:nvSpPr>
          <p:spPr>
            <a:xfrm>
              <a:off x="500040" y="52610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1b24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536760" y="52977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Metka" hidden="1"/>
            <p:cNvSpPr/>
            <p:nvPr/>
          </p:nvSpPr>
          <p:spPr>
            <a:xfrm>
              <a:off x="554040" y="53136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9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e3d2d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3e3d2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e3d2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e3d2d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e3d2d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e3d2d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авильных отве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в процен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6627960" y="2349360"/>
            <a:ext cx="168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це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687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00"/>
                </a:solidFill>
                <a:latin typeface="Arial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тестирова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94c600"/>
          </a:solidFill>
          <a:ln w="69840">
            <a:solidFill>
              <a:srgbClr val="71685a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_osh"/>
          <p:cNvSpPr/>
          <p:nvPr/>
        </p:nvSpPr>
        <p:spPr>
          <a:xfrm>
            <a:off x="1042920" y="46450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шибки в выборе ответов на задания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82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Out_Tim" hidden="1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e3d2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45720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1.Афанасий Никитин родился 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1295280" y="19717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оленс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e3d2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3e3d2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9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6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2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7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8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82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Out_Tim" hidden="1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e3d2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47"/>
          <p:cNvSpPr/>
          <p:nvPr/>
        </p:nvSpPr>
        <p:spPr>
          <a:xfrm>
            <a:off x="190440" y="62064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2.</a:t>
            </a:r>
            <a:r>
              <a:rPr b="1" lang="ru-RU" sz="3900" spc="-1" strike="noStrike">
                <a:solidFill>
                  <a:srgbClr val="c00000"/>
                </a:solidFill>
                <a:latin typeface="Arial"/>
              </a:rPr>
              <a:t>Афанасий Никитин по профессии был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енны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ёны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пц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e3d2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3e3d2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23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9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27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33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39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82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Out_Tim" hidden="1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e3d2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190440" y="62064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3. Современным названием Персии являетс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ра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р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e3d2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3e3d2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5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9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5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6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7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82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Out_Tim" hidden="1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e3d2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7"/>
          <p:cNvSpPr/>
          <p:nvPr/>
        </p:nvSpPr>
        <p:spPr>
          <a:xfrm>
            <a:off x="190440" y="62064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 странствиях Афанасий Никитин провё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48"/>
          <p:cNvSpPr/>
          <p:nvPr/>
        </p:nvSpPr>
        <p:spPr>
          <a:xfrm>
            <a:off x="1239840" y="2079720"/>
            <a:ext cx="1190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г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49"/>
          <p:cNvSpPr/>
          <p:nvPr/>
        </p:nvSpPr>
        <p:spPr>
          <a:xfrm>
            <a:off x="1128600" y="2611440"/>
            <a:ext cx="176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л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л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e3d2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3e3d2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86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9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9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90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5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96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02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82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Out_Tim" hidden="1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e3d2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47"/>
          <p:cNvSpPr/>
          <p:nvPr/>
        </p:nvSpPr>
        <p:spPr>
          <a:xfrm>
            <a:off x="190440" y="40464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5. Афанасий Никитин посещал базары в разных городах Персии и Индии, чтоб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пить товары для продажи на Рус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49"/>
          <p:cNvSpPr/>
          <p:nvPr/>
        </p:nvSpPr>
        <p:spPr>
          <a:xfrm>
            <a:off x="1150920" y="2505240"/>
            <a:ext cx="78962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ить, может ли торговля с этими стран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ть полезна Рус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50"/>
          <p:cNvSpPr/>
          <p:nvPr/>
        </p:nvSpPr>
        <p:spPr>
          <a:xfrm>
            <a:off x="1243080" y="3543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ть товары, привезённые из Твер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e3d2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3e3d2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9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22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KAN_2"/>
          <p:cNvGrpSpPr/>
          <p:nvPr/>
        </p:nvGrpSpPr>
        <p:grpSpPr>
          <a:xfrm>
            <a:off x="422280" y="2754360"/>
            <a:ext cx="647640" cy="395280"/>
            <a:chOff x="422280" y="2754360"/>
            <a:chExt cx="647640" cy="395280"/>
          </a:xfrm>
        </p:grpSpPr>
        <p:sp>
          <p:nvSpPr>
            <p:cNvPr id="228" name="Rectangle 7"/>
            <p:cNvSpPr/>
            <p:nvPr/>
          </p:nvSpPr>
          <p:spPr>
            <a:xfrm>
              <a:off x="422280" y="275436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Oval 8"/>
            <p:cNvSpPr/>
            <p:nvPr/>
          </p:nvSpPr>
          <p:spPr>
            <a:xfrm>
              <a:off x="441000" y="27720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477720" y="28083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Oval 10"/>
            <p:cNvSpPr/>
            <p:nvPr/>
          </p:nvSpPr>
          <p:spPr>
            <a:xfrm>
              <a:off x="514080" y="28432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Metka" hidden="1"/>
            <p:cNvSpPr/>
            <p:nvPr/>
          </p:nvSpPr>
          <p:spPr>
            <a:xfrm>
              <a:off x="549000" y="28800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KAN_3"/>
          <p:cNvGrpSpPr/>
          <p:nvPr/>
        </p:nvGrpSpPr>
        <p:grpSpPr>
          <a:xfrm>
            <a:off x="444600" y="3606840"/>
            <a:ext cx="647640" cy="395280"/>
            <a:chOff x="444600" y="3606840"/>
            <a:chExt cx="647640" cy="395280"/>
          </a:xfrm>
        </p:grpSpPr>
        <p:sp>
          <p:nvSpPr>
            <p:cNvPr id="234" name="Rectangle 7"/>
            <p:cNvSpPr/>
            <p:nvPr/>
          </p:nvSpPr>
          <p:spPr>
            <a:xfrm>
              <a:off x="444600" y="360684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Oval 8"/>
            <p:cNvSpPr/>
            <p:nvPr/>
          </p:nvSpPr>
          <p:spPr>
            <a:xfrm>
              <a:off x="463320" y="3624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Oval 9"/>
            <p:cNvSpPr/>
            <p:nvPr/>
          </p:nvSpPr>
          <p:spPr>
            <a:xfrm>
              <a:off x="500040" y="3660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Oval 10"/>
            <p:cNvSpPr/>
            <p:nvPr/>
          </p:nvSpPr>
          <p:spPr>
            <a:xfrm>
              <a:off x="536400" y="3695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Metka" hidden="1"/>
            <p:cNvSpPr/>
            <p:nvPr/>
          </p:nvSpPr>
          <p:spPr>
            <a:xfrm>
              <a:off x="571320" y="3732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82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Out_Tim" hidden="1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e3d2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47"/>
          <p:cNvSpPr/>
          <p:nvPr/>
        </p:nvSpPr>
        <p:spPr>
          <a:xfrm>
            <a:off x="190440" y="62064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900" spc="-1" strike="noStrike">
                <a:solidFill>
                  <a:srgbClr val="c00000"/>
                </a:solidFill>
                <a:latin typeface="Arial"/>
              </a:rPr>
              <a:t>6.Афанасий Никитин похоронен в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48"/>
          <p:cNvSpPr/>
          <p:nvPr/>
        </p:nvSpPr>
        <p:spPr>
          <a:xfrm>
            <a:off x="1208160" y="2049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49"/>
          <p:cNvSpPr/>
          <p:nvPr/>
        </p:nvSpPr>
        <p:spPr>
          <a:xfrm>
            <a:off x="1092240" y="2612880"/>
            <a:ext cx="7896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оленс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0"/>
          <p:cNvSpPr/>
          <p:nvPr/>
        </p:nvSpPr>
        <p:spPr>
          <a:xfrm>
            <a:off x="1270080" y="328284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траха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e3d2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3e3d2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5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9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5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6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6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82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Out_Tim" hidden="1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e3d2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47"/>
          <p:cNvSpPr/>
          <p:nvPr/>
        </p:nvSpPr>
        <p:spPr>
          <a:xfrm>
            <a:off x="190440" y="40464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7.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амятник Афанасию Никитину установлен 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48"/>
          <p:cNvSpPr/>
          <p:nvPr/>
        </p:nvSpPr>
        <p:spPr>
          <a:xfrm>
            <a:off x="1332000" y="208584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49"/>
          <p:cNvSpPr/>
          <p:nvPr/>
        </p:nvSpPr>
        <p:spPr>
          <a:xfrm>
            <a:off x="1324080" y="2719440"/>
            <a:ext cx="7896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оленс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50"/>
          <p:cNvSpPr/>
          <p:nvPr/>
        </p:nvSpPr>
        <p:spPr>
          <a:xfrm>
            <a:off x="1295280" y="328284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e3d2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3e3d2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2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83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9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6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87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2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93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8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99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4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4c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682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Out_Tim" hidden="1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e3d2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47"/>
          <p:cNvSpPr/>
          <p:nvPr/>
        </p:nvSpPr>
        <p:spPr>
          <a:xfrm>
            <a:off x="212760" y="40464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8.Из записей Афанасия Никитина составлена книг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48"/>
          <p:cNvSpPr/>
          <p:nvPr/>
        </p:nvSpPr>
        <p:spPr>
          <a:xfrm>
            <a:off x="1317600" y="33195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Хождение в Индию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49"/>
          <p:cNvSpPr/>
          <p:nvPr/>
        </p:nvSpPr>
        <p:spPr>
          <a:xfrm>
            <a:off x="1324080" y="2719440"/>
            <a:ext cx="7896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утешествие за три мор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50"/>
          <p:cNvSpPr/>
          <p:nvPr/>
        </p:nvSpPr>
        <p:spPr>
          <a:xfrm>
            <a:off x="1289160" y="19782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Хождение за три мор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e3d2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3e3d2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16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9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9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20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5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26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1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32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94c600"/>
                </a:gs>
                <a:gs pos="100000">
                  <a:srgbClr val="22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222e00"/>
                </a:gs>
                <a:gs pos="100000">
                  <a:srgbClr val="94c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6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маровский Анатолий Николаевич</dc:creator>
  <dc:description>Работает в MS PowerPoint 2003 и 2007</dc:description>
  <dc:language>en-US</dc:language>
  <cp:lastModifiedBy>User</cp:lastModifiedBy>
  <dcterms:modified xsi:type="dcterms:W3CDTF">2015-07-26T02:24:52Z</dcterms:modified>
  <cp:revision>19</cp:revision>
  <dc:subject/>
  <dc:title>Шаблон для создания тестов</dc:title>
</cp:coreProperties>
</file>