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425-179D-4C1E-8A89-9F6EB29C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228-52E4-41AE-ABFD-3480C780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28B-BB53-4494-9B34-2D1CF1D8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0BD-609E-4C35-ADBD-D8634149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DCE3-1194-450F-BE35-AF3E0099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C491-E631-4558-ABCE-83F97BF3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89CC-1B12-47E4-89F1-845E32F9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A314-362E-4E56-9961-5C172EB4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6B1B-A8DE-4DCD-B10B-78DC9D98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83D4-206A-4ADA-BA34-55220CDB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87E9-0DA8-4F41-86E5-ED3AB18B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BEE-B431-4A97-8C8E-5255F60E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5C7E-DECF-49E1-8BF7-9217D966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F3BD-20FE-4DE9-B94A-A207E329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C3DC-AFDA-43FC-BA71-B7394816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ABA6-7E34-48A9-8587-3D579148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9702-E067-429F-8090-E04656C6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A4CD-632B-4675-8590-D7CC6639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2BCF-9C75-422E-86D8-28AFD1D1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44B6-B188-4396-B3E7-67EF990C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39BC-C78B-48C1-AFAF-A57109D8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3DB4-DDD6-47AD-AC87-0122670C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8B6-C6B5-4F3C-8303-86C3D7E4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F8E1-FB66-431B-BE5F-95F385FF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2483E-2AA1-4D0E-A211-63FA7842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1870-8D8A-4B5D-96D2-D141D27C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F486-3820-4848-841F-CBF839EA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8C29-362F-40A3-8D72-6E641159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E77A-D5D0-4B94-9C87-002CAEC1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84828-9FC0-4A86-8C99-1ED7E332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9E3A4-90D6-4A9E-9CFF-97251901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8F21-806D-4652-8CCE-136A34B7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305D2-1155-4F2F-B6CA-52A5455E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BCC-DD65-4373-BBB0-5CD24F8E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4F04E-F37F-411D-96D6-3B70476D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E732D-A096-40F2-A2A2-78200F63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0F577-81D9-45D2-8B35-E20D1B3B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68C51-B245-45DD-A77B-CB2D0B4F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B350-FE13-43EE-AA59-D2FAA19B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2E6F-072F-4DCC-B8F1-4C5C44E8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CDEB-785F-4B6D-8ABB-1159C6E7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DD50-5CD9-432D-814C-CD388B79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41517-4976-456C-9569-D51E93D8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D37-44CF-4838-A379-BA6EE81B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BBA-606C-4F09-9CD5-E0C9C9DD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9D0-98D1-47DA-9307-8D951E33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96C-D428-4ED1-9BC8-B6F1AE2D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504-200B-4F4F-B590-9CFF9DDD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48177-9862-452E-BAE7-54FA3DF3684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A68F4-4021-4CF0-8FF3-9589F60DF4C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DCD1C-B155-4631-9A12-B25223D12B1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494B7-6FEB-4B73-BB49-042CA3B9748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Агрессивный ребёнок</a:t>
            </a:r>
            <a:br>
              <a:rPr sz="5400"/>
            </a:b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Общие особенности общения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100120"/>
            <a:ext cx="7767720" cy="7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Trebuchet MS"/>
              </a:rPr>
              <a:t>Рязанова Жанна Ивановн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Какого ребенка можно назвать агрессивным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2160360"/>
            <a:ext cx="54529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Часто нападает на других детей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Перекладывают свою вину на других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В окружающих видят угрозу, обиду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Часто испытывают негативные эмоции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Не стремятся понимать других, своё «Я» для них важнее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2" descr="http://cdn-2.mammaebambino.it/o/orig/come-gestire-un-bambino-che-fa-a-botte-con-i-coetanei_d02f91994930b34a00cc450f59bdec14.jpg"/>
          <p:cNvPicPr/>
          <p:nvPr/>
        </p:nvPicPr>
        <p:blipFill>
          <a:blip r:embed="rId1"/>
          <a:stretch/>
        </p:blipFill>
        <p:spPr>
          <a:xfrm>
            <a:off x="6130800" y="2406600"/>
            <a:ext cx="49402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39024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Как помочь ребёнку справиться с агрессией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30040" y="1711080"/>
            <a:ext cx="1030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Правильно общаться с ребёнком (лишний раз не орать на него, почаще с ним играть в ролевые игры, разучивать различные стишки, больше уделять внимания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Дать возможность ребенку снять агрессию, выплеснув эмоции через релаксационный тренинг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Не фиксировать внимание всех на нежелательном поведении ребенка и не впадать самому в агрессивное состояние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Выяснить причину агрессии и спокойно, тактично ее устранить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Чаще хвалить и отмечать любые достижения ребёнка, лишний раз приласкать, показав, что его тоже ценят, что он нужен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402840"/>
            <a:ext cx="859644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Профилактика</a:t>
            </a:r>
            <a:r>
              <a:rPr b="1" i="1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детской агресси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728880" y="1299960"/>
            <a:ext cx="6664320" cy="51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Не вмешиваться в спор детей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Предложить другой способ выражения агрессии (подраться с  подушкой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Отвлечь другим интересным занятием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Научить ребёнка прощать и извиняться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Публичный выговор за проступки с серьёзными последствиями (драка или другое проявление физической агрессии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Лишить ребёнка привилегий, но не на весь день (запретить заниматься любимым делом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4" descr="http://udoktora.net/wp-content/uploads/2012/02/57497/kak-byit-roditelyam-.jpg"/>
          <p:cNvPicPr/>
          <p:nvPr/>
        </p:nvPicPr>
        <p:blipFill>
          <a:blip r:embed="rId1"/>
          <a:stretch/>
        </p:blipFill>
        <p:spPr>
          <a:xfrm>
            <a:off x="490680" y="4302000"/>
            <a:ext cx="3238200" cy="218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://i.huffpost.com/gadgets/slideshows/278181/slide_278181_2051158_original.jpg"/>
          <p:cNvPicPr/>
          <p:nvPr/>
        </p:nvPicPr>
        <p:blipFill>
          <a:blip r:embed="rId2"/>
          <a:stretch/>
        </p:blipFill>
        <p:spPr>
          <a:xfrm>
            <a:off x="209520" y="1546200"/>
            <a:ext cx="33861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09760" y="566280"/>
            <a:ext cx="49766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Trebuchet MS"/>
              </a:rPr>
              <a:t>"Каждый может разозлиться – это легко. Но разозлиться настолько, насколько нужно и по той причине, по которой нужно, - это дано не каждому."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i="1" lang="ru-RU" sz="3000" spc="-1" strike="noStrike">
                <a:solidFill>
                  <a:srgbClr val="404040"/>
                </a:solidFill>
                <a:latin typeface="Trebuchet MS"/>
              </a:rPr>
              <a:t>Аристотель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4" descr="http://cdn2.elmundoboston.com/wp-content/uploads/2013/09/2-sabia-usted_Aristotle.jpg"/>
          <p:cNvPicPr/>
          <p:nvPr/>
        </p:nvPicPr>
        <p:blipFill>
          <a:blip r:embed="rId1"/>
          <a:stretch/>
        </p:blipFill>
        <p:spPr>
          <a:xfrm>
            <a:off x="5796000" y="907920"/>
            <a:ext cx="34354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8600" y="5770080"/>
            <a:ext cx="859608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Picture 4" descr="http://picsfab.com/download/image/57276/960x640_liziantus-rassela-buket-oformlenie-rozyi-freziya.jpg"/>
          <p:cNvPicPr/>
          <p:nvPr/>
        </p:nvPicPr>
        <p:blipFill>
          <a:blip r:embed="rId1"/>
          <a:stretch/>
        </p:blipFill>
        <p:spPr>
          <a:xfrm>
            <a:off x="270000" y="169920"/>
            <a:ext cx="86454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2:42:59Z</dcterms:created>
  <dc:creator>HP</dc:creator>
  <dc:description/>
  <dc:language>en-US</dc:language>
  <cp:lastModifiedBy>user</cp:lastModifiedBy>
  <dcterms:modified xsi:type="dcterms:W3CDTF">2016-11-26T22:27:15Z</dcterms:modified>
  <cp:revision>12</cp:revision>
  <dc:subject/>
  <dc:title>Агрессивный ребёнок</dc:title>
</cp:coreProperties>
</file>