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D191-84C8-46E6-BCF4-D61C065C5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8E2F-F9EB-42DF-B48F-83F16505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C3DE-47D7-433F-A602-B64D2AF40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20AC-CD02-4065-BB3C-64B8F61D2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A9BF-2440-4845-A771-5E11AF7D8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9228-5F07-4C5E-959C-6E769C67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7A3A-D2B6-4E49-A24A-D0522CD3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E879-0BE8-4787-BA8A-1F8A4339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8167-44E9-459C-AB9C-10B2EC67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A2EA-F363-4EF9-8FC5-3D4EDEEA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6B92-9D24-42CD-B17A-23C4C482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700A-CD66-4241-8DC9-453F3C12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73CB-569D-48E3-AD78-CF766767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9D9A-409E-490C-BEFC-A1A1BF8E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C8C3-CDA4-4777-BA8D-035546DF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6806-14DA-4FAB-B909-B3E15225C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1BB5-52CD-4183-8228-D3DF18220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D13C1-BCCD-42F2-9593-664123754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E629E-175F-4E5A-8F53-3D88B40B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50A60-654A-4E1D-90FB-57EF5A67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BBD76-752A-46D1-98F5-4ACB2417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A1EF7-D87F-4B45-807F-2EB9714D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5901-6921-4904-9CF6-03398FC6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E1093-F7F5-431B-95D0-4D83EB81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E4BCF-865B-48C4-95DB-5E60FCFB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5BB24-4199-430A-A517-1C13210B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4DDEF-BDFF-4CEB-9A3F-E03BCA6F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E4DA7-51C7-4672-A0ED-31612B73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BECAB-F59E-4F7B-9722-CB92B52F7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4646B-7A38-4735-912B-F788A5DC0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D5711-9E14-4F0F-ABF3-1010913C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97ABD-B9E3-4F3C-90B8-13EE7D58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9A612-827A-49D2-9DD3-A7F04876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BEFC-D7F7-44F5-BCD8-0CD2C820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E58F4-04A9-4AF3-B088-AC55B867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0DC07-1AE6-401B-813E-7A4B4837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79B5D-D237-4B21-82DA-78689C11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812B2-C0AE-47D4-8B05-09734E83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2658D-7288-4A18-8748-9F6C39CC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EA3EA-3FED-4B84-BA65-F198E571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EFA3D-B5AC-4E4D-8BD6-1D812CA5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1A177-D455-4DBB-A0C5-244DA9E37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1AEF6-5F6B-49F1-8F63-8E768FEC8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99D2-8777-44F9-A760-6AA7A7C9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AE20-7DAD-4259-A7F7-9886FE27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6A43-8772-4EB9-B438-EC518DA1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42BD-013E-4337-8B1C-E51DB18F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116F-9F35-4523-A1DA-A833C7A0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FE0314-A2FE-4174-A116-5325BFAF60D9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62D8C2-3E21-4746-8A0D-D6E50A4D1C8D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827791-D7AC-4A6B-A23B-084E31DFF1EF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00241C-F5AE-47C9-977D-9DA26E0D2265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6240" y="2404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Агрессивный ребёнок</a:t>
            </a:r>
            <a:br>
              <a:rPr sz="5400"/>
            </a:br>
            <a:r>
              <a:rPr b="0" lang="ru-RU" sz="4000" spc="-1" strike="noStrike">
                <a:solidFill>
                  <a:srgbClr val="90c226"/>
                </a:solidFill>
                <a:latin typeface="Trebuchet MS"/>
              </a:rPr>
              <a:t>Общие особенности общения 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240" y="5100120"/>
            <a:ext cx="7767720" cy="7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Trebuchet MS"/>
              </a:rPr>
              <a:t>Рязанова Жанна Ивановна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Какого ребенка можно назвать агрессивным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77520" y="2160360"/>
            <a:ext cx="54529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Часто нападает на других детей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Перекладывают свою вину на других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В окружающих видят угрозу, обиду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Часто испытывают негативные эмоции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Не стремятся понимать других, своё «Я» для них важнее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6" name="Picture 2" descr="http://cdn-2.mammaebambino.it/o/orig/come-gestire-un-bambino-che-fa-a-botte-con-i-coetanei_d02f91994930b34a00cc450f59bdec14.jpg"/>
          <p:cNvPicPr/>
          <p:nvPr/>
        </p:nvPicPr>
        <p:blipFill>
          <a:blip r:embed="rId1"/>
          <a:stretch/>
        </p:blipFill>
        <p:spPr>
          <a:xfrm>
            <a:off x="6130800" y="2406600"/>
            <a:ext cx="494028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77520" y="39024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Как помочь ребёнку справиться с агрессией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30040" y="1711080"/>
            <a:ext cx="103060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Правильно общаться с ребёнком (лишний раз не орать на него, почаще с ним играть в ролевые игры, разучивать различные стишки, больше уделять внимания)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Дать возможность ребенку снять агрессию, выплеснув эмоции через релаксационный тренинг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Не фиксировать внимание всех на нежелательном поведении ребенка и не впадать самому в агрессивное состояние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Выяснить причину агрессии и спокойно, тактично ее устранить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Чаще хвалить и отмечать любые достижения ребёнка, лишний раз приласкать, показав, что его тоже ценят, что он нужен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77520" y="402840"/>
            <a:ext cx="8596440" cy="7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Профилактика</a:t>
            </a:r>
            <a:r>
              <a:rPr b="1" i="1" lang="ru-RU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детской агресси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728880" y="1299960"/>
            <a:ext cx="6664320" cy="51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Не вмешиваться в спор детей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Предложить другой способ выражения агрессии (подраться с  подушкой)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Отвлечь другим интересным занятием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Научить ребёнка прощать и извиняться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Публичный выговор за проступки с серьёзными последствиями (драка или другое проявление физической агрессии)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Лишить ребёнка привилегий, но не на весь день (запретить заниматься любимым делом)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1" name="Picture 4" descr="http://udoktora.net/wp-content/uploads/2012/02/57497/kak-byit-roditelyam-.jpg"/>
          <p:cNvPicPr/>
          <p:nvPr/>
        </p:nvPicPr>
        <p:blipFill>
          <a:blip r:embed="rId1"/>
          <a:stretch/>
        </p:blipFill>
        <p:spPr>
          <a:xfrm>
            <a:off x="490680" y="4302000"/>
            <a:ext cx="3238200" cy="21891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http://i.huffpost.com/gadgets/slideshows/278181/slide_278181_2051158_original.jpg"/>
          <p:cNvPicPr/>
          <p:nvPr/>
        </p:nvPicPr>
        <p:blipFill>
          <a:blip r:embed="rId2"/>
          <a:stretch/>
        </p:blipFill>
        <p:spPr>
          <a:xfrm>
            <a:off x="209520" y="1546200"/>
            <a:ext cx="33861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509760" y="566280"/>
            <a:ext cx="497664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404040"/>
                </a:solidFill>
                <a:latin typeface="Trebuchet MS"/>
              </a:rPr>
              <a:t>"Каждый может разозлиться – это легко. Но разозлиться настолько, насколько нужно и по той причине, по которой нужно, - это дано не каждому."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3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3000" spc="-1" strike="noStrike">
                <a:solidFill>
                  <a:srgbClr val="404040"/>
                </a:solidFill>
                <a:latin typeface="Trebuchet MS"/>
              </a:rPr>
              <a:t>           </a:t>
            </a:r>
            <a:r>
              <a:rPr b="0" i="1" lang="ru-RU" sz="3000" spc="-1" strike="noStrike">
                <a:solidFill>
                  <a:srgbClr val="404040"/>
                </a:solidFill>
                <a:latin typeface="Trebuchet MS"/>
              </a:rPr>
              <a:t>Аристотель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4" name="Picture 4" descr="http://cdn2.elmundoboston.com/wp-content/uploads/2013/09/2-sabia-usted_Aristotle.jpg"/>
          <p:cNvPicPr/>
          <p:nvPr/>
        </p:nvPicPr>
        <p:blipFill>
          <a:blip r:embed="rId1"/>
          <a:stretch/>
        </p:blipFill>
        <p:spPr>
          <a:xfrm>
            <a:off x="5796000" y="907920"/>
            <a:ext cx="343548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8600" y="5770080"/>
            <a:ext cx="859608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Спасибо за внимание!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6" name="Picture 4" descr="http://picsfab.com/download/image/57276/960x640_liziantus-rassela-buket-oformlenie-rozyi-freziya.jpg"/>
          <p:cNvPicPr/>
          <p:nvPr/>
        </p:nvPicPr>
        <p:blipFill>
          <a:blip r:embed="rId1"/>
          <a:stretch/>
        </p:blipFill>
        <p:spPr>
          <a:xfrm>
            <a:off x="270000" y="169920"/>
            <a:ext cx="864540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31T12:42:59Z</dcterms:created>
  <dc:creator>HP</dc:creator>
  <dc:description/>
  <dc:language>en-US</dc:language>
  <cp:lastModifiedBy>user</cp:lastModifiedBy>
  <dcterms:modified xsi:type="dcterms:W3CDTF">2016-11-26T22:27:15Z</dcterms:modified>
  <cp:revision>12</cp:revision>
  <dc:subject/>
  <dc:title>Агрессивный ребёнок</dc:title>
</cp:coreProperties>
</file>