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367-E88A-4320-A718-8D0BB07F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38D-6C71-4953-9C98-BCB717E6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96A-8181-4592-8336-DDFDEDF9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111-57D7-4285-B94F-477080EB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144-959A-4CD5-86CF-73F952D1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0C8-3D89-4C15-AFB6-EDF42A2F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E26-6DF0-4B67-B3EC-0DDDA247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3C5-7B35-424E-A067-61ABC7F4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A30-B919-4DB6-8AA3-123D69EC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2EA-9FB9-4472-8EDC-1D167309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CA9-8F09-47BB-9B66-27547F9D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C78-B455-4B18-AA5B-2028B5A5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5BC-8AE3-4143-9650-C3E42C5DC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user\Desktop\для презентации\b1636522e00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249120" y="1231920"/>
            <a:ext cx="975816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user\Desktop\для презентации\card33096609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291960" y="-73080"/>
            <a:ext cx="9796320" cy="401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user\Desktop\для презентации\pushkin.jpg"/>
          <p:cNvPicPr/>
          <p:nvPr/>
        </p:nvPicPr>
        <p:blipFill>
          <a:blip r:embed="rId3"/>
          <a:stretch/>
        </p:blipFill>
        <p:spPr>
          <a:xfrm>
            <a:off x="-6480" y="3706920"/>
            <a:ext cx="243864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Таблица 3" descr=""/>
          <p:cNvPicPr/>
          <p:nvPr/>
        </p:nvPicPr>
        <p:blipFill>
          <a:blip r:embed="rId1"/>
          <a:stretch/>
        </p:blipFill>
        <p:spPr>
          <a:xfrm>
            <a:off x="712800" y="1212840"/>
            <a:ext cx="7364520" cy="2292480"/>
          </a:xfrm>
          <a:prstGeom prst="rect">
            <a:avLst/>
          </a:prstGeom>
          <a:ln w="0">
            <a:noFill/>
          </a:ln>
        </p:spPr>
      </p:pic>
      <p:sp>
        <p:nvSpPr>
          <p:cNvPr id="47" name="Line 2"/>
          <p:cNvSpPr/>
          <p:nvPr/>
        </p:nvSpPr>
        <p:spPr>
          <a:xfrm flipH="1">
            <a:off x="642600" y="3429000"/>
            <a:ext cx="125892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"/>
          <p:cNvSpPr/>
          <p:nvPr/>
        </p:nvSpPr>
        <p:spPr>
          <a:xfrm flipH="1">
            <a:off x="1928520" y="3429000"/>
            <a:ext cx="108108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6643800" y="3429000"/>
            <a:ext cx="142848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4125960" y="342900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57960" y="3429000"/>
            <a:ext cx="104292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0" y="42861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не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1000080" y="4857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фе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428920" y="52160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с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2"/>
          <p:cNvSpPr/>
          <p:nvPr/>
        </p:nvSpPr>
        <p:spPr>
          <a:xfrm>
            <a:off x="5296680" y="4929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фолог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6851880" y="43578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нтакс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3" descr=""/>
          <p:cNvPicPr/>
          <p:nvPr/>
        </p:nvPicPr>
        <p:blipFill>
          <a:blip r:embed="rId1"/>
          <a:stretch/>
        </p:blipFill>
        <p:spPr>
          <a:xfrm>
            <a:off x="-237960" y="-360360"/>
            <a:ext cx="9673920" cy="137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42920" y="857160"/>
          <a:ext cx="8715240" cy="5929560"/>
        </p:xfrm>
        <a:graphic>
          <a:graphicData uri="http://schemas.openxmlformats.org/drawingml/2006/table">
            <a:tbl>
              <a:tblPr/>
              <a:tblGrid>
                <a:gridCol w="857160"/>
                <a:gridCol w="3071880"/>
                <a:gridCol w="2428920"/>
                <a:gridCol w="2357280"/>
              </a:tblGrid>
              <a:tr h="285840">
                <a:tc>
                  <a:txBody>
                    <a:bodyPr lIns="22320" rIns="22320" tIns="0" bIns="0" anchor="t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азитель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ль в стихотвор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7560">
                <a:tc>
                  <a:txBody>
                    <a:bodyPr lIns="22320" rIns="22320" tIns="0" bIns="0" anchor="t">
                      <a:noAutofit/>
                    </a:bodyPr>
                    <a:p>
                      <a:pPr marL="14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оционально окрашенная лекс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п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п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оционально окрашенная лекс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ая лекс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ая лекс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ф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оз и солн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чуде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релес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ав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мкнуты негой в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р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ездою сев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ется 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ости, придается торжеств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7920">
                <a:tc>
                  <a:txBody>
                    <a:bodyPr lIns="22320" rIns="22320" tIns="0" bIns="0" anchor="t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ицетво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ицетвор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п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п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п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ьюга злила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гла носила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на,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ак блед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ятно,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утном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б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возь тучи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ра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еч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ют тревож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н, мрач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8240">
                <a:tc>
                  <a:txBody>
                    <a:bodyPr lIns="22320" rIns="22320" tIns="0" bIns="0" anchor="t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о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о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опи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опи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ликолепн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в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Голубым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бе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розрачный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е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ь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зелене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чка </a:t>
                      </a: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блест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гкость, пыш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ежных сугроб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ая зима небог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ками, но картин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этом, насыщ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ом: голубо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ый, зеле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сверкает от сне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320" marR="223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9156960" cy="8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42920" y="1214280"/>
          <a:ext cx="8715240" cy="5097600"/>
        </p:xfrm>
        <a:graphic>
          <a:graphicData uri="http://schemas.openxmlformats.org/drawingml/2006/table">
            <a:tbl>
              <a:tblPr/>
              <a:tblGrid>
                <a:gridCol w="2224800"/>
                <a:gridCol w="4125600"/>
                <a:gridCol w="2278440"/>
                <a:gridCol w="87120"/>
              </a:tblGrid>
              <a:tr h="285840">
                <a:tc>
                  <a:txBody>
                    <a:bodyPr lIns="25560" rIns="25560" tIns="0" bIns="0" anchor="t">
                      <a:noAutofit/>
                    </a:bodyPr>
                    <a:p>
                      <a:pPr marL="17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ль в стихотвор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3800"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ще ты дремлешь,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руг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преле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руг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милый ,предадимся бе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хищение красот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и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ость от вст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7960">
                <a:tc>
                  <a:txBody>
                    <a:bodyPr lIns="25560" rIns="25560" tIns="0" bIns="0" anchor="t">
                      <a:noAutofit/>
                    </a:bodyPr>
                    <a:p>
                      <a:pPr marL="17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стя, блести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Блестя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 солнце, сне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ж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речка подо ль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блес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комната янтар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блеском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зар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сверкает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лодным зимн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ежным блеском,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плым, золотист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ичневы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нтар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zoom dir="in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85840"/>
            <a:ext cx="915696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14200" y="714240"/>
          <a:ext cx="8643960" cy="2243160"/>
        </p:xfrm>
        <a:graphic>
          <a:graphicData uri="http://schemas.openxmlformats.org/drawingml/2006/table">
            <a:tbl>
              <a:tblPr/>
              <a:tblGrid>
                <a:gridCol w="1071720"/>
                <a:gridCol w="1928880"/>
                <a:gridCol w="3546360"/>
                <a:gridCol w="2097000"/>
              </a:tblGrid>
              <a:tr h="560520"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торяющиеся зв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82640">
                <a:tc>
                  <a:txBody>
                    <a:bodyPr lIns="25560" rIns="25560" tIns="0" bIns="0" anchor="t">
                      <a:noAutofit/>
                    </a:bodyPr>
                    <a:p>
                      <a:pPr marL="11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 (14 ра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(7 ра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 (8 ра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о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и с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нце; д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ь чуд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ый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щ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ы д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ешь ,д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 прел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ный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,к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авица, п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ис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о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 сомкнуты н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й вз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вст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 с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й Ав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</a:t>
                      </a: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езд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 с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а явис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-3240" algn="ctr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 indent="-3240" algn="ctr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ает желание лирического героя разбудить возлюбленную, чтобы поделиться счастьем, которое его переполн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14200" y="3000240"/>
          <a:ext cx="8643960" cy="4319640"/>
        </p:xfrm>
        <a:graphic>
          <a:graphicData uri="http://schemas.openxmlformats.org/drawingml/2006/table">
            <a:tbl>
              <a:tblPr/>
              <a:tblGrid>
                <a:gridCol w="1071720"/>
                <a:gridCol w="1928880"/>
                <a:gridCol w="3547800"/>
                <a:gridCol w="2095560"/>
              </a:tblGrid>
              <a:tr h="14018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норные Р, Л, М и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очетании с гласными У, И,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р, т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ы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о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ни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ь, вь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ю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 з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лил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у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бе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л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ил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Лун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, как б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л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е п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я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возь т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у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и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ч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е ж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л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л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т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ы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еча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л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я с</a:t>
                      </a:r>
                      <a:r>
                        <a:rPr b="1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и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л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ают передать завывание вью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82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 (7 раз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 голубыми небес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ликол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ными ковр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стя на солнце, сн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 лежи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зрачный л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один черн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 сквозь иней зелен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р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ка подо льдом блест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уков не слышно, может быть потому, что лирический герой находится в доме и видит зимний пейзаж из ок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43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селым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т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к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Тр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щит затопленная пе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литерация передает треск в п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ll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85840"/>
            <a:ext cx="915696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285840" y="1071720"/>
          <a:ext cx="8643960" cy="5279760"/>
        </p:xfrm>
        <a:graphic>
          <a:graphicData uri="http://schemas.openxmlformats.org/drawingml/2006/table">
            <a:tbl>
              <a:tblPr/>
              <a:tblGrid>
                <a:gridCol w="857160"/>
                <a:gridCol w="1276200"/>
                <a:gridCol w="1724040"/>
                <a:gridCol w="1357560"/>
                <a:gridCol w="1428480"/>
                <a:gridCol w="928800"/>
                <a:gridCol w="1071720"/>
              </a:tblGrid>
              <a:tr h="560160"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ществ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агательны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стоиме-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г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епр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25560" rIns="25560" tIns="0" bIns="0" anchor="t">
                      <a:noAutofit/>
                    </a:bodyPr>
                    <a:p>
                      <a:pPr marL="144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(пов. нак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1160">
                <a:tc>
                  <a:txBody>
                    <a:bodyPr lIns="25560" rIns="25560" tIns="0" bIns="0" anchor="t">
                      <a:noAutofit/>
                    </a:bodyPr>
                    <a:p>
                      <a:pPr marL="11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 (в пов. накл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0080">
                <a:tc>
                  <a:txBody>
                    <a:bodyPr lIns="25560" rIns="25560" tIns="0" bIns="0" anchor="t">
                      <a:noAutofit/>
                    </a:bodyPr>
                    <a:p>
                      <a:pPr marL="11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ts val="14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4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(в наст. вр.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8800"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(в наст.в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9080">
                <a:tc>
                  <a:txBody>
                    <a:bodyPr lIns="25560" rIns="25560" tIns="0" bIns="0" anchor="t">
                      <a:noAutofit/>
                    </a:bodyPr>
                    <a:p>
                      <a:pPr marL="11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в пов. накл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25560" rIns="25560" tIns="0" bIns="0" anchor="t">
                      <a:noAutofit/>
                    </a:bodyPr>
                    <a:p>
                      <a:pPr marL="144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57160" y="928800"/>
          <a:ext cx="7929720" cy="2286000"/>
        </p:xfrm>
        <a:graphic>
          <a:graphicData uri="http://schemas.openxmlformats.org/drawingml/2006/table">
            <a:tbl>
              <a:tblPr/>
              <a:tblGrid>
                <a:gridCol w="928800"/>
                <a:gridCol w="2000160"/>
                <a:gridCol w="3357720"/>
                <a:gridCol w="1643040"/>
              </a:tblGrid>
              <a:tr h="560160"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листилис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г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5840">
                <a:tc>
                  <a:txBody>
                    <a:bodyPr lIns="25560" rIns="25560" tIns="0" bIns="0" anchor="t">
                      <a:noAutofit/>
                    </a:bodyPr>
                    <a:p>
                      <a:pPr marL="11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орическое обра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орические воскл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ще ты дремлешь,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руг прелестный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а ,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расавица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роснись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оз и солнце; день чудесный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рой сомкнуты негой взо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встречу  северной Авр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ездою севера явис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ает силу чувства поэта, счастье, которое 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полн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658800" y="-146160"/>
            <a:ext cx="672300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857160" y="3286080"/>
          <a:ext cx="7929720" cy="2451240"/>
        </p:xfrm>
        <a:graphic>
          <a:graphicData uri="http://schemas.openxmlformats.org/drawingml/2006/table">
            <a:tbl>
              <a:tblPr/>
              <a:tblGrid>
                <a:gridCol w="928800"/>
                <a:gridCol w="2000160"/>
                <a:gridCol w="3357720"/>
                <a:gridCol w="1643040"/>
              </a:tblGrid>
              <a:tr h="281160">
                <a:tc>
                  <a:txBody>
                    <a:bodyPr lIns="25560" rIns="25560" tIns="0" bIns="0" anchor="t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indent="3240" algn="ctr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lIns="25560" rIns="255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793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орический 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 знаешь: не велеть ли в са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былку бурую запреч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тичное предложение прогулки по зимней прир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1360">
                <a:tc>
                  <a:txBody>
                    <a:bodyPr lIns="25560" rIns="25560" tIns="0" bIns="0" anchor="t">
                      <a:noAutofit/>
                    </a:bodyPr>
                    <a:p>
                      <a:pPr marL="32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орическое обра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 милый , предадимся бег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ерпеливого ко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вное отношение к геро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9" name="Line 3"/>
          <p:cNvSpPr/>
          <p:nvPr/>
        </p:nvSpPr>
        <p:spPr>
          <a:xfrm>
            <a:off x="-506520" y="-414360"/>
            <a:ext cx="6589800" cy="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"/>
          <p:cNvSpPr/>
          <p:nvPr/>
        </p:nvSpPr>
        <p:spPr>
          <a:xfrm>
            <a:off x="-701640" y="-237960"/>
            <a:ext cx="0" cy="9729720"/>
          </a:xfrm>
          <a:prstGeom prst="line">
            <a:avLst/>
          </a:prstGeom>
          <a:ln w="12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user\Desktop\для презентации\16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523880" y="3071880"/>
          <a:ext cx="6096240" cy="714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1424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523880" y="3352680"/>
          <a:ext cx="6096240" cy="152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264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Rectangle 3" descr=""/>
          <p:cNvPicPr/>
          <p:nvPr/>
        </p:nvPicPr>
        <p:blipFill>
          <a:blip r:embed="rId2"/>
          <a:stretch/>
        </p:blipFill>
        <p:spPr>
          <a:xfrm>
            <a:off x="-19080" y="914400"/>
            <a:ext cx="9236160" cy="50482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-73080"/>
            <a:ext cx="9156960" cy="1420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01:38Z</dcterms:created>
  <dc:creator>user</dc:creator>
  <dc:description/>
  <dc:language>en-US</dc:language>
  <cp:lastModifiedBy>Admin</cp:lastModifiedBy>
  <dcterms:modified xsi:type="dcterms:W3CDTF">2016-11-25T04:58:43Z</dcterms:modified>
  <cp:revision>47</cp:revision>
  <dc:subject/>
  <dc:title>Слайд 1</dc:title>
</cp:coreProperties>
</file>