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7121-747A-43F9-885B-80DDCA0A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D65B-B758-4633-80D2-A86F03D9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3093-A8BE-43BE-8F8D-83BAEEC1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7E65-7DD8-4F3B-8B59-B35B157C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318C-88F2-43FC-8673-33E002FB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6171-01A9-4820-B4D1-E19262EE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27B7-25FD-485F-AF4F-C3E90FBC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FFE3-D6F2-4CFC-9CA4-DFC504C2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7791-9608-465E-826C-CA280D31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D801-4360-4473-A33A-04ED5F76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16A8-8C19-4DE0-B490-0C6201FE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4418A-31AF-4BDE-A8D2-78E7E96B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1B77-88FE-46E5-99A2-58323E5E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2102-950D-4513-A129-08D72B56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675D-24D9-4ADA-B790-FDA7DDF2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E2B9-8CEF-4257-A91C-5699337B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F427-D4AB-40B4-91A6-515DAE03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88DA-66B5-4973-8A89-41CC82BC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CDB0-E15A-4540-824F-1B1CC973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0B3D-CB47-423D-95A4-713895AC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9174-D885-46D8-ACB1-935771F8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CE0B4-BF7B-487E-93A4-0B1060F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BAFE-52FD-435F-AC25-FCE0BC86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FB26-1EC1-4375-9D6F-6CAF4C7D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D426-3DB0-45DC-A6D1-806481B865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5B5C-15AC-4CD2-8484-B8AFFF6618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341000"/>
            <a:ext cx="78469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7d"/>
                </a:solidFill>
                <a:latin typeface="Century Schoolbook"/>
              </a:rPr>
              <a:t>Автоматизация звука Р.</a:t>
            </a:r>
            <a:br>
              <a:rPr sz="5000"/>
            </a:br>
            <a:r>
              <a:rPr b="0" lang="ru-RU" sz="3600" spc="-1" strike="noStrike">
                <a:solidFill>
                  <a:srgbClr val="00007d"/>
                </a:solidFill>
                <a:latin typeface="Century Schoolbook"/>
              </a:rPr>
              <a:t>Игры с песком</a:t>
            </a:r>
            <a:r>
              <a:rPr b="0" lang="en-US" sz="3600" spc="-1" strike="noStrike">
                <a:solidFill>
                  <a:srgbClr val="00007d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Century Schoolbook"/>
              </a:rPr>
              <a:t>в коррекционной практ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4581360"/>
            <a:ext cx="6400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зработка учителя-логопе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квалификационно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БДОУ д/с №16 «Былин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пыловой С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«Что изменилось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440" y="5516280"/>
            <a:ext cx="54864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имер:  коРоль  и коРолева поменялись мес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C:\Documents and Settings\UserXP\Local Settings\Temporary Internet Files\Content.Word\DSC_0330.jpg"/>
          <p:cNvPicPr/>
          <p:nvPr/>
        </p:nvPicPr>
        <p:blipFill>
          <a:blip r:embed="rId1"/>
          <a:stretch/>
        </p:blipFill>
        <p:spPr>
          <a:xfrm>
            <a:off x="971640" y="476280"/>
            <a:ext cx="7345440" cy="27352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40" name="Рисунок 5" descr="C:\Documents and Settings\UserXP\Local Settings\Temporary Internet Files\Content.Word\DSC_0329.jpg"/>
          <p:cNvPicPr/>
          <p:nvPr/>
        </p:nvPicPr>
        <p:blipFill>
          <a:blip r:embed="rId2"/>
          <a:stretch/>
        </p:blipFill>
        <p:spPr>
          <a:xfrm>
            <a:off x="2411280" y="2492280"/>
            <a:ext cx="4319640" cy="2428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гры на дифференциацию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Р – Р*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5229000"/>
            <a:ext cx="82803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«Разложить ко</a:t>
            </a:r>
            <a:r>
              <a:rPr b="1" lang="ru-RU" sz="1600" spc="-1" strike="noStrike">
                <a:solidFill>
                  <a:srgbClr val="00b050"/>
                </a:solidFill>
                <a:latin typeface="Century Schoolbook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ичневые и се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ые предметы к синей и зелёной фигурка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имер: -Достаю из озеРа коРичневый гРибок.  Достаю из озеРа сеРую маши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4" descr="C:\Documents and Settings\UserXP\Local Settings\Temporary Internet Files\Content.Word\DSC_0322.jpg"/>
          <p:cNvPicPr/>
          <p:nvPr/>
        </p:nvPicPr>
        <p:blipFill>
          <a:blip r:embed="rId1"/>
          <a:stretch/>
        </p:blipFill>
        <p:spPr>
          <a:xfrm>
            <a:off x="826920" y="765000"/>
            <a:ext cx="3600720" cy="27352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44" name="Рисунок 5" descr="C:\Documents and Settings\UserXP\Local Settings\Temporary Internet Files\Content.Word\DSC_0323.jpg"/>
          <p:cNvPicPr/>
          <p:nvPr/>
        </p:nvPicPr>
        <p:blipFill>
          <a:blip r:embed="rId2"/>
          <a:stretch/>
        </p:blipFill>
        <p:spPr>
          <a:xfrm>
            <a:off x="4500720" y="2133720"/>
            <a:ext cx="4319280" cy="2428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440" y="4581360"/>
            <a:ext cx="54864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гра «Дружб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501300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Игры на дифференциацию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Р – Р*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 песочной стране жили разные жители: пиРат, пРинц, пРинцесса, матРёшка, шРек, чеРепашка, кРокодил,чебуРашка. А ещё там жил тигР, который со всеми дружил и любил ходить в гости по втоРникам и сРед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Угадай, с кем тигР дРужил по вто</a:t>
            </a:r>
            <a:r>
              <a:rPr b="0" lang="ru-RU" sz="1600" spc="-1" strike="noStrike">
                <a:solidFill>
                  <a:srgbClr val="0000cc"/>
                </a:solidFill>
                <a:latin typeface="Century Schoolbook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никам, а с кем по с</a:t>
            </a:r>
            <a:r>
              <a:rPr b="0" lang="ru-RU" sz="1600" spc="-1" strike="noStrike">
                <a:solidFill>
                  <a:srgbClr val="00b050"/>
                </a:solidFill>
                <a:latin typeface="Century Schoolbook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еда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имерный ответ: - По втоРникам тигР  дРужил с чебу</a:t>
            </a:r>
            <a:r>
              <a:rPr b="0" lang="ru-RU" sz="1600" spc="-1" strike="noStrike">
                <a:solidFill>
                  <a:srgbClr val="0000cc"/>
                </a:solidFill>
                <a:latin typeface="Century Schoolbook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ашкой.  По сРедам тигР дРужил с мат</a:t>
            </a:r>
            <a:r>
              <a:rPr b="0" lang="ru-RU" sz="1600" spc="-1" strike="noStrike">
                <a:solidFill>
                  <a:srgbClr val="00b050"/>
                </a:solidFill>
                <a:latin typeface="Century Schoolbook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ёш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" descr="C:\Documents and Settings\UserXP\Local Settings\Temporary Internet Files\Content.Word\DSC_0326.jpg"/>
          <p:cNvPicPr/>
          <p:nvPr/>
        </p:nvPicPr>
        <p:blipFill>
          <a:blip r:embed="rId1"/>
          <a:stretch/>
        </p:blipFill>
        <p:spPr>
          <a:xfrm>
            <a:off x="539640" y="476280"/>
            <a:ext cx="4537080" cy="27367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48" name="Рисунок 5" descr="C:\Documents and Settings\UserXP\Local Settings\Temporary Internet Files\Content.Word\DSC_0325.jpg"/>
          <p:cNvPicPr/>
          <p:nvPr/>
        </p:nvPicPr>
        <p:blipFill>
          <a:blip r:embed="rId2"/>
          <a:stretch/>
        </p:blipFill>
        <p:spPr>
          <a:xfrm>
            <a:off x="4859280" y="2276640"/>
            <a:ext cx="3816360" cy="23065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«Сказка про красную рыбку».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( введение звука Р в связную реч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5367240"/>
            <a:ext cx="856908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Придумать рассказ с предложенными игрушками. Условие: в рассказе должны употребляться слова со звуком 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ный рассказ из серии цветных историй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.  В одном озере жила красная рыбка. Часто к озеру приходили разные звери. Приходил оранжевый лев, зебра, ягуар, жираф. Они смеялись над красной рыбкой, потому что она была добрая и доверчива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4" descr="C:\Documents and Settings\UserXP\Local Settings\Temporary Internet Files\Content.Word\DSC_0333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440" y="4672080"/>
            <a:ext cx="5486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472428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днажды красная рыбка попала в речку и поплыла вдоль берегов. Речка привела её в красную страну. Там жил красный человечек с красной уточкой. Он носил красные сапоги, играл красным шариком и стриг красными ножницами. Красный человечек и красная уточка были такими же добрыми и доверчивыми, как и красная рыбка. Теперь у красной рыбки появились красные друзья. Вечерами красный человечек с красной уточкой сидели на красном брёвнышке на берегу речки. Красная рыбка плавала рядом. Они рассказывали друг другу разные истории. Как хорошо им было в красной стран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4" descr="C:\Documents and Settings\UserXP\Local Settings\Temporary Internet Files\Content.Word\DSC_0334.jpg"/>
          <p:cNvPicPr/>
          <p:nvPr/>
        </p:nvPicPr>
        <p:blipFill>
          <a:blip r:embed="rId1"/>
          <a:stretch/>
        </p:blipFill>
        <p:spPr>
          <a:xfrm>
            <a:off x="395280" y="836640"/>
            <a:ext cx="3600360" cy="2448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55" name="Рисунок 5" descr="C:\Documents and Settings\UserXP\Local Settings\Temporary Internet Files\Content.Word\DSC_0335.jpg"/>
          <p:cNvPicPr/>
          <p:nvPr/>
        </p:nvPicPr>
        <p:blipFill>
          <a:blip r:embed="rId2"/>
          <a:stretch/>
        </p:blipFill>
        <p:spPr>
          <a:xfrm>
            <a:off x="4067280" y="1484280"/>
            <a:ext cx="4752720" cy="307836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2843280" y="620640"/>
            <a:ext cx="34574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и всё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233360" y="3213000"/>
            <a:ext cx="6677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елаю красивой, грамотной речи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 чистым звуком Р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рганизовать игры на пес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гры на песке – одна из форм естественной деятельности ребёнка. Именно поэтому мы, взрослые, можем использовать  песочницу в развивающих и обучающих занятиях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Через игры с песком мы осуществляем коррекционную работу сразу в нескольких направлениях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втоматизируем и вводим в речь поставленный звук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ваем мелкую моторику рук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чим детей ориентироваться на «песочном листе» - ориентировка в пространстве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ваем зрительное и слуховое внимание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ваем зрительную и слуховую память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ктивизируем и пополняем словарный запас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вершенствуем грамматическую сторону реч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ормируем связную реч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словия для проведения песочных игр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есочница 70 х 50 с чистым, обработанным песк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ебольшие  по размеру предметы: игрушки, фигурки животных, птиц, людей, бросовый материал      и.т.д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увшин  с водой для мытья рук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лотенц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своей работе я использую  цветные наборы предметов (кРасные, сеРые, оРанжевые, коРичневые, чеРные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42480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2"/>
                </a:solidFill>
                <a:latin typeface="Century Schoolbook"/>
              </a:rPr>
              <a:t>Комната для игр с пе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4720" y="476280"/>
            <a:ext cx="48592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72"/>
                </a:solidFill>
                <a:latin typeface="Century Schoolbook"/>
              </a:rPr>
              <a:t>Логопеды знают, как порой утомительно и долго длится период автоматизации поставленного звука. Использование цвета и песка в этот период может превратить скучную работу в интересную, живую и творческую. Дети берут в руки предметы </a:t>
            </a:r>
            <a:r>
              <a:rPr b="0" lang="en-US" sz="1600" spc="-1" strike="noStrike">
                <a:solidFill>
                  <a:srgbClr val="000072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72"/>
                </a:solidFill>
                <a:latin typeface="Century Schoolbook"/>
              </a:rPr>
              <a:t>определённого цвета, выполняют с ними </a:t>
            </a:r>
            <a:r>
              <a:rPr b="0" lang="en-US" sz="1600" spc="-1" strike="noStrike">
                <a:solidFill>
                  <a:srgbClr val="000072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72"/>
                </a:solidFill>
                <a:latin typeface="Century Schoolbook"/>
              </a:rPr>
              <a:t> действия, моделируют ситуации. Все действия обговариваются. Нужный звук, таким образом, повторяется многократно, а дети получают удовольствие от процесса работы с цветом и песком.</a:t>
            </a:r>
            <a:r>
              <a:rPr b="0" lang="en-US" sz="1600" spc="-1" strike="noStrike">
                <a:solidFill>
                  <a:srgbClr val="000072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Documents and Settings\UserXP\Мои документы\Мои рисунки\8.jpg"/>
          <p:cNvPicPr/>
          <p:nvPr/>
        </p:nvPicPr>
        <p:blipFill>
          <a:blip r:embed="rId1"/>
          <a:stretch/>
        </p:blipFill>
        <p:spPr>
          <a:xfrm>
            <a:off x="179280" y="1700280"/>
            <a:ext cx="4362480" cy="3435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Чистоговорки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5367240"/>
            <a:ext cx="8496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-ра-ра, начинаетс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-ра-ра, пробежаться нам п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-ра-ра, продолжаетс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6" descr="C:\Documents and Settings\UserXP\Local Settings\Temporary Internet Files\Content.Word\DSC_0314.jpg"/>
          <p:cNvPicPr/>
          <p:nvPr/>
        </p:nvPicPr>
        <p:blipFill>
          <a:blip r:embed="rId1"/>
          <a:stretch/>
        </p:blipFill>
        <p:spPr>
          <a:xfrm>
            <a:off x="324000" y="620640"/>
            <a:ext cx="3671640" cy="23036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16" name="Рисунок 4" descr="C:\Documents and Settings\UserXP\Local Settings\Temporary Internet Files\Content.Word\DSC_0336.jpg"/>
          <p:cNvPicPr/>
          <p:nvPr/>
        </p:nvPicPr>
        <p:blipFill>
          <a:blip r:embed="rId2"/>
          <a:stretch/>
        </p:blipFill>
        <p:spPr>
          <a:xfrm>
            <a:off x="3419640" y="1844640"/>
            <a:ext cx="3024000" cy="20876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17" name="Рисунок 4" descr="C:\Documents and Settings\UserXP\Local Settings\Temporary Internet Files\Content.Word\DSC_0337.jpg"/>
          <p:cNvPicPr/>
          <p:nvPr/>
        </p:nvPicPr>
        <p:blipFill>
          <a:blip r:embed="rId3"/>
          <a:stretch/>
        </p:blipFill>
        <p:spPr>
          <a:xfrm>
            <a:off x="5580000" y="2924280"/>
            <a:ext cx="3095640" cy="20872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Чистогово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84360" y="5367240"/>
            <a:ext cx="39592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у-ру-ру, песок в горку соб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ы-ры-ры, покатаю шар с 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C:\Documents and Settings\UserXP\Local Settings\Temporary Internet Files\Content.Word\DSC_0338.jpg"/>
          <p:cNvPicPr/>
          <p:nvPr/>
        </p:nvPicPr>
        <p:blipFill>
          <a:blip r:embed="rId1"/>
          <a:stretch/>
        </p:blipFill>
        <p:spPr>
          <a:xfrm>
            <a:off x="971640" y="907920"/>
            <a:ext cx="3500280" cy="28162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21" name="Рисунок 4" descr="C:\Documents and Settings\UserXP\Local Settings\Temporary Internet Files\Content.Word\DSC_0316.jpg"/>
          <p:cNvPicPr/>
          <p:nvPr/>
        </p:nvPicPr>
        <p:blipFill>
          <a:blip r:embed="rId2"/>
          <a:stretch/>
        </p:blipFill>
        <p:spPr>
          <a:xfrm>
            <a:off x="4643280" y="1484280"/>
            <a:ext cx="3384720" cy="302436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Чистогово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-ро-ро, наберу песок в ве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-ра-ра, высыпаю из ве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C:\Documents and Settings\UserXP\Local Settings\Temporary Internet Files\Content.Word\DSC_0331.jpg"/>
          <p:cNvPicPr/>
          <p:nvPr/>
        </p:nvPicPr>
        <p:blipFill>
          <a:blip r:embed="rId1"/>
          <a:stretch/>
        </p:blipFill>
        <p:spPr>
          <a:xfrm>
            <a:off x="395280" y="692280"/>
            <a:ext cx="4176720" cy="316836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25" name="Рисунок 4" descr="C:\Documents and Settings\UserXP\Local Settings\Temporary Internet Files\Content.Word\DSC_0332.jpg"/>
          <p:cNvPicPr/>
          <p:nvPr/>
        </p:nvPicPr>
        <p:blipFill>
          <a:blip r:embed="rId2"/>
          <a:stretch/>
        </p:blipFill>
        <p:spPr>
          <a:xfrm>
            <a:off x="4716360" y="2060640"/>
            <a:ext cx="3961080" cy="3024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440" y="4076280"/>
            <a:ext cx="5486400" cy="2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entury Schoolbook"/>
              </a:rPr>
              <a:t>«Песочные пря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4508280"/>
            <a:ext cx="8497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1.Вариант:     Раскопай и узнаешь что спрятано: в правом нижнем угл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 правом верхнем угл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в середи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тветы: -В правом нижнем углу я раскопала красный цилин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 В середине я раскопала красное ведро…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2.Вариант:    Нащупать предмет под песком, определить что это (шар). Затем достать и дать полный ответ: - да, это красный ш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4" descr="C:\Documents and Settings\UserXP\Local Settings\Temporary Internet Files\Content.Word\DSC_0319.jpg"/>
          <p:cNvPicPr/>
          <p:nvPr/>
        </p:nvPicPr>
        <p:blipFill>
          <a:blip r:embed="rId1"/>
          <a:stretch/>
        </p:blipFill>
        <p:spPr>
          <a:xfrm>
            <a:off x="468360" y="476280"/>
            <a:ext cx="4105080" cy="3024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29" name="Рисунок 6" descr="C:\Documents and Settings\UserXP\Local Settings\Temporary Internet Files\Content.Word\DSC_0318.jpg"/>
          <p:cNvPicPr/>
          <p:nvPr/>
        </p:nvPicPr>
        <p:blipFill>
          <a:blip r:embed="rId2"/>
          <a:stretch/>
        </p:blipFill>
        <p:spPr>
          <a:xfrm>
            <a:off x="4643280" y="1197000"/>
            <a:ext cx="4321440" cy="28796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Определить место звука </a:t>
            </a:r>
            <a:r>
              <a:rPr b="1" lang="en-US" sz="2000" spc="-1" strike="noStrike">
                <a:solidFill>
                  <a:srgbClr val="c00000"/>
                </a:solidFill>
                <a:latin typeface="Century Schoolbook"/>
              </a:rPr>
              <a:t>[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Р</a:t>
            </a:r>
            <a:r>
              <a:rPr b="1" lang="en-US" sz="2000" spc="-1" strike="noStrike">
                <a:solidFill>
                  <a:srgbClr val="c00000"/>
                </a:solidFill>
                <a:latin typeface="Century Schoolbook"/>
              </a:rPr>
              <a:t>]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 в сл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5157720"/>
            <a:ext cx="8785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Логопед просит ребёнка построить два розовых забора и разложить предметы слева направо относительно себя (как читаем) и забора (закрепление предлог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Ребёнок проговаривает свои действия: -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ыбка перед розовым забором. Звук Р в начале слова.  Вед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о и б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аслет между розовыми заборами. Звук Р в середине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Цилинд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и ша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за розовым забором. Звук Р в конце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C:\Documents and Settings\UserXP\Local Settings\Temporary Internet Files\Content.Word\DSC_0321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6920" y="4941360"/>
            <a:ext cx="648036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Что засыпал пес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5229000"/>
            <a:ext cx="82818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Игры на развитие внимания и памяти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рмерный ответ: - Песок засыпал чебуРашку и коРоле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(игрушки:  тигР, чебуРашка, пиРат, коРолева, кРокодил, коРоль, ШРек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9" descr="C:\Documents and Settings\UserXP\Local Settings\Temporary Internet Files\Content.Word\DSC_0327.jpg"/>
          <p:cNvPicPr/>
          <p:nvPr/>
        </p:nvPicPr>
        <p:blipFill>
          <a:blip r:embed="rId1"/>
          <a:stretch/>
        </p:blipFill>
        <p:spPr>
          <a:xfrm>
            <a:off x="684360" y="476280"/>
            <a:ext cx="7921440" cy="2448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36" name="Рисунок 10" descr="C:\Documents and Settings\UserXP\Local Settings\Temporary Internet Files\Content.Word\DSC_0328.jpg"/>
          <p:cNvPicPr/>
          <p:nvPr/>
        </p:nvPicPr>
        <p:blipFill>
          <a:blip r:embed="rId2"/>
          <a:stretch/>
        </p:blipFill>
        <p:spPr>
          <a:xfrm>
            <a:off x="2843280" y="2492280"/>
            <a:ext cx="4032360" cy="2266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5:09:37Z</dcterms:created>
  <dc:creator>UserXP</dc:creator>
  <dc:description/>
  <dc:language>en-US</dc:language>
  <cp:lastModifiedBy>UserXP</cp:lastModifiedBy>
  <dcterms:modified xsi:type="dcterms:W3CDTF">2016-11-28T17:03:30Z</dcterms:modified>
  <cp:revision>25</cp:revision>
  <dc:subject/>
  <dc:title>Автоматизация звука Р. Игры с песком.</dc:title>
</cp:coreProperties>
</file>