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467-FBD0-49A7-894A-F407B6F6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44E-140F-452B-A6D2-9B971C32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01B-F363-41E5-9B1C-A3DF1384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BF8-43A1-44F4-9732-C854D758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822-78C9-42CE-9F8B-8F041765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3D7-F353-49AB-B090-256A9A3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A6D-97C9-41DC-BAF6-A4D1F72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D4A-5B9B-4581-81A4-4D490A24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F1B-DF6F-4875-AD8B-E918073E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E72-E759-47A0-BC77-7C1B174A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2A6-6F6B-487A-9E3C-964303B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64C-3EBA-4A2A-88ED-01633EFF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EDF-32E6-4723-8E7F-B4F81958D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Беседа о толерантности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оссорился со своей сест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ытаешься объясниться с 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обижаешься и мстишь ей за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не хочется идти на прогулку со своими родны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страиваешь истерику, чтобы не идти гул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идешь с ними гулять, чтобы они были довольн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путь к ми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 в такой ситуации: Ты не согласен с кем-нибудь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все-таки слушае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не даешь ему говор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 классе ты уже ответ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ебе хочется ответить ещ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предоставишь другим возможность ответить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Ребята, мы надеемся, что вы будете терпимее относиться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удете толерантны.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16 ноября – Международный день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егодня мы хотим рассказать вам, что такое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ОЛЕРАН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олерантность – это уважение, принятие и понимание многообразия мир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вороны черные и только одна белая, но им хорошо вместе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Они весело танцуют и поют, и совсем неважно кто и какого цв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oler1"/>
          <p:cNvPicPr/>
          <p:nvPr/>
        </p:nvPicPr>
        <p:blipFill>
          <a:blip r:embed="rId1"/>
          <a:stretch/>
        </p:blipFill>
        <p:spPr>
          <a:xfrm>
            <a:off x="1403280" y="2133720"/>
            <a:ext cx="6350040" cy="4521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способность признавать отличные от своего собственного мнения.  Мы допускаем, что кто-то может думать иначе, или действовать иначе, нежели ты сам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 на картинку: мы разные – но мы дружим!», хотя мальчик ходит на руках, а девочка как обычно, так как мы привыкл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toler2"/>
          <p:cNvPicPr/>
          <p:nvPr/>
        </p:nvPicPr>
        <p:blipFill>
          <a:blip r:embed="rId1"/>
          <a:stretch/>
        </p:blipFill>
        <p:spPr>
          <a:xfrm>
            <a:off x="468360" y="476280"/>
            <a:ext cx="4040280" cy="5608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Толерантность – это благосклонность и уважение к  друг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5280" y="692280"/>
            <a:ext cx="469116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смотрите: какой большой слон и какая маленькая мышка,  они общаются, дружат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Большой слон не обижает маленькую мышку. Они равны, не смотря на разницу в размерах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toler3"/>
          <p:cNvPicPr/>
          <p:nvPr/>
        </p:nvPicPr>
        <p:blipFill>
          <a:blip r:embed="rId1"/>
          <a:stretch/>
        </p:blipFill>
        <p:spPr>
          <a:xfrm>
            <a:off x="250920" y="404640"/>
            <a:ext cx="4351320" cy="609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0" y="1052280"/>
            <a:ext cx="4114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Мы все разные: кто-то любит читать, кто-то заниматься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то-то играет с собачкой, а кто-то разводит цветы, но нам хорошо вместе и мы приглашаем теб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ы поняли, что такое толерантность? Давайте поиграем и проверим: «Толерантны ли вы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ой вы дома… Например: Младший братишка сломал твою игруш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его прощаешь, он сделал это ненароч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ы ударишь ег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ак вы поступи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admin</cp:lastModifiedBy>
  <dcterms:modified xsi:type="dcterms:W3CDTF">2016-11-18T08:20:40Z</dcterms:modified>
  <cp:revision>7</cp:revision>
  <dc:subject/>
  <dc:title>Беседа о толерантности  для учащихся 1-2 класса.</dc:title>
</cp:coreProperties>
</file>