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123-CFAD-4B8D-8387-C63B2BF1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14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4680"/>
            <a:ext cx="88614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5E4-6572-43D9-8619-D61B07A8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960" y="176832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960" y="405468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C70-0BC9-4AA8-9992-DAB3C61D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840" y="1768320"/>
            <a:ext cx="285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768320"/>
            <a:ext cx="285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4680"/>
            <a:ext cx="285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840" y="4054680"/>
            <a:ext cx="285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054680"/>
            <a:ext cx="285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C07-90CA-49AD-AD37-FCD15C10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14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31F-2338-44C4-B43A-B2666AD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14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12A-795E-46C3-A58B-ACE75377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432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960" y="1768320"/>
            <a:ext cx="432432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62A-FAA3-406B-AD08-6439D1C0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FFA-CF53-4339-BD1A-31F9865D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D28-586D-41C7-92D3-51FA8C63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960" y="1768320"/>
            <a:ext cx="432432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25C-7DB1-4061-8D7B-876BB0A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432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960" y="176832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960" y="405468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5E6-1895-4787-8D8B-82B3F00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960" y="1768320"/>
            <a:ext cx="432432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88614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7BB-B863-4A61-A840-0AA515AA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14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AEB1A-6E5E-49A7-8929-546F70B4223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647640"/>
            <a:ext cx="80643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Экскурсии на предприятия и в научные лаборатории как способ формирования метапредметных результатов обучения в условиях реализации ФГО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лева Татья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БОУ СОШ № 37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000" y="0"/>
            <a:ext cx="99360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действенность экскурсии влияет ряд фактор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держание; ● методика и техника ведения;● знания педагога; ● подготовленность участников к освоению экскурсионного материала;● условия проведения экскур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ование экскурсии в учебно-воспитательном, образователь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цессе образовательных учреждений, следует учитывать как возрастные, так и психологические особенности учащихся, а также подготовленность группы к восприятию экскурсионного матери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мни, что экскурсия не прогулка, но обязательная часть учебных занят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Изучи место, куда ведешь экскурс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Выдерживай тему экскурсию, не отвлекайся на случай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Рассказывай на экскурсии только о том, что можно показ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Избегай длинных объяс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Не оставляй экскурсантов только слушателями, заставь их активно работ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Не забрасывай экскурсантов многими названиями: они их забуду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Умей правильно показать объекты и научи слушател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ьно смотреть их, всем должно быть ви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 Не утомляй излишне экскурсантов: они перестанут тебя слуш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. Закрепи экскурсию в памяти последующей проработкой матери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ходя из всего выше сказанного, следует то, что экскурсию можно отнести к одним из самых популярных педагогических методик в предоставлении дополнительных знаний по предмет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84160" y="360360"/>
            <a:ext cx="9051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 Методы диагностики образовательного результ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1008000"/>
            <a:ext cx="9215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 промежуточной аттес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выставка рисунков, фото-, видеоотчет, публикация сочинений/эссе, презент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 итоговой аттест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щита 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ждого вида аттестации разрабатывается свой способ оценивания работ по балл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9280" y="3222720"/>
            <a:ext cx="491184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20720" y="287280"/>
            <a:ext cx="9360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7 Перспективы развития экскурсион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ятельности в учреждении и профессиональной деятельности авт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7280" y="1440000"/>
            <a:ext cx="950436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ознанное активное участие в экскурсионной жизни большин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ающихся, сформированная учебная мотивация, ориентация на здоровый образ жизни, осознанное желание участвовать в подготовительной работе к экскурсиям, подготовка материала к заочным экскурс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каждым годом количест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ащихся, вовлеченных в экскурс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ся. Администрация школ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еляет 4 экскурсионных дня в год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гда все классы не учатся в здан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колы,  а ездят на экскур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16720" y="4238640"/>
            <a:ext cx="446400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360" y="144360"/>
            <a:ext cx="92883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ом реализации может ста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создание условий для приобретения общественного, социального опыта,коммуникативной культу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осуществление преемственности между средним и старшим звеном школ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сплочение детского коллектива, развитие навыков самоорганизации и самоконтроля, самобытности личности ребенка, формирование духовно-нравственных ценностей посредством игровой практ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ивлечение внимания родителей к проблемам воспитания обучающихся и организации досуга де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ивлечение к воспитательной работе в школе родительского акти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43360" y="4176720"/>
            <a:ext cx="425592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5327280"/>
            <a:ext cx="90709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792000"/>
            <a:ext cx="932004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тографии автором сделаны при посещении лаборатории Политехнического университета в Санкт-Петербур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й электронный адрес: yakovtat@yandex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://sch1989uv.mskobr.ru/files/Programma_dopolnitelnoj_aktivnosti_uchashhihsja_Jekskursii_v_gorodskie_organizacii_i_vedomstva1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http://www.school-essays.info/ekskursiya-na-predpriyatie-so-shkolnikami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19280" y="647640"/>
            <a:ext cx="741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Мы лишаем детей будущего, если продолжаем учить сегодня так, как учили этому вчера» Д. Дью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8520" y="1511280"/>
            <a:ext cx="946620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Эссе о значении включения в программу занятий со школьниками экскурсий в различные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бные или познавательные экскурсия в научные лаборатории или на производство являются составной частью учебно-воспитательного процесса, чаще всего организуются и проводятся учителями-предметниками с целью закрепления теоретических знаний по учебному предмету. Экскурсия является одним из видов профориентационной деятельности, поскольку  оказывает  большое  влияние  на формирование  интереса к профессии, так как сочетает в себе наглядность и доступность восприятия с возможностью анализировать, сравнивать, делать выбор. Экскурсию можно рассматривать, как специфически организованный урок, и его эффективность значительно  возрастает,  если  подготовить  экскурсовода,  тщательно продумать маршрут и объекты осмотра, подготовить учащихся к активному восприятию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2400" y="216000"/>
            <a:ext cx="95248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меняемые автором формы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1760" y="736560"/>
            <a:ext cx="960588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водные, теоретические, практические, занятия ознакомления, повторения, обобщения полученных знаний, беседа, занятия с игровым элементом,комбинированные занятия, конкурсы и выставки, прогу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ы организации деятель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Фронтальная (все дети одновременно выполняют одинаковую работу под руководством педагог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Индивидуальная (самостоятельная работа ребенка при выполн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уального задания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Коллективная (дети выполняют общую работу, проявляя самостоятельность и взаимопомощь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Групповая (для выполнения работы дети объединяются в малые групп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28720" y="5035680"/>
            <a:ext cx="3322800" cy="237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832360" y="4967280"/>
            <a:ext cx="3456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1440" y="144360"/>
            <a:ext cx="676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ели и задачи раб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360" y="576360"/>
            <a:ext cx="972036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и экскурс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- интеграция и активизация учебной и внеурочной деятельности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воспитание интереса к исследовательской работе, выявление научно-творческого потенциала школьн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воспитание  познавательной  и  эстетической  культуры,  позитивных межличностных отнош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оспитание  духовно-нравственных  приоритетов  в  процессе  общения  с природой и социум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расширение кругозора учащихс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осуществление связи обучения с жизнью, формирование практических умений и навы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16360" y="3527280"/>
            <a:ext cx="6264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ознакомить обучающихся с деятельностью городских организаций и ведом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беспечить социализацию и адаптацию обучающихся к жизни в обществ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беспечить гражданско-патриотическое воспитание обучаю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ормировать общую культуру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возрастной категории 14-18 л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оздать условия для профессионального самоопределения обучаю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формировать профессиональную ориентацию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0360" y="4243320"/>
            <a:ext cx="324648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503280"/>
            <a:ext cx="9360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ктуальность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рганизация экскурсий для школьников уже давно является вспомогательной формой образования учащихся.  Комплексные учебно-тематические экскурсии неразрывно связаны с формированием познавательного интереса учащихся и, безусловно, способствуют более глубокому освоению учебного матери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сегодня эти экскурсии как никогда актуаль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90960" y="3595680"/>
            <a:ext cx="417996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0360" y="216000"/>
            <a:ext cx="972036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экскур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ебные или познаватель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кскурсии (тематические,   комплексные, профессиографические) на предприятия, в научные лаборатории, учреждения и фирмы в рамках предпрофильного и профильного обучения с целью закрепления общих теоретических знаний по выбранной специальности.                                                           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ультурно-досуго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кскурсии в учреждения или на объекты истории и культуры с целью духовно-нравственного и гражданско-патриотического воспитания учащихся.                                                        •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знакомитель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зорные экскурсии абитуриентов (старшеклассников) по объектам учебного заведения.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астенин  В.А. в учебном пособии «Педагогика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кскурсию как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Специальное  учебно-воспитательно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нятие,  перенесенное  в  соответств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 определенной образовательной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спитательной целью на предприяти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музеи, на выставки и т.д.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92760" y="4890960"/>
            <a:ext cx="31006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31640" y="71280"/>
            <a:ext cx="950436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соблюдать определенный порядок подготовки к экскур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Определить конкретные учебные цели экскурсии - что именно показать учащимся в течение часа на данном объек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Выбор предприятия (организации), на которое будет проведена экскурс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Знакомство с ответственным лицом на данном предприятии, специалистом-профессионалом в своей отрасли,  которое проведет часовую экскурсию с учащимися. Учителю желательно объяснить ему цель экскурсии, дать краткую характеристику данного класса (т. е. как учащиеся  воспринимают теоретический материал, уровень их интеллекта, степень знаний по данному профилю и т. д.); что конкретно интересует обучающихся в данной экскурсии; что надо показать и о чем поговорить; конкретные сроки и время проведения экскурс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Узнать о пропускном режиме на данном предприятии. Договориться о пропуске на объект учащихся по списку с указанием количества людей, их фамилий, заверенный администрацией учебного заведения и согласованный с администрацией предприя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Ознакомление с маршрутом следования до предприят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3280" y="360360"/>
            <a:ext cx="921528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Предварительная работа с учащими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ному коллективу необходимо поставить конкретную цель экскурсии: что они должны увидеть и услышать, на что особо обратить внимание во время экскурсии. Обязательно (возможно, под запись) определяется задание учащимся, а по возможности - их микрогруппам (по уровню усвоения теоретических знаний). После проведения экскурсии в обязательном порядке классный руководитель (учитель-предметник) должен проверить уровень усвоения практических знаний во время экскурсии и качество выполнения практического зад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дение собеседования с учащимися о поведении на улице и на предприят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дение беседы (возможно, под расписку в специальном журнале) по технике безопасности во время переездов (переходов) до предприятия и на предприятии. Педагог кратко характеризует особенности данного объекта и информирует обучающихся о соблюдении конкретных мер безопасности именно на данном объекте (в производственном цехе, отделе, фирм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Оформление необходимой документ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рганизованной учебной экскурсии в обязательном порядке издается приказ по учебному заведению с указанием сроков и цели экскурсии, объекта, класса и ответственных лиц и т.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1640" y="360360"/>
            <a:ext cx="928872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едприя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условленное время вас ожидает ответственное лицо от предприятия, помогает пройти на объект. Проводится ознакомительная беседа: знакомство с ответственными лицами производства, еще раз объясняется техника безопасности, кратко ставится задача перед учащимися - что и где посмотреть, можно ли прикасаться руками и т. 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ельность экскурсии не должна превышать 1 часа или 1 часа 15 минут. В противном случае внимание обучающихся рассеивается и эффективность экскурсии сниж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держание самой экскурсии сугубо индивидуально! В общих чертах - на производстве необходимо рассказывать учащимся только о том, что им уже известно из тео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11640" y="4813200"/>
            <a:ext cx="4105440" cy="274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4T04:57:03Z</dcterms:created>
  <dc:creator>tanya </dc:creator>
  <dc:description/>
  <dc:language>en-US</dc:language>
  <cp:lastModifiedBy>tanya </cp:lastModifiedBy>
  <dcterms:modified xsi:type="dcterms:W3CDTF">2016-09-14T22:00:53Z</dcterms:modified>
  <cp:revision>28</cp:revision>
  <dc:subject/>
  <dc:title/>
</cp:coreProperties>
</file>