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53BB-E4C1-4658-A6FE-3BA1843607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B327-D97B-4E5C-8B73-FB7BAE5420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ED64-6537-4BF4-86B6-5764838B87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26F4-F03F-4FA7-ADED-24292BE05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25A4-28BB-4634-A240-380F8B94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B4DF-AC67-4690-8890-31FC0B1B7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A1D5-3B28-48EF-9935-3D7B33651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A995-ACB6-47B3-867D-4350015C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570C-695A-446B-9BD1-76DB639C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456F-4EAB-40D6-A2C1-46C3E7FB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8C76-AA7B-4024-BCDE-B175AF14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7AF5-3F4B-4996-9088-6728673A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FFB9-9DAE-4652-A703-BB0C44AC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8D40-DC35-4957-B603-139FA166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5A3C-F01E-438C-AC8C-6D99BA5B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15C0-981E-4847-9207-2771CD5478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МБДОУ «Черлакский детский сад №2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сперимен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редство формир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знавательной активности старш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школь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:\Users\User7\Desktop\экспер555.jpg"/>
          <p:cNvPicPr/>
          <p:nvPr/>
        </p:nvPicPr>
        <p:blipFill>
          <a:blip r:embed="rId1"/>
          <a:stretch/>
        </p:blipFill>
        <p:spPr>
          <a:xfrm>
            <a:off x="2544840" y="3573360"/>
            <a:ext cx="403056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Уголки эксперимент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I:\DCIM\100NIKON\DSCN0295.JPG"/>
          <p:cNvPicPr/>
          <p:nvPr/>
        </p:nvPicPr>
        <p:blipFill>
          <a:blip r:embed="rId1"/>
          <a:stretch/>
        </p:blipFill>
        <p:spPr>
          <a:xfrm>
            <a:off x="297000" y="907920"/>
            <a:ext cx="4265640" cy="3200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I:\DCIM\100NIKON\DSCN0300.JPG"/>
          <p:cNvPicPr/>
          <p:nvPr/>
        </p:nvPicPr>
        <p:blipFill>
          <a:blip r:embed="rId2"/>
          <a:stretch/>
        </p:blipFill>
        <p:spPr>
          <a:xfrm>
            <a:off x="4859280" y="969840"/>
            <a:ext cx="4105440" cy="3078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I:\DCIM\100NIKON\DSCN0657.JPG"/>
          <p:cNvPicPr/>
          <p:nvPr/>
        </p:nvPicPr>
        <p:blipFill>
          <a:blip r:embed="rId3"/>
          <a:stretch/>
        </p:blipFill>
        <p:spPr>
          <a:xfrm>
            <a:off x="2428920" y="3429000"/>
            <a:ext cx="4267080" cy="31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</a:rPr>
              <a:t>2). Создание предметно-пространственной   среды групп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о включать детские энциклопедии, атласы, географические карт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обус, книги по интересам дете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пки с разнообразным иллюстративным материал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дактические игры, развивающие познавательные интересы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Предметно-пространственная среда груп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C:\Users\User7\Desktop\К презинтеции эксперименты\DSCN0795.JPG"/>
          <p:cNvPicPr/>
          <p:nvPr/>
        </p:nvPicPr>
        <p:blipFill>
          <a:blip r:embed="rId1"/>
          <a:stretch/>
        </p:blipFill>
        <p:spPr>
          <a:xfrm>
            <a:off x="179280" y="1616040"/>
            <a:ext cx="3961080" cy="2970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C:\Users\User7\Desktop\К презинтеции эксперименты\DSCN0798.JPG"/>
          <p:cNvPicPr/>
          <p:nvPr/>
        </p:nvPicPr>
        <p:blipFill>
          <a:blip r:embed="rId2"/>
          <a:stretch/>
        </p:blipFill>
        <p:spPr>
          <a:xfrm>
            <a:off x="4776840" y="1557360"/>
            <a:ext cx="4043160" cy="3029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C:\Users\User7\Desktop\К презинтеции эксперименты\DSCN0800.JPG"/>
          <p:cNvPicPr/>
          <p:nvPr/>
        </p:nvPicPr>
        <p:blipFill>
          <a:blip r:embed="rId3"/>
          <a:stretch/>
        </p:blipFill>
        <p:spPr>
          <a:xfrm>
            <a:off x="2965320" y="3586320"/>
            <a:ext cx="4140360" cy="31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User7\Desktop\К презинтеции эксперименты\DSCN0801.JPG"/>
          <p:cNvPicPr/>
          <p:nvPr/>
        </p:nvPicPr>
        <p:blipFill>
          <a:blip r:embed="rId2"/>
          <a:stretch/>
        </p:blipFill>
        <p:spPr>
          <a:xfrm>
            <a:off x="108000" y="165240"/>
            <a:ext cx="6480000" cy="4860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:\Users\User7\Desktop\К презинтеции эксперименты\DSCN0800.JPG"/>
          <p:cNvPicPr/>
          <p:nvPr/>
        </p:nvPicPr>
        <p:blipFill>
          <a:blip r:embed="rId3"/>
          <a:stretch/>
        </p:blipFill>
        <p:spPr>
          <a:xfrm>
            <a:off x="4716360" y="3454560"/>
            <a:ext cx="4187880" cy="31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C:\Users\User7\Desktop\К презинтеции эксперименты\DSCN0822.JPG"/>
          <p:cNvPicPr/>
          <p:nvPr/>
        </p:nvPicPr>
        <p:blipFill>
          <a:blip r:embed="rId1"/>
          <a:stretch/>
        </p:blipFill>
        <p:spPr>
          <a:xfrm>
            <a:off x="179280" y="115920"/>
            <a:ext cx="603432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C:\Users\User7\Desktop\К презинтеции эксперименты\DSCN0823.JPG"/>
          <p:cNvPicPr/>
          <p:nvPr/>
        </p:nvPicPr>
        <p:blipFill>
          <a:blip r:embed="rId2"/>
          <a:stretch/>
        </p:blipFill>
        <p:spPr>
          <a:xfrm>
            <a:off x="4356000" y="3727440"/>
            <a:ext cx="46278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User7\Desktop\К презинтеции эксперименты\DSCN0794.JPG"/>
          <p:cNvPicPr/>
          <p:nvPr/>
        </p:nvPicPr>
        <p:blipFill>
          <a:blip r:embed="rId2"/>
          <a:stretch/>
        </p:blipFill>
        <p:spPr>
          <a:xfrm>
            <a:off x="2771640" y="115920"/>
            <a:ext cx="6264360" cy="4699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:\Users\User7\Desktop\К презинтеции эксперименты\DSCN0796.JPG"/>
          <p:cNvPicPr/>
          <p:nvPr/>
        </p:nvPicPr>
        <p:blipFill>
          <a:blip r:embed="rId3"/>
          <a:stretch/>
        </p:blipFill>
        <p:spPr>
          <a:xfrm>
            <a:off x="485640" y="3213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3).Поддержание  собственных исследований ребе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оставление возможностей экспериментиров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разными предметам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риалам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уя в детях моти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язанный с внутренни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ланием узнать нов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C:\Users\User7\Desktop\эксперим 4.gif"/>
          <p:cNvPicPr/>
          <p:nvPr/>
        </p:nvPicPr>
        <p:blipFill>
          <a:blip r:embed="rId1"/>
          <a:stretch/>
        </p:blipFill>
        <p:spPr>
          <a:xfrm>
            <a:off x="6227640" y="2637000"/>
            <a:ext cx="238140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C:\Users\User7\Desktop\К презинтеции эксперименты\SP_A0803.jpg"/>
          <p:cNvPicPr/>
          <p:nvPr/>
        </p:nvPicPr>
        <p:blipFill>
          <a:blip r:embed="rId1"/>
          <a:stretch/>
        </p:blipFill>
        <p:spPr>
          <a:xfrm>
            <a:off x="179280" y="431640"/>
            <a:ext cx="403236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C:\Users\User7\Desktop\К презинтеции эксперименты\SP_A0805.jpg"/>
          <p:cNvPicPr/>
          <p:nvPr/>
        </p:nvPicPr>
        <p:blipFill>
          <a:blip r:embed="rId2"/>
          <a:stretch/>
        </p:blipFill>
        <p:spPr>
          <a:xfrm>
            <a:off x="4735440" y="276120"/>
            <a:ext cx="4240440" cy="3179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C:\Users\User7\Desktop\К презинтеции эксперименты\SP_A0807.jpg"/>
          <p:cNvPicPr/>
          <p:nvPr/>
        </p:nvPicPr>
        <p:blipFill>
          <a:blip r:embed="rId3"/>
          <a:stretch/>
        </p:blipFill>
        <p:spPr>
          <a:xfrm>
            <a:off x="1476360" y="3699000"/>
            <a:ext cx="2232000" cy="2976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C:\Users\User7\Desktop\К презинтеции эксперименты\SP_A0808.jpg"/>
          <p:cNvPicPr/>
          <p:nvPr/>
        </p:nvPicPr>
        <p:blipFill>
          <a:blip r:embed="rId4"/>
          <a:stretch/>
        </p:blipFill>
        <p:spPr>
          <a:xfrm>
            <a:off x="4829040" y="381312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User7\Desktop\К презинтеции эксперименты\опыты\S2410016.JPG"/>
          <p:cNvPicPr/>
          <p:nvPr/>
        </p:nvPicPr>
        <p:blipFill>
          <a:blip r:embed="rId2"/>
          <a:stretch/>
        </p:blipFill>
        <p:spPr>
          <a:xfrm>
            <a:off x="2556000" y="3716280"/>
            <a:ext cx="4451400" cy="2881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Users\User7\Desktop\К презинтеции эксперименты\опыты\S2410007.JPG"/>
          <p:cNvPicPr/>
          <p:nvPr/>
        </p:nvPicPr>
        <p:blipFill>
          <a:blip r:embed="rId3"/>
          <a:stretch/>
        </p:blipFill>
        <p:spPr>
          <a:xfrm>
            <a:off x="4716360" y="476280"/>
            <a:ext cx="4176720" cy="2952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C:\Users\User7\Desktop\К презинтеции эксперименты\SP_A0801.jpg"/>
          <p:cNvPicPr/>
          <p:nvPr/>
        </p:nvPicPr>
        <p:blipFill>
          <a:blip r:embed="rId4"/>
          <a:stretch/>
        </p:blipFill>
        <p:spPr>
          <a:xfrm>
            <a:off x="281160" y="372960"/>
            <a:ext cx="407484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Для работы с детьми  используются наиболее эффективные метод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1471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720720" indent="-7207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руппа:    - методы, повышающие познавательную активно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руппа: - методы, повышающие эмоциональную активность детей при усвоении зна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руппа: - методы коррекции и уточнения представлений, при проведении эксперимент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ой познавательной активност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ей старшего дошкольного возраста выступают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знавательные потребн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оторые выражаются в форме исследовательского поведения, исследовательской активности и инициативност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User7\Desktop\экспер 1.jpg"/>
          <p:cNvPicPr/>
          <p:nvPr/>
        </p:nvPicPr>
        <p:blipFill>
          <a:blip r:embed="rId2"/>
          <a:stretch/>
        </p:blipFill>
        <p:spPr>
          <a:xfrm>
            <a:off x="1822320" y="3606840"/>
            <a:ext cx="534996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852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изация экспериментирования с дошкольниками  требует от педагога демократического стиля общ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2707920"/>
            <a:ext cx="81471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щение с детьми, в ходе проведения экспериментальной деятельности, носит доверительный, доброжелательный характер, побуждающий детей к самостоятельному исследованию и активному познан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C:\Users\User7\Desktop\экспер 2.jpg"/>
          <p:cNvPicPr/>
          <p:nvPr/>
        </p:nvPicPr>
        <p:blipFill>
          <a:blip r:embed="rId1"/>
          <a:stretch/>
        </p:blipFill>
        <p:spPr>
          <a:xfrm>
            <a:off x="6659640" y="3860640"/>
            <a:ext cx="1733400" cy="17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Детское экспериментирование имеет огромный развивающий потенциал </a:t>
            </a:r>
            <a:br>
              <a:rPr sz="2800"/>
            </a:b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и используется в разных видах организованной образовательной и самостоятельной деятельност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2852280"/>
            <a:ext cx="871380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направлений развития дошкольник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9"/>
          <p:cNvSpPr/>
          <p:nvPr/>
        </p:nvSpPr>
        <p:spPr>
          <a:xfrm flipH="1">
            <a:off x="1979280" y="3933720"/>
            <a:ext cx="863640" cy="4320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Прямая со стрелкой 11"/>
          <p:cNvCxnSpPr/>
          <p:nvPr/>
        </p:nvCxnSpPr>
        <p:spPr>
          <a:xfrm flipH="1">
            <a:off x="2915640" y="3644640"/>
            <a:ext cx="719640" cy="6483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15" name="Прямоугольник 12"/>
          <p:cNvSpPr/>
          <p:nvPr/>
        </p:nvSpPr>
        <p:spPr>
          <a:xfrm>
            <a:off x="611280" y="3692520"/>
            <a:ext cx="2089080" cy="1176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4"/>
          <p:cNvSpPr/>
          <p:nvPr/>
        </p:nvSpPr>
        <p:spPr>
          <a:xfrm>
            <a:off x="6516720" y="3693960"/>
            <a:ext cx="2087640" cy="1175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5"/>
          <p:cNvSpPr/>
          <p:nvPr/>
        </p:nvSpPr>
        <p:spPr>
          <a:xfrm>
            <a:off x="1835280" y="5157720"/>
            <a:ext cx="1800000" cy="1150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о- эстет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7"/>
          <p:cNvSpPr/>
          <p:nvPr/>
        </p:nvSpPr>
        <p:spPr>
          <a:xfrm>
            <a:off x="5745240" y="5157720"/>
            <a:ext cx="1828800" cy="1150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е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3"/>
          <p:cNvSpPr/>
          <p:nvPr/>
        </p:nvSpPr>
        <p:spPr>
          <a:xfrm>
            <a:off x="3851280" y="3656160"/>
            <a:ext cx="1728720" cy="1428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-коммуникатив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C:\Users\User7\Desktop\экспер 6.png"/>
          <p:cNvPicPr/>
          <p:nvPr/>
        </p:nvPicPr>
        <p:blipFill>
          <a:blip r:embed="rId1"/>
          <a:stretch/>
        </p:blipFill>
        <p:spPr>
          <a:xfrm>
            <a:off x="2195640" y="1773360"/>
            <a:ext cx="458136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Исследовательская активность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2033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раженное, настойчивое стремление ребенка, направленное на поиск решения проблемы с помощью поисковых действий, исследовательских уме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C:\Users\User7\Desktop\эксперим.jpg"/>
          <p:cNvPicPr/>
          <p:nvPr/>
        </p:nvPicPr>
        <p:blipFill>
          <a:blip r:embed="rId1"/>
          <a:stretch/>
        </p:blipFill>
        <p:spPr>
          <a:xfrm>
            <a:off x="2571840" y="4067280"/>
            <a:ext cx="358452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Н. Н. Поддьяков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Известный отечественный психолог)</a:t>
            </a:r>
            <a:br>
              <a:rPr sz="2800"/>
            </a:b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тельская активность ребенка проявляется как внутреннее стремление, порождающее исследовательское повед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а создает условие для того, чтобы психическое развитие ребенка проходило как процесс саморазвития. Движущей силой саморазвития ребенка является потребность в новых впечатлениях, новых знаниях, в самообновлении, что вызывает исследовательскую актив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знавательная активность – это стремление к наиболее полному познанию предметов и явлений окружающего ми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204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нергетический показател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арактеризует заинтересованность ребенка в деятельности, настойчивость в позна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держательный показател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арактеризует результативность деятельности в процессе получения зн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23640" y="189000"/>
            <a:ext cx="8569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Экспериментирование является одним из вид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ознавате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ое достоинство применения метода экспериментирования в детском сад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 получают реальные представления о различных сторонах изучаемого объ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т обогащение памяти ребенка, активизируется его мыслительные процесс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ется речь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дит накопление фонда умственных приемов и опера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уется  самостоятельность,  способность преобразовывать какие-либо предметы и явления для достижения определенного результа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я самостоятельности, целеполагания, способности преобразовывать какие-либо предметы и явления для достижения определенного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.Н. Поддъяков выделяет два основных вида исследовательской (поисковой) деятельности у дошк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вый вид ориентировочно-исследовательской деятельнос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уется взрослым, который выделяет существенные элементы ситуации, обучает ребенка определенному алгоритму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торой вид ориентировочно-исследовательской деятельнос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ость в процессе деятельности полностью идет от самого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"/>
              </a:rPr>
              <a:t>«Расскажи – и я забуду,</a:t>
            </a:r>
            <a:br>
              <a:rPr sz="4800"/>
            </a:br>
            <a:r>
              <a:rPr b="1" lang="ru-RU" sz="4800" spc="-1" strike="noStrike">
                <a:solidFill>
                  <a:srgbClr val="a50021"/>
                </a:solidFill>
                <a:latin typeface="Arial"/>
              </a:rPr>
              <a:t> покажи – и я запомню, </a:t>
            </a:r>
            <a:br>
              <a:rPr sz="4800"/>
            </a:br>
            <a:r>
              <a:rPr b="1" lang="ru-RU" sz="4800" spc="-1" strike="noStrike">
                <a:solidFill>
                  <a:srgbClr val="a50021"/>
                </a:solidFill>
                <a:latin typeface="Arial"/>
              </a:rPr>
              <a:t>дай попробовать – и я пойму»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479700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Китайская пословиц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C:\Users\User7\Desktop\эксперим3.jpg"/>
          <p:cNvPicPr/>
          <p:nvPr/>
        </p:nvPicPr>
        <p:blipFill>
          <a:blip r:embed="rId1"/>
          <a:stretch/>
        </p:blipFill>
        <p:spPr>
          <a:xfrm>
            <a:off x="5796000" y="3284640"/>
            <a:ext cx="2879640" cy="337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2276280"/>
            <a:ext cx="83628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1). Создание  специального уголка для экспериментир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лжны быть различные материалы (природный, бросовый и т.п.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боры (микроскопы, лупы, весы, магниты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обия и предметы, необходимых для проведения опы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Условия для развития познавательной активности и поддержания интереса дошкольников к эксперименталь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7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7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7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7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7:38:49Z</dcterms:created>
  <dc:creator>елена</dc:creator>
  <dc:description/>
  <dc:language>en-US</dc:language>
  <cp:lastModifiedBy>User7</cp:lastModifiedBy>
  <dcterms:modified xsi:type="dcterms:W3CDTF">2016-11-27T09:54:27Z</dcterms:modified>
  <cp:revision>76</cp:revision>
  <dc:subject/>
  <dc:title>Слайд 1</dc:title>
</cp:coreProperties>
</file>