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33C8-18AF-4A10-812D-9C9D613DF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C61-E94B-4320-BA50-97762B756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DA8C-281E-47B8-9D41-336795A02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845-699A-4719-8D1F-5BBB5181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59D-2644-43A3-A1F5-9BF2D0D4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3E9-7764-4E83-9F64-8428F04B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8FF-5941-45D3-A15D-B2763980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A99-E656-4E0C-9A4B-48BCB59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3F3-3F28-425A-B7AA-84A07BB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4C6-FE91-4C60-B3F6-89DA05B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9AF-F015-41E3-95AD-7CE20239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A0A-69E7-45DF-8AC6-6C512281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52B-C2FB-48BE-9A5A-7F206D9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57A-C68F-4695-A498-6E5AA3A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F90-DFC9-4C25-9AC5-1000082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5EE-F1F1-4F34-8D38-974C99566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МБДОУ «Черлакский детский сад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сперим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редство форм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ой активности старш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User7\Desktop\экспер555.jpg"/>
          <p:cNvPicPr/>
          <p:nvPr/>
        </p:nvPicPr>
        <p:blipFill>
          <a:blip r:embed="rId1"/>
          <a:stretch/>
        </p:blipFill>
        <p:spPr>
          <a:xfrm>
            <a:off x="2544840" y="3573360"/>
            <a:ext cx="40305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Уголк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:\DCIM\100NIKON\DSCN0295.JPG"/>
          <p:cNvPicPr/>
          <p:nvPr/>
        </p:nvPicPr>
        <p:blipFill>
          <a:blip r:embed="rId1"/>
          <a:stretch/>
        </p:blipFill>
        <p:spPr>
          <a:xfrm>
            <a:off x="297000" y="907920"/>
            <a:ext cx="426564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:\DCIM\100NIKON\DSCN0300.JPG"/>
          <p:cNvPicPr/>
          <p:nvPr/>
        </p:nvPicPr>
        <p:blipFill>
          <a:blip r:embed="rId2"/>
          <a:stretch/>
        </p:blipFill>
        <p:spPr>
          <a:xfrm>
            <a:off x="4859280" y="96984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:\DCIM\100NIKON\DSCN0657.JPG"/>
          <p:cNvPicPr/>
          <p:nvPr/>
        </p:nvPicPr>
        <p:blipFill>
          <a:blip r:embed="rId3"/>
          <a:stretch/>
        </p:blipFill>
        <p:spPr>
          <a:xfrm>
            <a:off x="2428920" y="34290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2). Создание предметно-пространственной   среды груп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включать детские энциклопедии, атласы, географические кар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ус, книги по интересам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ки с разнообразным иллюстративным материал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, развивающие познавательные интересы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дметно-пространственная среда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User7\Desktop\К презинтеции эксперименты\DSCN0795.JPG"/>
          <p:cNvPicPr/>
          <p:nvPr/>
        </p:nvPicPr>
        <p:blipFill>
          <a:blip r:embed="rId1"/>
          <a:stretch/>
        </p:blipFill>
        <p:spPr>
          <a:xfrm>
            <a:off x="179280" y="161604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User7\Desktop\К презинтеции эксперименты\DSCN0798.JPG"/>
          <p:cNvPicPr/>
          <p:nvPr/>
        </p:nvPicPr>
        <p:blipFill>
          <a:blip r:embed="rId2"/>
          <a:stretch/>
        </p:blipFill>
        <p:spPr>
          <a:xfrm>
            <a:off x="4776840" y="1557360"/>
            <a:ext cx="4043160" cy="302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User7\Desktop\К презинтеции эксперименты\DSCN0800.JPG"/>
          <p:cNvPicPr/>
          <p:nvPr/>
        </p:nvPicPr>
        <p:blipFill>
          <a:blip r:embed="rId3"/>
          <a:stretch/>
        </p:blipFill>
        <p:spPr>
          <a:xfrm>
            <a:off x="2965320" y="3586320"/>
            <a:ext cx="4140360" cy="31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User7\Desktop\К презинтеции эксперименты\DSCN0801.JPG"/>
          <p:cNvPicPr/>
          <p:nvPr/>
        </p:nvPicPr>
        <p:blipFill>
          <a:blip r:embed="rId2"/>
          <a:stretch/>
        </p:blipFill>
        <p:spPr>
          <a:xfrm>
            <a:off x="108000" y="165240"/>
            <a:ext cx="6480000" cy="486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7\Desktop\К презинтеции эксперименты\DSCN0800.JPG"/>
          <p:cNvPicPr/>
          <p:nvPr/>
        </p:nvPicPr>
        <p:blipFill>
          <a:blip r:embed="rId3"/>
          <a:stretch/>
        </p:blipFill>
        <p:spPr>
          <a:xfrm>
            <a:off x="4716360" y="3454560"/>
            <a:ext cx="418788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User7\Desktop\К презинтеции эксперименты\DSCN0822.JPG"/>
          <p:cNvPicPr/>
          <p:nvPr/>
        </p:nvPicPr>
        <p:blipFill>
          <a:blip r:embed="rId1"/>
          <a:stretch/>
        </p:blipFill>
        <p:spPr>
          <a:xfrm>
            <a:off x="179280" y="11592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User7\Desktop\К презинтеции эксперименты\DSCN0823.JPG"/>
          <p:cNvPicPr/>
          <p:nvPr/>
        </p:nvPicPr>
        <p:blipFill>
          <a:blip r:embed="rId2"/>
          <a:stretch/>
        </p:blipFill>
        <p:spPr>
          <a:xfrm>
            <a:off x="4356000" y="3727440"/>
            <a:ext cx="4627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User7\Desktop\К презинтеции эксперименты\DSCN0794.JPG"/>
          <p:cNvPicPr/>
          <p:nvPr/>
        </p:nvPicPr>
        <p:blipFill>
          <a:blip r:embed="rId2"/>
          <a:stretch/>
        </p:blipFill>
        <p:spPr>
          <a:xfrm>
            <a:off x="2771640" y="11592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User7\Desktop\К презинтеции эксперименты\DSCN0796.JPG"/>
          <p:cNvPicPr/>
          <p:nvPr/>
        </p:nvPicPr>
        <p:blipFill>
          <a:blip r:embed="rId3"/>
          <a:stretch/>
        </p:blipFill>
        <p:spPr>
          <a:xfrm>
            <a:off x="485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3).Поддержание  собственных исследований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оставление возможностей экспериментир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азными предмет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я в детях моти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ный с внутрен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нием узнать но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User7\Desktop\эксперим 4.gif"/>
          <p:cNvPicPr/>
          <p:nvPr/>
        </p:nvPicPr>
        <p:blipFill>
          <a:blip r:embed="rId1"/>
          <a:stretch/>
        </p:blipFill>
        <p:spPr>
          <a:xfrm>
            <a:off x="6227640" y="2637000"/>
            <a:ext cx="2381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User7\Desktop\К презинтеции эксперименты\SP_A0803.jpg"/>
          <p:cNvPicPr/>
          <p:nvPr/>
        </p:nvPicPr>
        <p:blipFill>
          <a:blip r:embed="rId1"/>
          <a:stretch/>
        </p:blipFill>
        <p:spPr>
          <a:xfrm>
            <a:off x="179280" y="43164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User7\Desktop\К презинтеции эксперименты\SP_A0805.jpg"/>
          <p:cNvPicPr/>
          <p:nvPr/>
        </p:nvPicPr>
        <p:blipFill>
          <a:blip r:embed="rId2"/>
          <a:stretch/>
        </p:blipFill>
        <p:spPr>
          <a:xfrm>
            <a:off x="4735440" y="276120"/>
            <a:ext cx="4240440" cy="317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7\Desktop\К презинтеции эксперименты\SP_A0807.jpg"/>
          <p:cNvPicPr/>
          <p:nvPr/>
        </p:nvPicPr>
        <p:blipFill>
          <a:blip r:embed="rId3"/>
          <a:stretch/>
        </p:blipFill>
        <p:spPr>
          <a:xfrm>
            <a:off x="1476360" y="369900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User7\Desktop\К презинтеции эксперименты\SP_A0808.jpg"/>
          <p:cNvPicPr/>
          <p:nvPr/>
        </p:nvPicPr>
        <p:blipFill>
          <a:blip r:embed="rId4"/>
          <a:stretch/>
        </p:blipFill>
        <p:spPr>
          <a:xfrm>
            <a:off x="4829040" y="38131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User7\Desktop\К презинтеции эксперименты\опыты\S2410016.JPG"/>
          <p:cNvPicPr/>
          <p:nvPr/>
        </p:nvPicPr>
        <p:blipFill>
          <a:blip r:embed="rId2"/>
          <a:stretch/>
        </p:blipFill>
        <p:spPr>
          <a:xfrm>
            <a:off x="2556000" y="3716280"/>
            <a:ext cx="4451400" cy="28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User7\Desktop\К презинтеции эксперименты\опыты\S2410007.JPG"/>
          <p:cNvPicPr/>
          <p:nvPr/>
        </p:nvPicPr>
        <p:blipFill>
          <a:blip r:embed="rId3"/>
          <a:stretch/>
        </p:blipFill>
        <p:spPr>
          <a:xfrm>
            <a:off x="4716360" y="47628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User7\Desktop\К презинтеции эксперименты\SP_A0801.jpg"/>
          <p:cNvPicPr/>
          <p:nvPr/>
        </p:nvPicPr>
        <p:blipFill>
          <a:blip r:embed="rId4"/>
          <a:stretch/>
        </p:blipFill>
        <p:spPr>
          <a:xfrm>
            <a:off x="281160" y="372960"/>
            <a:ext cx="40748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Для работы с детьми  используются наиболее эффективные мет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   - методы, повышающие познавательную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- методы, повышающие эмоциональную активность детей при усвоении зн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ппа: - методы коррекции и уточнения представлений, при проведении эксперимен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й познавательной активнос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таршего дошкольного возраста выступа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 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выражаются в форме исследовательского поведения, исследовательской активности и инициативно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7\Desktop\экспер 1.jpg"/>
          <p:cNvPicPr/>
          <p:nvPr/>
        </p:nvPicPr>
        <p:blipFill>
          <a:blip r:embed="rId2"/>
          <a:stretch/>
        </p:blipFill>
        <p:spPr>
          <a:xfrm>
            <a:off x="1822320" y="3606840"/>
            <a:ext cx="534996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85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экспериментирования с дошкольниками  требует от педагога демократического стиля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147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ение с детьми, в ходе проведения экспериментальной деятельности, носит доверительный, доброжелательный характер, побуждающий детей к самостоятельному исследованию и активному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:\Users\User7\Desktop\экспер 2.jpg"/>
          <p:cNvPicPr/>
          <p:nvPr/>
        </p:nvPicPr>
        <p:blipFill>
          <a:blip r:embed="rId1"/>
          <a:stretch/>
        </p:blipFill>
        <p:spPr>
          <a:xfrm>
            <a:off x="6659640" y="386064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етское экспериментирование имеет огромный развивающий потенциал 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 используется в разных видах организованной образовательной и самостоятельной 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852280"/>
            <a:ext cx="87138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направлений развития дошколь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"/>
          <p:cNvSpPr/>
          <p:nvPr/>
        </p:nvSpPr>
        <p:spPr>
          <a:xfrm flipH="1">
            <a:off x="1979280" y="3933720"/>
            <a:ext cx="863640" cy="432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1"/>
          <p:cNvCxnSpPr/>
          <p:nvPr/>
        </p:nvCxnSpPr>
        <p:spPr>
          <a:xfrm flipH="1">
            <a:off x="2915640" y="3644640"/>
            <a:ext cx="71964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5" name="Прямоугольник 12"/>
          <p:cNvSpPr/>
          <p:nvPr/>
        </p:nvSpPr>
        <p:spPr>
          <a:xfrm>
            <a:off x="611280" y="3692520"/>
            <a:ext cx="2089080" cy="1176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4"/>
          <p:cNvSpPr/>
          <p:nvPr/>
        </p:nvSpPr>
        <p:spPr>
          <a:xfrm>
            <a:off x="6516720" y="3693960"/>
            <a:ext cx="2087640" cy="1175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1835280" y="5157720"/>
            <a:ext cx="1800000" cy="1150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 эст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7"/>
          <p:cNvSpPr/>
          <p:nvPr/>
        </p:nvSpPr>
        <p:spPr>
          <a:xfrm>
            <a:off x="5745240" y="5157720"/>
            <a:ext cx="1828800" cy="1150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851280" y="3656160"/>
            <a:ext cx="1728720" cy="142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Users\User7\Desktop\экспер 6.png"/>
          <p:cNvPicPr/>
          <p:nvPr/>
        </p:nvPicPr>
        <p:blipFill>
          <a:blip r:embed="rId1"/>
          <a:stretch/>
        </p:blipFill>
        <p:spPr>
          <a:xfrm>
            <a:off x="2195640" y="1773360"/>
            <a:ext cx="4581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следовательская активность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033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ное, настойчивое стремление ребенка, направленное на поиск решения проблемы с помощью поисковых действий, исследовательских ум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User7\Desktop\эксперим.jpg"/>
          <p:cNvPicPr/>
          <p:nvPr/>
        </p:nvPicPr>
        <p:blipFill>
          <a:blip r:embed="rId1"/>
          <a:stretch/>
        </p:blipFill>
        <p:spPr>
          <a:xfrm>
            <a:off x="2571840" y="4067280"/>
            <a:ext cx="358452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. Н. Поддьяков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звестный отечественный психолог)</a:t>
            </a:r>
            <a:br>
              <a:rPr sz="28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активность ребенка проявляется как внутреннее стремление, порождающее исследовательское по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создает условие для того, чтобы психическое развитие ребенка проходило как процесс саморазвития. Движущей силой саморазвития ребенка является потребность в новых впечатлениях, новых знаниях, в самообновлении, что вызывает исследовательск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знавательная активность – это стремление к наиболее полному познанию предметов и явлений окружающего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ергетический показат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заинтересованность ребенка в деятельности, настойчивость в позн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ый показат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результативность деятельности в процессе получени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кспериментирование является одним из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достоинство применения метода экспериментирования в детском са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олучают реальные представления о различных сторонах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т обогащение памяти ребенка, активизируется его мыслительные процес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ется речь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накопление фонда умственных приемов и опе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ется  самостоятельность,  способность преобразовывать какие-либо предметы и явления для достижения определенного результ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я самостоятельности, целеполагания, способности преобразовывать какие-либо предметы и явления для достижения определе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.Н. Поддъяков выделяет два основных вида исследовательской (поисковой) деятельности у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вид ориентировочно-исследователь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уется взрослым, который выделяет существенные элементы ситуации, обучает ребенка определенному алгоритму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вид ориентировочно-исследовательско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в процессе деятельности полностью идет от само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«Расскажи – и я забуду,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 покажи – и я запомню,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ай попробовать – и я пойму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User7\Desktop\эксперим3.jpg"/>
          <p:cNvPicPr/>
          <p:nvPr/>
        </p:nvPicPr>
        <p:blipFill>
          <a:blip r:embed="rId1"/>
          <a:stretch/>
        </p:blipFill>
        <p:spPr>
          <a:xfrm>
            <a:off x="5796000" y="3284640"/>
            <a:ext cx="2879640" cy="33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276280"/>
            <a:ext cx="8362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). Создание  специального уголка для эксперимент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ы быть различные материалы (природный, бросовый и т.п.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оры (микроскопы, лупы, весы, магниты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обия и предметы, необходимых для проведения опы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Условия для развития познавательной активности и поддержания интереса дошкольников к эксперимент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7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7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7:38:49Z</dcterms:created>
  <dc:creator>елена</dc:creator>
  <dc:description/>
  <dc:language>en-US</dc:language>
  <cp:lastModifiedBy>User7</cp:lastModifiedBy>
  <dcterms:modified xsi:type="dcterms:W3CDTF">2016-11-27T09:54:27Z</dcterms:modified>
  <cp:revision>76</cp:revision>
  <dc:subject/>
  <dc:title>Слайд 1</dc:title>
</cp:coreProperties>
</file>