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9.gif" ContentType="image/gif"/>
  <Override PartName="/ppt/media/image13.png" ContentType="image/png"/>
  <Override PartName="/ppt/media/image8.png" ContentType="image/png"/>
  <Override PartName="/ppt/media/image5.gif" ContentType="image/gif"/>
  <Override PartName="/ppt/media/image7.gif" ContentType="image/gif"/>
  <Override PartName="/ppt/media/image6.gif" ContentType="image/gif"/>
  <Override PartName="/ppt/media/image4.png" ContentType="image/png"/>
  <Override PartName="/ppt/media/image24.gif" ContentType="image/gif"/>
  <Override PartName="/ppt/media/image25.gif" ContentType="image/gi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png" ContentType="image/png"/>
  <Override PartName="/ppt/media/image14.gif" ContentType="image/gif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DB1A-01EB-48C7-9DB9-7E813B7A6B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7895-1B3B-4756-96DB-DBB8D2C313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902F-CE93-4B2F-94EC-3916F0B32F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06F5-CBC4-418D-BA47-179B17CDED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460F-9EAC-471E-AF87-541207B247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6B43-E102-4A84-B941-C4659FF5CD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9F6-52DA-4685-B9DC-EF2833D6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4DB-F838-42A8-A0D3-76F49725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731-4C42-43F6-BAB6-CD635E7A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4E1-1C83-455C-98BF-8BFD8286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057-78D5-4016-A663-61A987FF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729-BF7F-4242-A94E-666D2F6C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485-8535-45BB-8738-30FA3ACE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5A4-2673-49D9-99F6-9BC42E6F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81B-9A06-4544-9217-27F51054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D43-6DE1-4AF5-99DD-E84354DC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D99-8314-45E4-971D-B77EE6E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226-FCC0-4F0E-AA42-B8B25D7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E171-9E9C-48E1-AF67-B5F3992ACA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85680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Турнир  знатоков  русского  языка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57760"/>
            <a:ext cx="806616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к-игра в 5 клас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500040" y="5214960"/>
            <a:ext cx="80661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3" descr=""/>
          <p:cNvPicPr/>
          <p:nvPr/>
        </p:nvPicPr>
        <p:blipFill>
          <a:blip r:embed="rId1"/>
          <a:stretch/>
        </p:blipFill>
        <p:spPr>
          <a:xfrm>
            <a:off x="1279440" y="1706400"/>
            <a:ext cx="6243840" cy="133524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право 4"/>
          <p:cNvSpPr/>
          <p:nvPr/>
        </p:nvSpPr>
        <p:spPr>
          <a:xfrm>
            <a:off x="7072200" y="5143680"/>
            <a:ext cx="978120" cy="48384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8229600" cy="1116000"/>
          </a:xfrm>
          <a:prstGeom prst="rect">
            <a:avLst/>
          </a:prstGeom>
          <a:ln w="0">
            <a:noFill/>
          </a:ln>
        </p:spPr>
      </p:pic>
      <p:sp>
        <p:nvSpPr>
          <p:cNvPr id="83" name="Стрелка вправо 4"/>
          <p:cNvSpPr/>
          <p:nvPr/>
        </p:nvSpPr>
        <p:spPr>
          <a:xfrm>
            <a:off x="7286760" y="5143680"/>
            <a:ext cx="977760" cy="4838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1590840" y="1865160"/>
            <a:ext cx="5864040" cy="160992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право 4"/>
          <p:cNvSpPr/>
          <p:nvPr/>
        </p:nvSpPr>
        <p:spPr>
          <a:xfrm>
            <a:off x="7286760" y="5000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1590840" y="1816200"/>
            <a:ext cx="5133960" cy="146340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право 4"/>
          <p:cNvSpPr/>
          <p:nvPr/>
        </p:nvSpPr>
        <p:spPr>
          <a:xfrm>
            <a:off x="7500960" y="50720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428760" y="453600"/>
            <a:ext cx="8215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ВЕСЕЛАЯ  ГРАМ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ществительное шко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сыпается глаг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прилагательным весё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й школьный день при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тали мы — местоим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ьет числительно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ученье, без сомн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ниматься надо 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 наречием отл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уроках дорож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людаем мы привы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циплину и реж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5357880" y="428760"/>
            <a:ext cx="3214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и ни у нас части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м их надо 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ри этом не лен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ни часу не теря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школы, как извест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 катаемся в сан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десь особенно умест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ждометья ох и 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  п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теплой п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торя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и речи!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. Высо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Рисунок7.gif"/>
          <p:cNvPicPr/>
          <p:nvPr/>
        </p:nvPicPr>
        <p:blipFill>
          <a:blip r:embed="rId1"/>
          <a:stretch/>
        </p:blipFill>
        <p:spPr>
          <a:xfrm>
            <a:off x="4214880" y="785880"/>
            <a:ext cx="857160" cy="961920"/>
          </a:xfrm>
          <a:prstGeom prst="rect">
            <a:avLst/>
          </a:prstGeom>
          <a:ln w="0">
            <a:noFill/>
          </a:ln>
        </p:spPr>
      </p:pic>
      <p:sp>
        <p:nvSpPr>
          <p:cNvPr id="91" name="Блок-схема: решение 4"/>
          <p:cNvSpPr/>
          <p:nvPr/>
        </p:nvSpPr>
        <p:spPr>
          <a:xfrm>
            <a:off x="3143160" y="3857760"/>
            <a:ext cx="3429000" cy="1285920"/>
          </a:xfrm>
          <a:prstGeom prst="flowChartDecision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6"/>
          <p:cNvSpPr/>
          <p:nvPr/>
        </p:nvSpPr>
        <p:spPr>
          <a:xfrm>
            <a:off x="3286080" y="192888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81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785880" y="257760"/>
            <a:ext cx="771516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ЗАДАНИЕ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едложение так, чтобы каждое слово начиналось с одной и той же буквы. Также учитывается количество слов в предложении. И смысл 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ловек, </a:t>
            </a:r>
            <a:r>
              <a:rPr b="0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тобы  </a:t>
            </a:r>
            <a:r>
              <a:rPr b="0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то- то </a:t>
            </a:r>
            <a:r>
              <a:rPr b="0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вствовать, </a:t>
            </a:r>
            <a:r>
              <a:rPr b="0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тает </a:t>
            </a:r>
            <a:r>
              <a:rPr b="0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десные </a:t>
            </a:r>
            <a:r>
              <a:rPr b="0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</a:t>
            </a:r>
            <a:r>
              <a:rPr b="0" i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тверостишия.</a:t>
            </a:r>
            <a:r>
              <a:rPr b="0" i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14" descr=""/>
          <p:cNvPicPr/>
          <p:nvPr/>
        </p:nvPicPr>
        <p:blipFill>
          <a:blip r:embed="rId1"/>
          <a:stretch/>
        </p:blipFill>
        <p:spPr>
          <a:xfrm>
            <a:off x="1994040" y="390600"/>
            <a:ext cx="4297320" cy="1133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6" descr="р8.jpg"/>
          <p:cNvPicPr/>
          <p:nvPr/>
        </p:nvPicPr>
        <p:blipFill>
          <a:blip r:embed="rId2"/>
          <a:stretch/>
        </p:blipFill>
        <p:spPr>
          <a:xfrm>
            <a:off x="1000080" y="1500120"/>
            <a:ext cx="6875640" cy="4500720"/>
          </a:xfrm>
          <a:prstGeom prst="rect">
            <a:avLst/>
          </a:prstGeom>
          <a:ln w="0">
            <a:noFill/>
          </a:ln>
        </p:spPr>
      </p:pic>
      <p:sp>
        <p:nvSpPr>
          <p:cNvPr id="96" name="Блок-схема: решение 4"/>
          <p:cNvSpPr/>
          <p:nvPr/>
        </p:nvSpPr>
        <p:spPr>
          <a:xfrm>
            <a:off x="6858000" y="5286240"/>
            <a:ext cx="914400" cy="613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Выноска-облако 6"/>
          <p:cNvSpPr/>
          <p:nvPr/>
        </p:nvSpPr>
        <p:spPr>
          <a:xfrm>
            <a:off x="5286240" y="1357200"/>
            <a:ext cx="3429000" cy="2643480"/>
          </a:xfrm>
          <a:prstGeom prst="cloudCallout">
            <a:avLst>
              <a:gd name="adj1" fmla="val 10944"/>
              <a:gd name="adj2" fmla="val 9975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Т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Р12.jpg"/>
          <p:cNvPicPr/>
          <p:nvPr/>
        </p:nvPicPr>
        <p:blipFill>
          <a:blip r:embed="rId1"/>
          <a:stretch/>
        </p:blipFill>
        <p:spPr>
          <a:xfrm>
            <a:off x="214200" y="28584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99" name="Выноска-облако 2"/>
          <p:cNvSpPr/>
          <p:nvPr/>
        </p:nvSpPr>
        <p:spPr>
          <a:xfrm>
            <a:off x="3857760" y="428760"/>
            <a:ext cx="4929120" cy="3398760"/>
          </a:xfrm>
          <a:prstGeom prst="cloudCallout">
            <a:avLst>
              <a:gd name="adj1" fmla="val 33175"/>
              <a:gd name="adj2" fmla="val 10587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4"/>
          <p:cNvSpPr/>
          <p:nvPr/>
        </p:nvSpPr>
        <p:spPr>
          <a:xfrm>
            <a:off x="7572240" y="5929200"/>
            <a:ext cx="914400" cy="612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р.3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102" name="Пятно 2 2"/>
          <p:cNvSpPr/>
          <p:nvPr/>
        </p:nvSpPr>
        <p:spPr>
          <a:xfrm>
            <a:off x="2143080" y="1857240"/>
            <a:ext cx="5572080" cy="4714920"/>
          </a:xfrm>
          <a:prstGeom prst="irregularSeal2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РБУ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решение 4"/>
          <p:cNvSpPr/>
          <p:nvPr/>
        </p:nvSpPr>
        <p:spPr>
          <a:xfrm>
            <a:off x="2428920" y="5857920"/>
            <a:ext cx="914400" cy="612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Р14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286680"/>
          </a:xfrm>
          <a:prstGeom prst="rect">
            <a:avLst/>
          </a:prstGeom>
          <a:ln w="0">
            <a:noFill/>
          </a:ln>
        </p:spPr>
      </p:pic>
      <p:sp>
        <p:nvSpPr>
          <p:cNvPr id="105" name="Горизонтальный свиток 2"/>
          <p:cNvSpPr/>
          <p:nvPr/>
        </p:nvSpPr>
        <p:spPr>
          <a:xfrm>
            <a:off x="4500720" y="0"/>
            <a:ext cx="4214520" cy="3143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РЕМО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решение 4"/>
          <p:cNvSpPr/>
          <p:nvPr/>
        </p:nvSpPr>
        <p:spPr>
          <a:xfrm>
            <a:off x="428760" y="428760"/>
            <a:ext cx="914400" cy="612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3" descr=""/>
          <p:cNvPicPr/>
          <p:nvPr/>
        </p:nvPicPr>
        <p:blipFill>
          <a:blip r:embed="rId1"/>
          <a:stretch/>
        </p:blipFill>
        <p:spPr>
          <a:xfrm>
            <a:off x="1590840" y="2962440"/>
            <a:ext cx="4913280" cy="9331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493560" y="317520"/>
            <a:ext cx="3359160" cy="1955880"/>
          </a:xfrm>
          <a:prstGeom prst="rect">
            <a:avLst/>
          </a:prstGeom>
          <a:ln w="0">
            <a:noFill/>
          </a:ln>
        </p:spPr>
      </p:pic>
      <p:pic>
        <p:nvPicPr>
          <p:cNvPr id="53" name="Схема 6" descr=""/>
          <p:cNvPicPr/>
          <p:nvPr/>
        </p:nvPicPr>
        <p:blipFill>
          <a:blip r:embed="rId3"/>
          <a:stretch/>
        </p:blipFill>
        <p:spPr>
          <a:xfrm>
            <a:off x="493560" y="622440"/>
            <a:ext cx="836928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р.7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429240"/>
          </a:xfrm>
          <a:prstGeom prst="rect">
            <a:avLst/>
          </a:prstGeom>
          <a:ln w="0">
            <a:noFill/>
          </a:ln>
        </p:spPr>
      </p:pic>
      <p:sp>
        <p:nvSpPr>
          <p:cNvPr id="108" name="Блок-схема: решение 2"/>
          <p:cNvSpPr/>
          <p:nvPr/>
        </p:nvSpPr>
        <p:spPr>
          <a:xfrm>
            <a:off x="7786800" y="6000840"/>
            <a:ext cx="914400" cy="612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перфолента 4"/>
          <p:cNvSpPr/>
          <p:nvPr/>
        </p:nvSpPr>
        <p:spPr>
          <a:xfrm>
            <a:off x="3571920" y="3929040"/>
            <a:ext cx="4214880" cy="264312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УКА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3" descr="р.5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286320"/>
          </a:xfrm>
          <a:prstGeom prst="rect">
            <a:avLst/>
          </a:prstGeom>
          <a:ln w="0">
            <a:noFill/>
          </a:ln>
        </p:spPr>
      </p:pic>
      <p:sp>
        <p:nvSpPr>
          <p:cNvPr id="111" name="Блок-схема: решение 2"/>
          <p:cNvSpPr/>
          <p:nvPr/>
        </p:nvSpPr>
        <p:spPr>
          <a:xfrm>
            <a:off x="7929720" y="428760"/>
            <a:ext cx="914400" cy="612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4"/>
          <p:cNvSpPr/>
          <p:nvPr/>
        </p:nvSpPr>
        <p:spPr>
          <a:xfrm>
            <a:off x="4286160" y="714240"/>
            <a:ext cx="4572000" cy="2786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ОВА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Р 2.jpg"/>
          <p:cNvPicPr/>
          <p:nvPr/>
        </p:nvPicPr>
        <p:blipFill>
          <a:blip r:embed="rId1"/>
          <a:stretch/>
        </p:blipFill>
        <p:spPr>
          <a:xfrm>
            <a:off x="428760" y="2071800"/>
            <a:ext cx="4357440" cy="4357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р 10.jpg"/>
          <p:cNvPicPr/>
          <p:nvPr/>
        </p:nvPicPr>
        <p:blipFill>
          <a:blip r:embed="rId2"/>
          <a:stretch/>
        </p:blipFill>
        <p:spPr>
          <a:xfrm>
            <a:off x="4643280" y="642960"/>
            <a:ext cx="4143600" cy="3714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57120" y="714240"/>
            <a:ext cx="4000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РЕБУСЫ  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              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ЕЛЬЩ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решение 6"/>
          <p:cNvSpPr/>
          <p:nvPr/>
        </p:nvSpPr>
        <p:spPr>
          <a:xfrm>
            <a:off x="8072280" y="714240"/>
            <a:ext cx="714600" cy="3574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решение 8"/>
          <p:cNvSpPr/>
          <p:nvPr/>
        </p:nvSpPr>
        <p:spPr>
          <a:xfrm>
            <a:off x="428760" y="2143080"/>
            <a:ext cx="571320" cy="3571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11"/>
          <p:cNvSpPr/>
          <p:nvPr/>
        </p:nvSpPr>
        <p:spPr>
          <a:xfrm rot="3001800">
            <a:off x="347760" y="3190680"/>
            <a:ext cx="3456000" cy="1370160"/>
          </a:xfrm>
          <a:prstGeom prst="rightArrow">
            <a:avLst>
              <a:gd name="adj1" fmla="val 50000"/>
              <a:gd name="adj2" fmla="val 8039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КУ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13"/>
          <p:cNvSpPr/>
          <p:nvPr/>
        </p:nvSpPr>
        <p:spPr>
          <a:xfrm>
            <a:off x="5286240" y="4357800"/>
            <a:ext cx="3429000" cy="1428480"/>
          </a:xfrm>
          <a:prstGeom prst="rightArrow">
            <a:avLst>
              <a:gd name="adj1" fmla="val 50000"/>
              <a:gd name="adj2" fmla="val 9039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З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642960" y="-98280"/>
            <a:ext cx="450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от книга. Откро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ам станет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известно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то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зучать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интересно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ней к зн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овый проложен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ршрут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Линг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нижные тропы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ведут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5000760" y="928800"/>
            <a:ext cx="3714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ы книгу просим вас откр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ней спрятаны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к русский весело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учить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стичь его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екреты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 как с героями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дружить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 в лодку сесть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одну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к Море Знаний перепл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 не пойти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ко дну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7" descr="e1896353a24fa7ae75b9b990649c136e.gif"/>
          <p:cNvPicPr/>
          <p:nvPr/>
        </p:nvPicPr>
        <p:blipFill>
          <a:blip r:embed="rId1"/>
          <a:stretch/>
        </p:blipFill>
        <p:spPr>
          <a:xfrm>
            <a:off x="1214280" y="45007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3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5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55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56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 flipV="1" rot="10800000">
            <a:off x="1643040" y="1037520"/>
            <a:ext cx="557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так, друзья, пришла пора проститься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 я хочу вам пожелать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Всегда с охотою учиться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Всегда с  желанием трудиться,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Никогда не уны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  русский  на  «отлично»  зн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290c7de85eafef207e33c3e7613ffd07.gif"/>
          <p:cNvPicPr/>
          <p:nvPr/>
        </p:nvPicPr>
        <p:blipFill>
          <a:blip r:embed="rId1"/>
          <a:stretch/>
        </p:blipFill>
        <p:spPr>
          <a:xfrm>
            <a:off x="928800" y="3143160"/>
            <a:ext cx="68580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94da"/>
                </a:solidFill>
                <a:latin typeface="Calibri"/>
              </a:rPr>
              <a:t>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3280" y="785880"/>
            <a:ext cx="8183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строва Е.А., Окунёва А.П., Шанский Н.М. Учебный фразеологический словарь русского языка. – М.: Издатель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ина В.В. Занимательное  азбуковедение: Книга для учителя. – М.: Просвещение, 1991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имин В.И., Ашкрова С.Д. и др. Русские пословицы и поговорки: Учебный словарь. – М.: Школа – Пресс, 199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адыженская Т.А., Зельманова Л.М. Практическая методика русского языка: 5 кл.: Книга для учителя. – М.: Просвещение, 1992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ьвов М.Р. Учебный словарь антонимов русского языка. – М.: Издательство АСТ-ЛТД, 199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атова Л.А. Подумай и ответь: Занимательные задачи по рус. яз.: Книга для учащихся 5-7 кл.- М.: Просвещение, 198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www.logozavr.ru/362/ (ребус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57120" y="7142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адание: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ставить пропущенные букв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ол..скать ребёнка – пол..скать бельё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тв..рить дверь – отв..рить свекл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Задр..жать от страха – раздр..жать друг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кр..пя зубами – скр..пя сердц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ло.. с дерева – пло.. из дере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ып..лить из ружья – вып..лоть гряд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120" y="500040"/>
            <a:ext cx="8429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роверь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в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ить дверь – отв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ить свек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др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жать от страха – раздр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жать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кр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я зубами – скр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я серд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ло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с дерева – пло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из дер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п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ть из ружья – вып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оть гряд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кать ребёнка – пол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кать бель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7" descr="book17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86080" y="5357880"/>
            <a:ext cx="192888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7-конечная звезда 6"/>
          <p:cNvSpPr/>
          <p:nvPr/>
        </p:nvSpPr>
        <p:spPr>
          <a:xfrm>
            <a:off x="3571920" y="1214280"/>
            <a:ext cx="4286160" cy="3571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ятно 2 7"/>
          <p:cNvSpPr/>
          <p:nvPr/>
        </p:nvSpPr>
        <p:spPr>
          <a:xfrm>
            <a:off x="4929120" y="428760"/>
            <a:ext cx="1357560" cy="1357200"/>
          </a:xfrm>
          <a:prstGeom prst="irregularSeal2">
            <a:avLst/>
          </a:prstGeom>
          <a:solidFill>
            <a:srgbClr val="d693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ятно 2 8"/>
          <p:cNvSpPr/>
          <p:nvPr/>
        </p:nvSpPr>
        <p:spPr>
          <a:xfrm>
            <a:off x="6929280" y="857160"/>
            <a:ext cx="1343160" cy="1643040"/>
          </a:xfrm>
          <a:prstGeom prst="irregularSeal2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ятно 2 9"/>
          <p:cNvSpPr/>
          <p:nvPr/>
        </p:nvSpPr>
        <p:spPr>
          <a:xfrm>
            <a:off x="3357720" y="1428840"/>
            <a:ext cx="1342800" cy="1128600"/>
          </a:xfrm>
          <a:prstGeom prst="irregularSeal2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ятно 2 10"/>
          <p:cNvSpPr/>
          <p:nvPr/>
        </p:nvSpPr>
        <p:spPr>
          <a:xfrm>
            <a:off x="2857680" y="2928960"/>
            <a:ext cx="1414440" cy="1557360"/>
          </a:xfrm>
          <a:prstGeom prst="irregularSeal2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ятно 2 11"/>
          <p:cNvSpPr/>
          <p:nvPr/>
        </p:nvSpPr>
        <p:spPr>
          <a:xfrm>
            <a:off x="3714840" y="4286160"/>
            <a:ext cx="1485720" cy="1500120"/>
          </a:xfrm>
          <a:prstGeom prst="irregularSeal2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ятно 2 12"/>
          <p:cNvSpPr/>
          <p:nvPr/>
        </p:nvSpPr>
        <p:spPr>
          <a:xfrm>
            <a:off x="7143840" y="2643120"/>
            <a:ext cx="1357200" cy="1714680"/>
          </a:xfrm>
          <a:prstGeom prst="irregularSeal2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ятно 2 13"/>
          <p:cNvSpPr/>
          <p:nvPr/>
        </p:nvSpPr>
        <p:spPr>
          <a:xfrm>
            <a:off x="5214960" y="4429080"/>
            <a:ext cx="1500120" cy="12859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ятно 1 14"/>
          <p:cNvSpPr/>
          <p:nvPr/>
        </p:nvSpPr>
        <p:spPr>
          <a:xfrm>
            <a:off x="5072040" y="2143080"/>
            <a:ext cx="1643040" cy="171468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ятно 2 16"/>
          <p:cNvSpPr/>
          <p:nvPr/>
        </p:nvSpPr>
        <p:spPr>
          <a:xfrm>
            <a:off x="6715080" y="4286160"/>
            <a:ext cx="1343160" cy="1128960"/>
          </a:xfrm>
          <a:prstGeom prst="irregularSeal2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0" y="21420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а, слова, слов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зык – и стар, и вечно н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это так прекрас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огромном мор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е с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паться ежечас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1680" y="2000160"/>
            <a:ext cx="3929040" cy="39290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99000"/>
          </a:bodyPr>
          <a:p>
            <a:pPr marL="262080" indent="-262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Широ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Твёрд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тар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куч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Однотон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Неряш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21m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00960" y="428760"/>
            <a:ext cx="12142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Содержимое 2"/>
          <p:cNvSpPr/>
          <p:nvPr/>
        </p:nvSpPr>
        <p:spPr>
          <a:xfrm>
            <a:off x="4714920" y="2000160"/>
            <a:ext cx="3929040" cy="3938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У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М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яг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Н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тере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Ц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вет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кура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642960" y="64296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берите антонимы к данным словам и прочитайте слово, которое получилось по первым  бук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57120" y="530280"/>
            <a:ext cx="850104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Объясните выражения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Минута в минуту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.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Душа в душу.        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. Кот наплакал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На скорую руку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Чуть свет.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Спустя рукав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Бить баклуши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У чёрта на куличках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.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24m5.gif"/>
          <p:cNvPicPr/>
          <p:nvPr/>
        </p:nvPicPr>
        <p:blipFill>
          <a:blip r:embed="rId1"/>
          <a:stretch/>
        </p:blipFill>
        <p:spPr>
          <a:xfrm>
            <a:off x="4000680" y="1571760"/>
            <a:ext cx="1885680" cy="1419120"/>
          </a:xfrm>
          <a:prstGeom prst="rect">
            <a:avLst/>
          </a:prstGeom>
          <a:ln w="0">
            <a:noFill/>
          </a:ln>
        </p:spPr>
      </p:pic>
      <p:sp>
        <p:nvSpPr>
          <p:cNvPr id="74" name="Вертикальный свиток 4"/>
          <p:cNvSpPr/>
          <p:nvPr/>
        </p:nvSpPr>
        <p:spPr>
          <a:xfrm>
            <a:off x="5143680" y="1214280"/>
            <a:ext cx="3714480" cy="4572000"/>
          </a:xfrm>
          <a:prstGeom prst="verticalScroll">
            <a:avLst>
              <a:gd name="adj" fmla="val 12500"/>
            </a:avLst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о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ру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ыст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бр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ездельни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ле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6286680" y="114300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03280" y="114300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 Приставка та же, что в слов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делать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корень  тот же, что в слов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аклонятьс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суффикс тот же, что в слов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бращени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окончание существительного среднего рода в именительном падеже, а целое – грамматический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термин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Если взять корень из слова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олагать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риставку  из слова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ложени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суффиксы из слова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осклицательны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окончание из слова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числительно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то получим слово, обозначающее признак предмета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255600"/>
            <a:ext cx="637092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642960" y="785880"/>
            <a:ext cx="7929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 В нём приставка такая же, как в слов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друг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Корень, как в слов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груш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Суффиксы такие же, как в слове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та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 Корень мой находится в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н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черк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йди приставку мн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ффикс мой в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етрадк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 встречал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я же - в дневнике я и в журнале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Smilie.gif"/>
          <p:cNvPicPr/>
          <p:nvPr/>
        </p:nvPicPr>
        <p:blipFill>
          <a:blip r:embed="rId1"/>
          <a:stretch/>
        </p:blipFill>
        <p:spPr>
          <a:xfrm>
            <a:off x="7572240" y="2500200"/>
            <a:ext cx="64296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2:55:05Z</dcterms:created>
  <dc:creator>Павел</dc:creator>
  <dc:description/>
  <dc:language>en-US</dc:language>
  <cp:lastModifiedBy>Админ</cp:lastModifiedBy>
  <dcterms:modified xsi:type="dcterms:W3CDTF">2016-11-27T16:31:40Z</dcterms:modified>
  <cp:revision>101</cp:revision>
  <dc:subject/>
  <dc:title>Турнир  знатоков  русского  языка</dc:title>
</cp:coreProperties>
</file>