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A86-494F-4D2D-A145-9B35E383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D00-B394-42BC-B797-1E17DE86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647-BB22-4820-AF63-1C43AD31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72B-F5B8-44C7-B258-4B48F3A9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1CE-7D8F-460C-94D0-C5032D40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8F4-0894-423C-ABB2-4E97C139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ED7-C65C-4F5D-B633-2F4FBC5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0A5-102C-47DE-AFD5-9427DAB0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022-4189-4526-A00C-71F5621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653-255C-4982-BF83-87CC2119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B91-2C41-4C04-8CC6-6D14A9E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7EE-FBE7-433B-BB53-45E4206C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1AA-5A7C-4F76-ABDB-C99CFC01D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71600" y="1643040"/>
            <a:ext cx="47149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мя моего Ангела – Ма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28616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44899194"/>
          <p:cNvPicPr/>
          <p:nvPr/>
        </p:nvPicPr>
        <p:blipFill>
          <a:blip r:embed="rId2"/>
          <a:stretch/>
        </p:blipFill>
        <p:spPr>
          <a:xfrm>
            <a:off x="142920" y="214200"/>
            <a:ext cx="3917880" cy="642960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993415357"/>
          <p:cNvPicPr/>
          <p:nvPr/>
        </p:nvPicPr>
        <p:blipFill>
          <a:blip r:embed="rId1"/>
          <a:stretch/>
        </p:blipFill>
        <p:spPr>
          <a:xfrm>
            <a:off x="428760" y="2500200"/>
            <a:ext cx="3160440" cy="4214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429120" y="1214280"/>
            <a:ext cx="28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крыл мне этот ми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жалея своих си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всегда оберег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ая на свете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37178120_1230164976_R18m"/>
          <p:cNvPicPr/>
          <p:nvPr/>
        </p:nvPicPr>
        <p:blipFill>
          <a:blip r:embed="rId1"/>
          <a:stretch/>
        </p:blipFill>
        <p:spPr>
          <a:xfrm>
            <a:off x="5357880" y="214200"/>
            <a:ext cx="3643200" cy="53420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43680" y="1214280"/>
            <a:ext cx="296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на свете всех ми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теплом своим согре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т больше, чем себ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МАМОЧКА м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858587958"/>
          <p:cNvPicPr/>
          <p:nvPr/>
        </p:nvPicPr>
        <p:blipFill>
          <a:blip r:embed="rId1"/>
          <a:stretch/>
        </p:blipFill>
        <p:spPr>
          <a:xfrm>
            <a:off x="1500120" y="285840"/>
            <a:ext cx="5857920" cy="621828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momshands"/>
          <p:cNvPicPr/>
          <p:nvPr/>
        </p:nvPicPr>
        <p:blipFill>
          <a:blip r:embed="rId1"/>
          <a:srcRect l="0" t="0" r="38" b="2778"/>
          <a:stretch/>
        </p:blipFill>
        <p:spPr>
          <a:xfrm>
            <a:off x="5143680" y="214200"/>
            <a:ext cx="3857400" cy="500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x_e23221df"/>
          <p:cNvPicPr/>
          <p:nvPr/>
        </p:nvPicPr>
        <p:blipFill>
          <a:blip r:embed="rId2"/>
          <a:stretch/>
        </p:blipFill>
        <p:spPr>
          <a:xfrm>
            <a:off x="357120" y="2357280"/>
            <a:ext cx="4349880" cy="377676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re"/>
          <p:cNvPicPr/>
          <p:nvPr/>
        </p:nvPicPr>
        <p:blipFill>
          <a:blip r:embed="rId1"/>
          <a:srcRect l="2935" t="3099" r="3200" b="3411"/>
          <a:stretch/>
        </p:blipFill>
        <p:spPr>
          <a:xfrm>
            <a:off x="2214720" y="285840"/>
            <a:ext cx="4572000" cy="607212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emories"/>
          <p:cNvPicPr/>
          <p:nvPr/>
        </p:nvPicPr>
        <p:blipFill>
          <a:blip r:embed="rId1"/>
          <a:srcRect l="0" t="0" r="1285" b="2173"/>
          <a:stretch/>
        </p:blipFill>
        <p:spPr>
          <a:xfrm>
            <a:off x="5143680" y="214200"/>
            <a:ext cx="3786120" cy="500076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10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61505_1369-800x600"/>
          <p:cNvPicPr/>
          <p:nvPr/>
        </p:nvPicPr>
        <p:blipFill>
          <a:blip r:embed="rId1"/>
          <a:stretch/>
        </p:blipFill>
        <p:spPr>
          <a:xfrm>
            <a:off x="5143680" y="285840"/>
            <a:ext cx="3835080" cy="511164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0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love"/>
          <p:cNvPicPr/>
          <p:nvPr/>
        </p:nvPicPr>
        <p:blipFill>
          <a:blip r:embed="rId1"/>
          <a:srcRect l="0" t="0" r="1200" b="2176"/>
          <a:stretch/>
        </p:blipFill>
        <p:spPr>
          <a:xfrm>
            <a:off x="2071800" y="285840"/>
            <a:ext cx="4813200" cy="635796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10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1de778489ef"/>
          <p:cNvPicPr/>
          <p:nvPr/>
        </p:nvPicPr>
        <p:blipFill>
          <a:blip r:embed="rId1"/>
          <a:stretch/>
        </p:blipFill>
        <p:spPr>
          <a:xfrm>
            <a:off x="324000" y="1125360"/>
            <a:ext cx="4008240" cy="504216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0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3840" y="50004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ень до своего рождения ребёнок спросил у Бог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знаю, зачем я иду в этот мир. Что я должен делать?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 ответ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одарю тебе ангела, который всегда будет рядом с тобой. Он всё тебе объясн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50ff4926dd07b53ebca021b2838e6145_c618521815f62ed2ca5d1b10da144e3b"/>
          <p:cNvPicPr/>
          <p:nvPr/>
        </p:nvPicPr>
        <p:blipFill>
          <a:blip r:embed="rId1"/>
          <a:stretch/>
        </p:blipFill>
        <p:spPr>
          <a:xfrm>
            <a:off x="4929120" y="3143160"/>
            <a:ext cx="3780000" cy="329580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0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1071360"/>
            <a:ext cx="6429240" cy="11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как я пойму его, ведь я не знаю его язы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ел будет учить тебя своему языку. Он будет охранять тебя от всех б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1-web"/>
          <p:cNvPicPr/>
          <p:nvPr/>
        </p:nvPicPr>
        <p:blipFill>
          <a:blip r:embed="rId1"/>
          <a:stretch/>
        </p:blipFill>
        <p:spPr>
          <a:xfrm>
            <a:off x="5715000" y="214200"/>
            <a:ext cx="3270240" cy="40370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3643200" y="4714920"/>
            <a:ext cx="5286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 когда я должен вернуться к теб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й ангел скажет тебе вс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y1p8C2de2RZ-HnBYvpkJP9C9l6y00kMiAK7MeR4XhQp2ROhktBhG0H5ZSxE5cXI2Cbn"/>
          <p:cNvPicPr/>
          <p:nvPr/>
        </p:nvPicPr>
        <p:blipFill>
          <a:blip r:embed="rId2"/>
          <a:stretch/>
        </p:blipFill>
        <p:spPr>
          <a:xfrm>
            <a:off x="714240" y="2428920"/>
            <a:ext cx="2714760" cy="423072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480" y="856800"/>
            <a:ext cx="900108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ак зовут моего анге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ажно как его зовут, у него много имён. Ты будешь называть его «Мама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5e6649dfce4"/>
          <p:cNvPicPr/>
          <p:nvPr/>
        </p:nvPicPr>
        <p:blipFill>
          <a:blip r:embed="rId1"/>
          <a:stretch/>
        </p:blipFill>
        <p:spPr>
          <a:xfrm>
            <a:off x="2987640" y="2276640"/>
            <a:ext cx="3840120" cy="4181400"/>
          </a:xfrm>
          <a:prstGeom prst="rect">
            <a:avLst/>
          </a:prstGeom>
          <a:ln w="0">
            <a:noFill/>
          </a:ln>
        </p:spPr>
      </p:pic>
    </p:spTree>
  </p:cSld>
  <p:transition advTm="13000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14200" y="1285560"/>
            <a:ext cx="47865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сна ночей твоих прошло нема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т, тревог за нас не перечес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ной поклон тебе, родная мам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о, что ты на белом свете 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6875972"/>
          <p:cNvPicPr/>
          <p:nvPr/>
        </p:nvPicPr>
        <p:blipFill>
          <a:blip r:embed="rId1"/>
          <a:stretch/>
        </p:blipFill>
        <p:spPr>
          <a:xfrm>
            <a:off x="4572000" y="285840"/>
            <a:ext cx="4397400" cy="35416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едешь ты туч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ми рука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бру научиш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дрыми сло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286000" y="4572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ибо, родная, что есть ты у нас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идим и слышим тебя каждый час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обрую душу и теплое слов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о, что не видели в жизни плохог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ибо тебе, наш родной челове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ем здоровья на долгий твой ве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0" y="1628640"/>
            <a:ext cx="5543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-O-T-H-E-R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608957795"/>
          <p:cNvPicPr/>
          <p:nvPr/>
        </p:nvPicPr>
        <p:blipFill>
          <a:blip r:embed="rId1"/>
          <a:stretch/>
        </p:blipFill>
        <p:spPr>
          <a:xfrm>
            <a:off x="4714920" y="285840"/>
            <a:ext cx="4265640" cy="33782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214200" y="1149120"/>
            <a:ext cx="362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чка, любимая, родн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ышко, ромашка, василе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не пожелать тебе не зна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замечательный денек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714240" y="278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елаю радости и счасть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а и удачи на твой ве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ердце не рвалось на час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 мой, родной мой, челове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14280" y="1143000"/>
            <a:ext cx="27864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нас ласк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согре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, как и ма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ь одно б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52850159"/>
          <p:cNvPicPr/>
          <p:nvPr/>
        </p:nvPicPr>
        <p:blipFill>
          <a:blip r:embed="rId1"/>
          <a:stretch/>
        </p:blipFill>
        <p:spPr>
          <a:xfrm>
            <a:off x="5786280" y="1500120"/>
            <a:ext cx="3143520" cy="42260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1143000" y="29289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что-нибудь случ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друг бе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чка придет на помощ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учит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f3133692ec3c"/>
          <p:cNvPicPr/>
          <p:nvPr/>
        </p:nvPicPr>
        <p:blipFill>
          <a:blip r:embed="rId1"/>
          <a:stretch/>
        </p:blipFill>
        <p:spPr>
          <a:xfrm>
            <a:off x="214200" y="428760"/>
            <a:ext cx="475308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momsson"/>
          <p:cNvPicPr/>
          <p:nvPr/>
        </p:nvPicPr>
        <p:blipFill>
          <a:blip r:embed="rId2"/>
          <a:srcRect l="0" t="0" r="1927" b="4214"/>
          <a:stretch/>
        </p:blipFill>
        <p:spPr>
          <a:xfrm>
            <a:off x="5786280" y="2357280"/>
            <a:ext cx="3071880" cy="4000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1214640" y="4714560"/>
            <a:ext cx="30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у любят все на све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первый 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ят мам не только де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ят все во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b9"/>
          <p:cNvPicPr/>
          <p:nvPr/>
        </p:nvPicPr>
        <p:blipFill>
          <a:blip r:embed="rId1"/>
          <a:stretch/>
        </p:blipFill>
        <p:spPr>
          <a:xfrm>
            <a:off x="642960" y="2428920"/>
            <a:ext cx="3429000" cy="4182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44760" y="1214280"/>
            <a:ext cx="327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 много сил,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ет всем 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правда, нет на 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наших 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29:20Z</dcterms:created>
  <dc:creator>User</dc:creator>
  <dc:description/>
  <dc:language>en-US</dc:language>
  <cp:lastModifiedBy>Мама</cp:lastModifiedBy>
  <dcterms:modified xsi:type="dcterms:W3CDTF">2011-06-23T16:49:11Z</dcterms:modified>
  <cp:revision>22</cp:revision>
  <dc:subject/>
  <dc:title>The name of  my Angel</dc:title>
</cp:coreProperties>
</file>