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82F-488C-412B-98BF-135EB6B1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F12-A70F-441A-9EB7-2C5720FB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6A8-7308-4631-9B24-EAAC193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5CB-C941-479A-934F-0F8E268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79C-3C86-4947-861B-BB89426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CF9-ECC8-4BC2-9315-D3018C1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537-8972-4825-AAA3-5E3A42D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3F8-32FC-4C63-9B65-2DCA1A75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37A-8FBE-4438-AE3B-D8F1A1C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7C0-C887-4D25-8904-359A845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CA7-CC55-49C7-AB2D-EE6EDDC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555-CBB5-4C06-9D25-606E3D9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E7E-382F-47BB-9498-1C185E1200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ortguide.kiev.ua/articles/308-istoriy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метаний в легкой атлетик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851280" y="4653000"/>
            <a:ext cx="48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шнаренко Леонид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ГБОУ школа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ние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ший вид легкой атлетики, имевший большую популярность еще в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VI в до н.э. стали появляться спортивные диски линзообразной формы разной массы и объема. Моделью современного диска послужил найденный на о. Эгине бронзовый диск (диаметр 21 см, масса 1,884 к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ние коп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вляется древнейшим видом легкой атлетики: оно было в программе соревнований на Олимпийских играх в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етание копья широко распространено в Европе, США, на Кубе. В странах Южной Америки, на Азиатском и Африканском континентах метание копья широкого распространения не получ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3172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ание мол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о молодой вид легкой атлетики. Его история начинается в середине XVIII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 г. метание молота было включено в программу Олимпийских игр в Париже, это способствовало большей популяризации этого вида легкой атлетики во всех странах ми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лкание я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техники толкания ядра продолжается уже около 150 лет. За это время мировой рекорд в данном виде легкой атлетики увеличился более чем в 2 раза. Из простого двигательного приема техника толкания ядра превратилась в сложную систему движений для решения двигательн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все кардинальные изменения соревновательного упражнения толкателей ядра связаны с историей развития мужского вида, который вошел в программу I Олимпийских игр современности (Афины,189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10008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portguide.kiev.ua/articles/308-istori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1. Жилкин, А.И. Легкая атлетика / А.И. Жилкин, В.С. Кузьмин, Е.В. Сидорчук. – М.: Академия, 2003. – 464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Екатерина Рубашко</cp:lastModifiedBy>
  <dcterms:modified xsi:type="dcterms:W3CDTF">2016-11-27T16:00:21Z</dcterms:modified>
  <cp:revision>678</cp:revision>
  <dc:subject/>
  <dc:title>Diapositiva 1</dc:title>
</cp:coreProperties>
</file>