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E43-4328-4540-8B2D-DB760B0C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A76-03E1-4D48-8AAC-C2C60682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584-9081-4BC5-835D-B9F1215A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666-E508-4402-8AB5-EC33D95D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0E45-6019-47B5-AC8B-1DA144BF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70348-D168-4AAF-B285-96F7870D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A8D8C-6961-46C4-8024-60F37F02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96C58-2B4A-4583-AB8B-A843A045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33D91-766A-44BF-B46D-5441CD9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29747-082D-4A0E-AE11-D06C6E8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91290-006F-4C0D-AEAA-FCC80E8E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5EA-DBFA-44B7-BEA0-A8541FD2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8852F-7565-427C-828A-9F62BF4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DB685-9A5E-4F2C-92F9-B544960B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45326-411B-462E-BADB-F313095E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33FB2-5A49-430F-BA99-3421F1EB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8494C-1434-423B-BF29-94B3F17D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FAE8-0DED-4711-9AC5-52076432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C99-9654-45FD-B008-8295040A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B10-056C-4001-9653-62277608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BEC-CCA5-4D7B-8E29-3AD41F7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1E0-5F7E-4A44-88F5-CE5647D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ECC-2A26-41DF-A3EB-62E0996B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3F0-C74B-4613-BC86-5E2CBB0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7B21-C1C4-45CA-80ED-2B24AAAA3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5697-AAE8-4966-9ADF-EADE1F815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9592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</a:t>
            </a: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276280"/>
            <a:ext cx="3887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Цель: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ление старших дошкольников с первоначальными сведениями об истории олимпийского движения древности и современности как достижения общечеловеческ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ка поднимает факел над головой и замирает. Её подруги опускают правые руки к земле, принося торжественную кля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девушке подходит атлет. Юноша принимает факел и в сопровождении группы бегунов отправляется в п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763640" y="1125360"/>
            <a:ext cx="532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наслаждение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дорогам Греции люди спешили на празднества в Олимпию. Некоторые ехали верхом или на повозках, но большинство народа шло просто пешко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214280"/>
            <a:ext cx="56894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зодчи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отя в празднествах принимали участие и присутствовали только мужчины, все равно число гостей измерялось многими тысячами. Олимпийский стадион, где происходил бег и другие гимнастические упражнения, вмещал 40 тысяч человек и был всегда переполнен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908000" y="1268280"/>
            <a:ext cx="532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справедлив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тник, попавший в Олимпию после долгих дней пути, оглушен шумом многотысячной толпы, наполняющей священную рощу и достопримечательные места: храмы, жертвенники, стадион, ипподром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538280" y="1143000"/>
            <a:ext cx="60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вызов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ступает первый ден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. Он открыв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ми в бе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восходе солнц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емся звук труб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дьи и руководите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й в пурпуров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еяниях переходя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все поле на глазах у тысяч зрителей и занимают специально отведенные для них места возле старт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благородство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 бега 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ов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сколько вид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: самый прост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них заключался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м, что противни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ходили друг проти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уга с голыми ру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рад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торой день состяза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с пятиборья.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 входят, кроме бега 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, метание диска, копь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прыжк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19572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31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плодотворность</a:t>
            </a:r>
            <a:r>
              <a:rPr b="1" i="1" lang="en-US" sz="28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дний день игр посвящается состязаниям на ипподроме. Самым старинным и излюбленным видом этих состязании были бега колесниц, запряженных четверкой лошад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68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прогресс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перь состязания окончен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нако празднество этим н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ршается, наступает оди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самых торже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ментов — раздача награ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шатаи снова торжеств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являют име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ей в отдель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евнова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ча наград происходит 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ма Зевс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 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оздать у детей представления об олимпийских играх как мирного соревнования в целях физического совершенствования людей, в котором участвуют народы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ить дошкольников с доступными для детей этого возраста сведения из истории олимпийского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пособствовать формированию у детей интереса к занятиям физическими упражнениями через нравственный и эстетический опыт 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ржественное шествие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переди идут судьи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ем нов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оники в ярки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ных одеждах, 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ками на головах,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уках они держа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мовые вет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ь олимпийских игр всю жизнь оставался почитаемым человеко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535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пятнадцать столетий Олимпия вообще как бы исчезла с лиц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же само её название было забы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сё же Олимпийские игры яркой звездой горели в памяти человечества. Свет этой звезды прошел сквозь века и вспыхнул с новой сил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ужен был человек, котор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л бы предан ид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такой человек наше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го звали Пьер де Куберт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 был совсем молоды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ом, когда высказ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нение о возрождени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шли столетия, и Олимпийские игры теперь благодаря ему – самый яркий праздник челове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98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33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773360"/>
            <a:ext cx="67438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ланете, в нашем мире,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жилых материков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лют спортивные отряд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ризыв Олимпиа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680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00720" cy="31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ять колец, пять кругов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 пяти матер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, который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, что спорт, как общий дру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народы приглаш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свой всемирный, мирный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ы разные, но во всех случая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ворится о том, что Герак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читал шестьсот стоп – расстоя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один стад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и пошло название стади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 Геракл принял 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х по бегу на одну стад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 память о своей победе посади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берегу реки Алфей куст олив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ками которой награжд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 Олимпийские чемпи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8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е игры проводились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«священном» для древних грек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круге Альтис, который называл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Олим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достью всей Олимпии бы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туя Зевса, находящаяся в храм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евса Олимпий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вестно, что маленьк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а Пелопоннеса постоя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евали друг с другом. Разоря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ода, гибли плоды человеческ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емление людей к миру было заложено в идее олимпи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 востока от Альтис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ыкал стадион, южн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положен ипподром. 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аду от Альтиса начин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ройки, предназначенн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атлетов – жилища, 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купальни и б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эти здания подолгу стоя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ыми. Ничто не наруш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шины священного округ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 каждый пятый год, по мере приближения праздника Зевса, повседневная жизнь Олимпии резко менялась. Все готовились к любимейшему празднику – Олимпийским иг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греческим город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ъезжали специальные посл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сообщали о дне предстояще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ликого празднества — знаменит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ах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озглашали условия священн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ра, который объявлялся на врем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здн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якие военные действия, где б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ни происходили, немедл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кращали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центрально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дионе город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столицы Олимпиад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жиг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й ог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яется групп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ек в белоснеж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нтичных туниках. Од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молодых гречан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ржит в руке факел. В сопровождении подруг она подходит к зеркальной лин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24000" y="1268280"/>
            <a:ext cx="46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йманные линзой солнечные лучи направляются на фак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нута и показывается лёгкий дым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щё мгновение – и вспыхивает пла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58920" y="112536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User</cp:lastModifiedBy>
  <dcterms:modified xsi:type="dcterms:W3CDTF">2011-09-28T17:10:50Z</dcterms:modified>
  <cp:revision>9</cp:revision>
  <dc:subject/>
  <dc:title>Слайд 1</dc:title>
</cp:coreProperties>
</file>