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BE4CDA-0CD8-4CF5-B6A0-4ECD70A57AB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38B14F-D9A9-49CB-B56D-A991D2B7702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3CCC49-AB76-47AA-843C-A0C27B88AB9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5336B9-144A-4A19-A2B6-A817EEF10AD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7409-FE37-4808-9FE2-6C8365EB8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1EA4-DCC7-4BE5-B1B7-D764A2699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859D-B188-4FE8-8EC0-2BF97834A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C688-5C7C-450F-ADB2-9B2822882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EA9C-EF87-4935-A2D6-2E889DA42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DE3B-BED4-45C8-9127-EFE7F8183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88B1-FB7F-4CB4-BE1F-7176D3EFA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14DD-07AC-41BB-9F01-7083D60E8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A25B-004B-4A24-919C-A5E34D3E8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D037-10E9-472C-B238-61C277F0C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7F45-13CF-4095-AA75-051F1618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E0E3-4D32-4B3E-9948-818A04E9E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641270E-007A-4750-800B-76EADB74E6D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TextBox 1" descr=""/>
          <p:cNvPicPr/>
          <p:nvPr/>
        </p:nvPicPr>
        <p:blipFill>
          <a:blip r:embed="rId2"/>
          <a:stretch/>
        </p:blipFill>
        <p:spPr>
          <a:xfrm>
            <a:off x="5175360" y="2603520"/>
            <a:ext cx="4840200" cy="199872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27" descr=""/>
          <p:cNvPicPr/>
          <p:nvPr/>
        </p:nvPicPr>
        <p:blipFill>
          <a:blip r:embed="rId3"/>
          <a:stretch/>
        </p:blipFill>
        <p:spPr>
          <a:xfrm>
            <a:off x="7612200" y="4587840"/>
            <a:ext cx="1525320" cy="2176560"/>
          </a:xfrm>
          <a:prstGeom prst="rect">
            <a:avLst/>
          </a:prstGeom>
          <a:ln w="0">
            <a:noFill/>
          </a:ln>
        </p:spPr>
      </p:pic>
      <p:sp>
        <p:nvSpPr>
          <p:cNvPr id="51" name="TextBox 5"/>
          <p:cNvSpPr/>
          <p:nvPr/>
        </p:nvSpPr>
        <p:spPr>
          <a:xfrm>
            <a:off x="896760" y="779400"/>
            <a:ext cx="278640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у подготовил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валенко Ирина Анатольевна, учитель математики школы №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рода Стародуба Брянской област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4"/>
          <p:cNvSpPr/>
          <p:nvPr/>
        </p:nvSpPr>
        <p:spPr>
          <a:xfrm>
            <a:off x="754200" y="565200"/>
            <a:ext cx="8572320" cy="500040"/>
          </a:xfrm>
          <a:prstGeom prst="rect">
            <a:avLst/>
          </a:prstGeom>
          <a:solidFill>
            <a:srgbClr val="85d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Как устроена десятичная система счисления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111320" y="1565280"/>
          <a:ext cx="6858000" cy="639720"/>
        </p:xfrm>
        <a:graphic>
          <a:graphicData uri="http://schemas.openxmlformats.org/drawingml/2006/table">
            <a:tbl>
              <a:tblPr/>
              <a:tblGrid>
                <a:gridCol w="1714320"/>
                <a:gridCol w="1714680"/>
                <a:gridCol w="1714320"/>
                <a:gridCol w="171468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2228b"/>
                          </a:solidFill>
                          <a:latin typeface="Arial"/>
                        </a:rPr>
                        <a:t>Класс миллиард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7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2228b"/>
                          </a:solidFill>
                          <a:latin typeface="Arial"/>
                        </a:rPr>
                        <a:t>Класс миллион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7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2228b"/>
                          </a:solidFill>
                          <a:latin typeface="Arial"/>
                        </a:rPr>
                        <a:t>Класс тысяч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7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2228b"/>
                          </a:solidFill>
                          <a:latin typeface="Arial"/>
                        </a:rPr>
                        <a:t>Класс единиц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73"/>
                    </a:solidFill>
                  </a:tcPr>
                </a:tc>
              </a:tr>
            </a:tbl>
          </a:graphicData>
        </a:graphic>
      </p:graphicFrame>
      <p:pic>
        <p:nvPicPr>
          <p:cNvPr id="54" name="Таблица 12" descr=""/>
          <p:cNvPicPr/>
          <p:nvPr/>
        </p:nvPicPr>
        <p:blipFill>
          <a:blip r:embed="rId1"/>
          <a:stretch/>
        </p:blipFill>
        <p:spPr>
          <a:xfrm>
            <a:off x="1036800" y="2176560"/>
            <a:ext cx="7003800" cy="1060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" name=""/>
          <p:cNvGraphicFramePr/>
          <p:nvPr/>
        </p:nvGraphicFramePr>
        <p:xfrm>
          <a:off x="1111320" y="3165480"/>
          <a:ext cx="6858000" cy="1981080"/>
        </p:xfrm>
        <a:graphic>
          <a:graphicData uri="http://schemas.openxmlformats.org/drawingml/2006/table">
            <a:tbl>
              <a:tblPr/>
              <a:tblGrid>
                <a:gridCol w="571320"/>
                <a:gridCol w="571680"/>
                <a:gridCol w="571320"/>
                <a:gridCol w="571680"/>
                <a:gridCol w="571320"/>
                <a:gridCol w="571680"/>
                <a:gridCol w="571320"/>
                <a:gridCol w="571680"/>
                <a:gridCol w="571320"/>
                <a:gridCol w="571680"/>
                <a:gridCol w="571320"/>
                <a:gridCol w="5716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cd8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cd8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cd8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cd8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cd8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cd8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cd8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cd8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cd8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cd8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cd8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cd8b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cd8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cd8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cd8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cd8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cd8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cd8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cd8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cd8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cd8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cd8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cd8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cd8b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cd8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cd8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cd8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cd8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cd8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cd8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cd8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cd8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cd8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cd8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cd8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cd8b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cd8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cd8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cd8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cd8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cd8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cd8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cd8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cd8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cd8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cd8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cd8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cd8b8"/>
                    </a:solidFill>
                  </a:tcPr>
                </a:tc>
              </a:tr>
            </a:tbl>
          </a:graphicData>
        </a:graphic>
      </p:graphicFrame>
      <p:sp>
        <p:nvSpPr>
          <p:cNvPr id="56" name="TextBox 14"/>
          <p:cNvSpPr/>
          <p:nvPr/>
        </p:nvSpPr>
        <p:spPr>
          <a:xfrm>
            <a:off x="8040600" y="3137040"/>
            <a:ext cx="13575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 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Box 15"/>
          <p:cNvSpPr/>
          <p:nvPr/>
        </p:nvSpPr>
        <p:spPr>
          <a:xfrm>
            <a:off x="8040600" y="3565440"/>
            <a:ext cx="13575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Box 16"/>
          <p:cNvSpPr/>
          <p:nvPr/>
        </p:nvSpPr>
        <p:spPr>
          <a:xfrm>
            <a:off x="8040600" y="3922560"/>
            <a:ext cx="10000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Box 17"/>
          <p:cNvSpPr/>
          <p:nvPr/>
        </p:nvSpPr>
        <p:spPr>
          <a:xfrm>
            <a:off x="8040600" y="4351320"/>
            <a:ext cx="114300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Box 18"/>
          <p:cNvSpPr/>
          <p:nvPr/>
        </p:nvSpPr>
        <p:spPr>
          <a:xfrm>
            <a:off x="8112240" y="4780080"/>
            <a:ext cx="7142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Прямоугольник 19"/>
          <p:cNvSpPr/>
          <p:nvPr/>
        </p:nvSpPr>
        <p:spPr>
          <a:xfrm>
            <a:off x="2540160" y="5780160"/>
            <a:ext cx="4786200" cy="642960"/>
          </a:xfrm>
          <a:prstGeom prst="rect">
            <a:avLst/>
          </a:prstGeom>
          <a:solidFill>
            <a:srgbClr val="85d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Что показывает цифра 1, стоящая на последнем мест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Box 20"/>
          <p:cNvSpPr/>
          <p:nvPr/>
        </p:nvSpPr>
        <p:spPr>
          <a:xfrm>
            <a:off x="968400" y="5780160"/>
            <a:ext cx="14288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1 1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Прямоугольник 21"/>
          <p:cNvSpPr/>
          <p:nvPr/>
        </p:nvSpPr>
        <p:spPr>
          <a:xfrm>
            <a:off x="2540160" y="5851440"/>
            <a:ext cx="4786200" cy="642960"/>
          </a:xfrm>
          <a:prstGeom prst="rect">
            <a:avLst/>
          </a:prstGeom>
          <a:solidFill>
            <a:srgbClr val="85d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пишите число в виде суммы разрядных слагаемы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Box 22"/>
          <p:cNvSpPr/>
          <p:nvPr/>
        </p:nvSpPr>
        <p:spPr>
          <a:xfrm>
            <a:off x="5254560" y="3208320"/>
            <a:ext cx="2858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Box 23"/>
          <p:cNvSpPr/>
          <p:nvPr/>
        </p:nvSpPr>
        <p:spPr>
          <a:xfrm>
            <a:off x="5826240" y="3565440"/>
            <a:ext cx="3571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Box 24"/>
          <p:cNvSpPr/>
          <p:nvPr/>
        </p:nvSpPr>
        <p:spPr>
          <a:xfrm>
            <a:off x="6469200" y="3994200"/>
            <a:ext cx="28548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Box 25"/>
          <p:cNvSpPr/>
          <p:nvPr/>
        </p:nvSpPr>
        <p:spPr>
          <a:xfrm>
            <a:off x="7040520" y="4422600"/>
            <a:ext cx="35712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Box 26"/>
          <p:cNvSpPr/>
          <p:nvPr/>
        </p:nvSpPr>
        <p:spPr>
          <a:xfrm>
            <a:off x="7540560" y="4851360"/>
            <a:ext cx="2858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Рисунок 27" descr=""/>
          <p:cNvPicPr/>
          <p:nvPr/>
        </p:nvPicPr>
        <p:blipFill>
          <a:blip r:embed="rId2"/>
          <a:stretch/>
        </p:blipFill>
        <p:spPr>
          <a:xfrm>
            <a:off x="8397720" y="5708520"/>
            <a:ext cx="739800" cy="10558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1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2"/>
          <p:cNvSpPr/>
          <p:nvPr/>
        </p:nvSpPr>
        <p:spPr>
          <a:xfrm>
            <a:off x="1039680" y="422280"/>
            <a:ext cx="8501040" cy="1500120"/>
          </a:xfrm>
          <a:prstGeom prst="rect">
            <a:avLst/>
          </a:prstGeom>
          <a:solidFill>
            <a:srgbClr val="85d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еремещая единицу на разряд вправо, мы уменьшаем число каждый раз в 10 раз, т.е. делим число на 10.</a:t>
            </a:r>
            <a:br>
              <a:rPr sz="2400"/>
            </a:br>
            <a:r>
              <a:rPr b="1" i="1" lang="ru-RU" sz="2400" spc="-1" strike="noStrike">
                <a:solidFill>
                  <a:srgbClr val="c00000"/>
                </a:solidFill>
                <a:latin typeface="Georgia"/>
              </a:rPr>
              <a:t>Можно ли и единицу уменьшить в 10 раз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Box 3"/>
          <p:cNvSpPr/>
          <p:nvPr/>
        </p:nvSpPr>
        <p:spPr>
          <a:xfrm>
            <a:off x="1397160" y="2065320"/>
            <a:ext cx="3143160" cy="10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: 10 = 1/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182600" y="2994120"/>
          <a:ext cx="7053480" cy="297180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480"/>
                <a:gridCol w="1174680"/>
                <a:gridCol w="1176120"/>
                <a:gridCol w="1175040"/>
              </a:tblGrid>
              <a:tr h="3715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2228b"/>
                          </a:solidFill>
                          <a:latin typeface="Arial"/>
                        </a:rPr>
                        <a:t>Класс тысяч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2228b"/>
                          </a:solidFill>
                          <a:latin typeface="Arial"/>
                        </a:rPr>
                        <a:t>Класс единиц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тн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сят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диниц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тн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сят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диниц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8255160" y="2994120"/>
          <a:ext cx="1295280" cy="2970000"/>
        </p:xfrm>
        <a:graphic>
          <a:graphicData uri="http://schemas.openxmlformats.org/drawingml/2006/table">
            <a:tbl>
              <a:tblPr/>
              <a:tblGrid>
                <a:gridCol w="1295280"/>
              </a:tblGrid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8b"/>
                          </a:solidFill>
                          <a:latin typeface="Arial"/>
                        </a:rPr>
                        <a:t>Придумайте название для этого разряд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d8b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</a:tr>
            </a:tbl>
          </a:graphicData>
        </a:graphic>
      </p:graphicFrame>
      <p:pic>
        <p:nvPicPr>
          <p:cNvPr id="74" name="Рисунок 27" descr=""/>
          <p:cNvPicPr/>
          <p:nvPr/>
        </p:nvPicPr>
        <p:blipFill>
          <a:blip r:embed="rId1"/>
          <a:stretch/>
        </p:blipFill>
        <p:spPr>
          <a:xfrm>
            <a:off x="8897760" y="6066000"/>
            <a:ext cx="65088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968400" y="1136520"/>
          <a:ext cx="8534520" cy="5199120"/>
        </p:xfrm>
        <a:graphic>
          <a:graphicData uri="http://schemas.openxmlformats.org/drawingml/2006/table">
            <a:tbl>
              <a:tblPr/>
              <a:tblGrid>
                <a:gridCol w="878040"/>
                <a:gridCol w="796680"/>
                <a:gridCol w="878040"/>
                <a:gridCol w="637920"/>
                <a:gridCol w="797040"/>
                <a:gridCol w="878040"/>
                <a:gridCol w="239760"/>
                <a:gridCol w="796680"/>
                <a:gridCol w="717480"/>
                <a:gridCol w="957600"/>
                <a:gridCol w="957240"/>
              </a:tblGrid>
              <a:tr h="3682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76" name="Text Box 782"/>
          <p:cNvSpPr/>
          <p:nvPr/>
        </p:nvSpPr>
        <p:spPr>
          <a:xfrm>
            <a:off x="2540160" y="1136520"/>
            <a:ext cx="214308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2d2db9"/>
                </a:solidFill>
                <a:latin typeface="Arial"/>
              </a:rPr>
              <a:t>Целая  ча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784"/>
          <p:cNvSpPr/>
          <p:nvPr/>
        </p:nvSpPr>
        <p:spPr>
          <a:xfrm>
            <a:off x="6254640" y="1136520"/>
            <a:ext cx="28195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664d"/>
                </a:solidFill>
                <a:latin typeface="Arial"/>
              </a:rPr>
              <a:t>Дробная ча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Box 4"/>
          <p:cNvSpPr/>
          <p:nvPr/>
        </p:nvSpPr>
        <p:spPr>
          <a:xfrm>
            <a:off x="5823000" y="915840"/>
            <a:ext cx="21420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Box 5"/>
          <p:cNvSpPr/>
          <p:nvPr/>
        </p:nvSpPr>
        <p:spPr>
          <a:xfrm>
            <a:off x="5856120" y="1542960"/>
            <a:ext cx="21456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5843520" y="2087640"/>
            <a:ext cx="21456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Box 7"/>
          <p:cNvSpPr/>
          <p:nvPr/>
        </p:nvSpPr>
        <p:spPr>
          <a:xfrm>
            <a:off x="5853240" y="2606760"/>
            <a:ext cx="21420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Box 8"/>
          <p:cNvSpPr/>
          <p:nvPr/>
        </p:nvSpPr>
        <p:spPr>
          <a:xfrm>
            <a:off x="5838840" y="3127320"/>
            <a:ext cx="21420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Box 9"/>
          <p:cNvSpPr/>
          <p:nvPr/>
        </p:nvSpPr>
        <p:spPr>
          <a:xfrm>
            <a:off x="5837400" y="3648240"/>
            <a:ext cx="21420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Box 10"/>
          <p:cNvSpPr/>
          <p:nvPr/>
        </p:nvSpPr>
        <p:spPr>
          <a:xfrm>
            <a:off x="5857920" y="4168800"/>
            <a:ext cx="21420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Box 11"/>
          <p:cNvSpPr/>
          <p:nvPr/>
        </p:nvSpPr>
        <p:spPr>
          <a:xfrm>
            <a:off x="5856120" y="4726080"/>
            <a:ext cx="21456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Box 12"/>
          <p:cNvSpPr/>
          <p:nvPr/>
        </p:nvSpPr>
        <p:spPr>
          <a:xfrm>
            <a:off x="5843520" y="5257800"/>
            <a:ext cx="21456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Box 13"/>
          <p:cNvSpPr/>
          <p:nvPr/>
        </p:nvSpPr>
        <p:spPr>
          <a:xfrm>
            <a:off x="5826240" y="5780160"/>
            <a:ext cx="21420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800"/>
          <p:cNvSpPr/>
          <p:nvPr/>
        </p:nvSpPr>
        <p:spPr>
          <a:xfrm>
            <a:off x="5040360" y="1636560"/>
            <a:ext cx="76212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000" spc="-1" strike="noStrike">
                <a:solidFill>
                  <a:srgbClr val="c80000"/>
                </a:solidFill>
                <a:latin typeface="Arial"/>
              </a:rPr>
              <a:t>единицы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799"/>
          <p:cNvSpPr/>
          <p:nvPr/>
        </p:nvSpPr>
        <p:spPr>
          <a:xfrm>
            <a:off x="4183200" y="1636560"/>
            <a:ext cx="6858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000" spc="-1" strike="noStrike">
                <a:solidFill>
                  <a:srgbClr val="2d2db9"/>
                </a:solidFill>
                <a:latin typeface="Arial"/>
              </a:rPr>
              <a:t>десятки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Box 16"/>
          <p:cNvSpPr/>
          <p:nvPr/>
        </p:nvSpPr>
        <p:spPr>
          <a:xfrm>
            <a:off x="3540240" y="1636560"/>
            <a:ext cx="642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100" spc="-1" strike="noStrike">
                <a:solidFill>
                  <a:srgbClr val="32946a"/>
                </a:solidFill>
                <a:latin typeface="Arial"/>
              </a:rPr>
              <a:t>сотни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Box 17"/>
          <p:cNvSpPr/>
          <p:nvPr/>
        </p:nvSpPr>
        <p:spPr>
          <a:xfrm>
            <a:off x="2682720" y="1565280"/>
            <a:ext cx="78588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Arial"/>
              </a:rPr>
              <a:t>единицы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Arial"/>
              </a:rPr>
              <a:t>тысяч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Box 18"/>
          <p:cNvSpPr/>
          <p:nvPr/>
        </p:nvSpPr>
        <p:spPr>
          <a:xfrm>
            <a:off x="1897200" y="1565280"/>
            <a:ext cx="71424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000" spc="-1" strike="noStrike">
                <a:solidFill>
                  <a:srgbClr val="2d2db9"/>
                </a:solidFill>
                <a:latin typeface="Arial"/>
              </a:rPr>
              <a:t>десятки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000" spc="-1" strike="noStrike">
                <a:solidFill>
                  <a:srgbClr val="2d2db9"/>
                </a:solidFill>
                <a:latin typeface="Arial"/>
              </a:rPr>
              <a:t>тысяч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Box 19"/>
          <p:cNvSpPr/>
          <p:nvPr/>
        </p:nvSpPr>
        <p:spPr>
          <a:xfrm>
            <a:off x="1039680" y="1565280"/>
            <a:ext cx="7858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100" spc="-1" strike="noStrike">
                <a:solidFill>
                  <a:srgbClr val="32946a"/>
                </a:solidFill>
                <a:latin typeface="Arial"/>
              </a:rPr>
              <a:t>Сотни тысяч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Волна 21"/>
          <p:cNvSpPr/>
          <p:nvPr/>
        </p:nvSpPr>
        <p:spPr>
          <a:xfrm>
            <a:off x="5826240" y="422280"/>
            <a:ext cx="3929040" cy="571320"/>
          </a:xfrm>
          <a:custGeom>
            <a:avLst/>
            <a:gdLst>
              <a:gd name="textAreaLeft" fmla="*/ 203040 w 3929040"/>
              <a:gd name="textAreaRight" fmla="*/ 4132440 w 3929040"/>
              <a:gd name="textAreaTop" fmla="*/ 14760 h 571320"/>
              <a:gd name="textAreaBottom" fmla="*/ 556560 h 571320"/>
            </a:gdLst>
            <a:ahLst/>
            <a:rect l="textAreaLeft" t="textAreaTop" r="textAreaRight" b="textAreaBottom"/>
            <a:pathLst>
              <a:path w="21600" h="21600">
                <a:moveTo>
                  <a:pt x="1118" y="281"/>
                </a:moveTo>
                <a:cubicBezTo>
                  <a:pt x="7759" y="-714"/>
                  <a:pt x="14959" y="1276"/>
                  <a:pt x="21600" y="281"/>
                </a:cubicBezTo>
                <a:lnTo>
                  <a:pt x="20482" y="21319"/>
                </a:lnTo>
                <a:cubicBezTo>
                  <a:pt x="13841" y="22314"/>
                  <a:pt x="6641" y="20324"/>
                  <a:pt x="0" y="21319"/>
                </a:cubicBezTo>
                <a:close/>
              </a:path>
            </a:pathLst>
          </a:custGeom>
          <a:solidFill>
            <a:srgbClr val="85ff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Как получили названия разряды дробной части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Волна 22"/>
          <p:cNvSpPr/>
          <p:nvPr/>
        </p:nvSpPr>
        <p:spPr>
          <a:xfrm>
            <a:off x="1254240" y="422280"/>
            <a:ext cx="4214520" cy="571320"/>
          </a:xfrm>
          <a:custGeom>
            <a:avLst/>
            <a:gdLst>
              <a:gd name="textAreaLeft" fmla="*/ 284760 w 4214520"/>
              <a:gd name="textAreaRight" fmla="*/ 4499640 w 421452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1460" y="0"/>
                </a:moveTo>
                <a:cubicBezTo>
                  <a:pt x="7930" y="0"/>
                  <a:pt x="15130" y="0"/>
                  <a:pt x="21600" y="0"/>
                </a:cubicBezTo>
                <a:lnTo>
                  <a:pt x="20140" y="21600"/>
                </a:lnTo>
                <a:cubicBezTo>
                  <a:pt x="13670" y="21600"/>
                  <a:pt x="6470" y="21600"/>
                  <a:pt x="0" y="21600"/>
                </a:cubicBezTo>
                <a:close/>
              </a:path>
            </a:pathLst>
          </a:custGeom>
          <a:solidFill>
            <a:srgbClr val="85ff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Как получилась дробная часть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801"/>
          <p:cNvSpPr/>
          <p:nvPr/>
        </p:nvSpPr>
        <p:spPr>
          <a:xfrm>
            <a:off x="6111720" y="1636560"/>
            <a:ext cx="76212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000" spc="-1" strike="noStrike">
                <a:solidFill>
                  <a:srgbClr val="2d2db9"/>
                </a:solidFill>
                <a:latin typeface="Arial"/>
              </a:rPr>
              <a:t>десятые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802"/>
          <p:cNvSpPr/>
          <p:nvPr/>
        </p:nvSpPr>
        <p:spPr>
          <a:xfrm>
            <a:off x="6826320" y="1636560"/>
            <a:ext cx="83808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000" spc="-1" strike="noStrike">
                <a:solidFill>
                  <a:srgbClr val="0000ff"/>
                </a:solidFill>
                <a:latin typeface="Arial"/>
              </a:rPr>
              <a:t>сотые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03"/>
          <p:cNvSpPr/>
          <p:nvPr/>
        </p:nvSpPr>
        <p:spPr>
          <a:xfrm>
            <a:off x="7540560" y="1636560"/>
            <a:ext cx="914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000" spc="-1" strike="noStrike">
                <a:solidFill>
                  <a:srgbClr val="9900cc"/>
                </a:solidFill>
                <a:latin typeface="Arial"/>
              </a:rPr>
              <a:t>тысячные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804"/>
          <p:cNvSpPr/>
          <p:nvPr/>
        </p:nvSpPr>
        <p:spPr>
          <a:xfrm>
            <a:off x="8540640" y="1636560"/>
            <a:ext cx="914400" cy="5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000" spc="-1" strike="noStrike">
                <a:solidFill>
                  <a:srgbClr val="ff5050"/>
                </a:solidFill>
                <a:latin typeface="Arial"/>
              </a:rPr>
              <a:t>десяти-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000" spc="-1" strike="noStrike">
                <a:solidFill>
                  <a:srgbClr val="ff5050"/>
                </a:solidFill>
                <a:latin typeface="Arial"/>
              </a:rPr>
              <a:t>тысячные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814"/>
          <p:cNvSpPr/>
          <p:nvPr/>
        </p:nvSpPr>
        <p:spPr>
          <a:xfrm>
            <a:off x="5040360" y="2208240"/>
            <a:ext cx="18288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2d2db9"/>
                </a:solidFill>
                <a:latin typeface="Arial"/>
              </a:rPr>
              <a:t>6         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812"/>
          <p:cNvSpPr/>
          <p:nvPr/>
        </p:nvSpPr>
        <p:spPr>
          <a:xfrm>
            <a:off x="4183200" y="2708280"/>
            <a:ext cx="16002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2d2db9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2d2db9"/>
                </a:solidFill>
                <a:latin typeface="Arial"/>
              </a:rPr>
              <a:t>2     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810"/>
          <p:cNvSpPr/>
          <p:nvPr/>
        </p:nvSpPr>
        <p:spPr>
          <a:xfrm>
            <a:off x="4968720" y="3208320"/>
            <a:ext cx="19051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2d2db9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2d2db9"/>
                </a:solidFill>
                <a:latin typeface="Arial"/>
              </a:rPr>
              <a:t>0         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809"/>
          <p:cNvSpPr/>
          <p:nvPr/>
        </p:nvSpPr>
        <p:spPr>
          <a:xfrm>
            <a:off x="2743200" y="3809880"/>
            <a:ext cx="40384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2d2db9"/>
                </a:solidFill>
                <a:latin typeface="Arial"/>
              </a:rPr>
              <a:t>1      4      2          0      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808"/>
          <p:cNvSpPr/>
          <p:nvPr/>
        </p:nvSpPr>
        <p:spPr>
          <a:xfrm>
            <a:off x="2682720" y="4280040"/>
            <a:ext cx="4953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2d2db9"/>
                </a:solidFill>
                <a:latin typeface="Arial"/>
              </a:rPr>
              <a:t>1       2      3      6         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807"/>
          <p:cNvSpPr/>
          <p:nvPr/>
        </p:nvSpPr>
        <p:spPr>
          <a:xfrm>
            <a:off x="3611520" y="4780080"/>
            <a:ext cx="40384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2d2db9"/>
                </a:solidFill>
                <a:latin typeface="Arial"/>
              </a:rPr>
              <a:t>2     2      2           2     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816"/>
          <p:cNvSpPr/>
          <p:nvPr/>
        </p:nvSpPr>
        <p:spPr>
          <a:xfrm>
            <a:off x="3540240" y="5280120"/>
            <a:ext cx="40384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2d2db9"/>
                </a:solidFill>
                <a:latin typeface="Arial"/>
              </a:rPr>
              <a:t>1      4      2           1     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817"/>
          <p:cNvSpPr/>
          <p:nvPr/>
        </p:nvSpPr>
        <p:spPr>
          <a:xfrm>
            <a:off x="3540240" y="5851440"/>
            <a:ext cx="59436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2d2db9"/>
                </a:solidFill>
                <a:latin typeface="Arial"/>
              </a:rPr>
              <a:t>1       4      2         1     7       0     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500"/>
                            </p:stCondLst>
                            <p:childTnLst>
                              <p:par>
                                <p:cTn id="1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00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0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Прямоугольник 1"/>
          <p:cNvSpPr/>
          <p:nvPr/>
        </p:nvSpPr>
        <p:spPr>
          <a:xfrm>
            <a:off x="1468440" y="565200"/>
            <a:ext cx="7286760" cy="500040"/>
          </a:xfrm>
          <a:prstGeom prst="rect">
            <a:avLst/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устроена десятичная дробь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1539720" y="4208400"/>
            <a:ext cx="762012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колько частей можно выделить в записи десятичной дроб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3397320" y="2422440"/>
            <a:ext cx="3500280" cy="24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c80000"/>
                </a:solidFill>
                <a:latin typeface="Arial"/>
              </a:rPr>
              <a:t>472,02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Line 5"/>
          <p:cNvSpPr/>
          <p:nvPr/>
        </p:nvSpPr>
        <p:spPr>
          <a:xfrm>
            <a:off x="5254560" y="3708360"/>
            <a:ext cx="3812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8"/>
          <p:cNvSpPr/>
          <p:nvPr/>
        </p:nvSpPr>
        <p:spPr>
          <a:xfrm rot="5400000">
            <a:off x="4298760" y="1699920"/>
            <a:ext cx="382680" cy="1602000"/>
          </a:xfrm>
          <a:custGeom>
            <a:avLst/>
            <a:gdLst>
              <a:gd name="textAreaLeft" fmla="*/ 51120 w 382680"/>
              <a:gd name="textAreaRight" fmla="*/ 331560 w 382680"/>
              <a:gd name="textAreaTop" fmla="*/ 355680 h 1602000"/>
              <a:gd name="textAreaBottom" fmla="*/ 1227960 h 160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598" stAng="-5400000" swAng="-5400000"/>
                <a:lnTo>
                  <a:pt x="0" y="11758"/>
                </a:lnTo>
                <a:arcTo wR="21600" hR="9598" stAng="10800000" swAng="-5220303"/>
                <a:lnTo>
                  <a:pt x="21098" y="21597"/>
                </a:lnTo>
                <a:lnTo>
                  <a:pt x="21600" y="20275"/>
                </a:lnTo>
                <a:lnTo>
                  <a:pt x="21098" y="18947"/>
                </a:lnTo>
                <a:lnTo>
                  <a:pt x="21098" y="19192"/>
                </a:lnTo>
                <a:arcTo wR="21600" hR="9598" stAng="5579697" swAng="5047463"/>
                <a:lnTo>
                  <a:pt x="137" y="10678"/>
                </a:lnTo>
                <a:arcTo wR="21600" hR="9598" stAng="-10627160" swAng="5227160"/>
                <a:close/>
              </a:path>
              <a:path fill="darkenLess" w="21600" h="21600">
                <a:moveTo>
                  <a:pt x="21600" y="0"/>
                </a:moveTo>
                <a:arcTo wR="21600" hR="9598" stAng="-5400000" swAng="-5400000"/>
                <a:lnTo>
                  <a:pt x="0" y="9598"/>
                </a:lnTo>
                <a:arcTo wR="21600" hR="9598" stAng="10800000" swAng="-172840"/>
                <a:lnTo>
                  <a:pt x="137" y="10678"/>
                </a:lnTo>
                <a:arcTo wR="21600" hR="9598" stAng="-10627160" swAng="522716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6"/>
          <p:cNvSpPr/>
          <p:nvPr/>
        </p:nvSpPr>
        <p:spPr>
          <a:xfrm rot="16200000">
            <a:off x="6030720" y="1931760"/>
            <a:ext cx="304560" cy="1143000"/>
          </a:xfrm>
          <a:custGeom>
            <a:avLst/>
            <a:gdLst>
              <a:gd name="textAreaLeft" fmla="*/ 40680 w 304560"/>
              <a:gd name="textAreaRight" fmla="*/ 263880 w 304560"/>
              <a:gd name="textAreaTop" fmla="*/ 237240 h 1143000"/>
              <a:gd name="textAreaBottom" fmla="*/ 7959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969" stAng="-5400000" swAng="5400000"/>
                <a:lnTo>
                  <a:pt x="21600" y="10553"/>
                </a:lnTo>
                <a:arcTo wR="21600" hR="8969" stAng="0" swAng="5083681"/>
                <a:lnTo>
                  <a:pt x="827" y="21593"/>
                </a:lnTo>
                <a:lnTo>
                  <a:pt x="0" y="18730"/>
                </a:lnTo>
                <a:lnTo>
                  <a:pt x="827" y="15853"/>
                </a:lnTo>
                <a:lnTo>
                  <a:pt x="827" y="17931"/>
                </a:lnTo>
                <a:arcTo wR="21600" hR="8969" stAng="5083681" swAng="-4957193"/>
                <a:lnTo>
                  <a:pt x="21516" y="9761"/>
                </a:lnTo>
                <a:arcTo wR="21600" hR="8969" stAng="-126488" swAng="-5273512"/>
                <a:close/>
              </a:path>
              <a:path fill="darkenLess" w="21600" h="21600">
                <a:moveTo>
                  <a:pt x="0" y="0"/>
                </a:moveTo>
                <a:arcTo wR="21600" hR="8969" stAng="-5400000" swAng="5400000"/>
                <a:lnTo>
                  <a:pt x="21600" y="10553"/>
                </a:lnTo>
                <a:arcTo wR="21600" hR="8969" stAng="0" swAng="-126488"/>
                <a:lnTo>
                  <a:pt x="21516" y="9761"/>
                </a:lnTo>
                <a:arcTo wR="21600" hR="8969" stAng="-126488" swAng="-5273512"/>
                <a:close/>
              </a:path>
            </a:pathLst>
          </a:custGeom>
          <a:solidFill>
            <a:srgbClr val="00cc99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Рисунок 27" descr=""/>
          <p:cNvPicPr/>
          <p:nvPr/>
        </p:nvPicPr>
        <p:blipFill>
          <a:blip r:embed="rId1"/>
          <a:stretch/>
        </p:blipFill>
        <p:spPr>
          <a:xfrm>
            <a:off x="8112240" y="4923000"/>
            <a:ext cx="14014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Волна 1"/>
          <p:cNvSpPr/>
          <p:nvPr/>
        </p:nvSpPr>
        <p:spPr>
          <a:xfrm>
            <a:off x="1682640" y="279360"/>
            <a:ext cx="6929640" cy="1143000"/>
          </a:xfrm>
          <a:custGeom>
            <a:avLst/>
            <a:gdLst>
              <a:gd name="textAreaLeft" fmla="*/ 0 w 6929640"/>
              <a:gd name="textAreaRight" fmla="*/ 6930000 w 692964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85ff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1039680" y="42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9900cc"/>
                </a:solidFill>
                <a:latin typeface="Arial"/>
              </a:rPr>
              <a:t>Как  просто и…красиво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4"/>
          <p:cNvSpPr/>
          <p:nvPr/>
        </p:nvSpPr>
        <p:spPr>
          <a:xfrm>
            <a:off x="3111480" y="1065240"/>
            <a:ext cx="1905120" cy="0"/>
          </a:xfrm>
          <a:prstGeom prst="line">
            <a:avLst/>
          </a:prstGeom>
          <a:ln w="572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754200" y="5851440"/>
            <a:ext cx="8610480" cy="762120"/>
          </a:xfrm>
          <a:prstGeom prst="rect">
            <a:avLst/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830160" y="6080040"/>
            <a:ext cx="10670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ысяч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7840800" y="6080040"/>
            <a:ext cx="13716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ысяч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1515960" y="5470560"/>
            <a:ext cx="6934320" cy="6094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0"/>
          <p:cNvSpPr/>
          <p:nvPr/>
        </p:nvSpPr>
        <p:spPr>
          <a:xfrm>
            <a:off x="2049480" y="5546880"/>
            <a:ext cx="11430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т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7230960" y="5546880"/>
            <a:ext cx="11430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т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506680" y="4937040"/>
            <a:ext cx="5257800" cy="60984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13"/>
          <p:cNvSpPr/>
          <p:nvPr/>
        </p:nvSpPr>
        <p:spPr>
          <a:xfrm>
            <a:off x="2963880" y="5013360"/>
            <a:ext cx="12193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есят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4"/>
          <p:cNvSpPr/>
          <p:nvPr/>
        </p:nvSpPr>
        <p:spPr>
          <a:xfrm>
            <a:off x="6240600" y="5089680"/>
            <a:ext cx="12189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есят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15"/>
          <p:cNvSpPr/>
          <p:nvPr/>
        </p:nvSpPr>
        <p:spPr>
          <a:xfrm>
            <a:off x="3878280" y="4479840"/>
            <a:ext cx="2514600" cy="762120"/>
          </a:xfrm>
          <a:prstGeom prst="pie">
            <a:avLst/>
          </a:prstGeom>
          <a:solidFill>
            <a:srgbClr val="c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4487760" y="4784760"/>
            <a:ext cx="16002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единиц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20"/>
          <p:cNvSpPr/>
          <p:nvPr/>
        </p:nvSpPr>
        <p:spPr>
          <a:xfrm>
            <a:off x="5183280" y="6637320"/>
            <a:ext cx="6094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21"/>
          <p:cNvSpPr/>
          <p:nvPr/>
        </p:nvSpPr>
        <p:spPr>
          <a:xfrm>
            <a:off x="4540320" y="6637320"/>
            <a:ext cx="457200" cy="4338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22"/>
          <p:cNvSpPr/>
          <p:nvPr/>
        </p:nvSpPr>
        <p:spPr>
          <a:xfrm>
            <a:off x="4897440" y="6637320"/>
            <a:ext cx="3049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3"/>
          <p:cNvSpPr/>
          <p:nvPr/>
        </p:nvSpPr>
        <p:spPr>
          <a:xfrm>
            <a:off x="5540400" y="6637320"/>
            <a:ext cx="45720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24"/>
          <p:cNvSpPr/>
          <p:nvPr/>
        </p:nvSpPr>
        <p:spPr>
          <a:xfrm>
            <a:off x="5897520" y="6708600"/>
            <a:ext cx="3049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41"/>
          <p:cNvSpPr/>
          <p:nvPr/>
        </p:nvSpPr>
        <p:spPr>
          <a:xfrm>
            <a:off x="5969160" y="1065240"/>
            <a:ext cx="2361960" cy="0"/>
          </a:xfrm>
          <a:prstGeom prst="line">
            <a:avLst/>
          </a:prstGeom>
          <a:ln w="572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25"/>
          <p:cNvSpPr/>
          <p:nvPr/>
        </p:nvSpPr>
        <p:spPr>
          <a:xfrm>
            <a:off x="6021360" y="3898800"/>
            <a:ext cx="990720" cy="609840"/>
          </a:xfrm>
          <a:custGeom>
            <a:avLst/>
            <a:gdLst>
              <a:gd name="textAreaLeft" fmla="*/ 182160 w 990720"/>
              <a:gd name="textAreaRight" fmla="*/ 595800 w 990720"/>
              <a:gd name="textAreaTop" fmla="*/ 81720 h 609840"/>
              <a:gd name="textAreaBottom" fmla="*/ 52812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944" hR="21600" stAng="10800000" swAng="5400000"/>
                <a:lnTo>
                  <a:pt x="9018" y="0"/>
                </a:lnTo>
                <a:arcTo wR="7944" hR="21600" stAng="-5400000" swAng="2463645"/>
                <a:lnTo>
                  <a:pt x="20975" y="13199"/>
                </a:lnTo>
                <a:lnTo>
                  <a:pt x="16425" y="21600"/>
                </a:lnTo>
                <a:lnTo>
                  <a:pt x="10625" y="13199"/>
                </a:lnTo>
                <a:lnTo>
                  <a:pt x="15263" y="13199"/>
                </a:lnTo>
                <a:arcTo wR="7944" hR="21600" stAng="-2936355" swAng="-2378000"/>
                <a:lnTo>
                  <a:pt x="8481" y="49"/>
                </a:lnTo>
                <a:arcTo wR="7944" hR="21600" stAng="-5485644" swAng="-5314356"/>
                <a:close/>
              </a:path>
              <a:path fill="darkenLess" w="21600" h="21600">
                <a:moveTo>
                  <a:pt x="0" y="21600"/>
                </a:moveTo>
                <a:arcTo wR="7944" hR="21600" stAng="10800000" swAng="5400000"/>
                <a:lnTo>
                  <a:pt x="7944" y="0"/>
                </a:lnTo>
                <a:arcTo wR="7944" hR="21600" stAng="-5400000" swAng="85644"/>
                <a:lnTo>
                  <a:pt x="8481" y="49"/>
                </a:lnTo>
                <a:arcTo wR="7944" hR="21600" stAng="-5485644" swAng="-5314356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AutoShape 26"/>
          <p:cNvSpPr/>
          <p:nvPr/>
        </p:nvSpPr>
        <p:spPr>
          <a:xfrm>
            <a:off x="5564160" y="2603520"/>
            <a:ext cx="2743200" cy="1905120"/>
          </a:xfrm>
          <a:custGeom>
            <a:avLst/>
            <a:gdLst>
              <a:gd name="textAreaLeft" fmla="*/ 584640 w 2743200"/>
              <a:gd name="textAreaRight" fmla="*/ 1884240 w 2743200"/>
              <a:gd name="textAreaTop" fmla="*/ 255240 h 1905120"/>
              <a:gd name="textAreaBottom" fmla="*/ 164988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210" hR="21600" stAng="10800000" swAng="5400000"/>
                <a:lnTo>
                  <a:pt x="10231" y="0"/>
                </a:lnTo>
                <a:arcTo wR="9210" hR="21600" stAng="-5400000" swAng="3841829"/>
                <a:lnTo>
                  <a:pt x="21408" y="17208"/>
                </a:lnTo>
                <a:lnTo>
                  <a:pt x="18930" y="21600"/>
                </a:lnTo>
                <a:lnTo>
                  <a:pt x="16067" y="17208"/>
                </a:lnTo>
                <a:lnTo>
                  <a:pt x="18227" y="17208"/>
                </a:lnTo>
                <a:arcTo wR="9210" hR="21600" stAng="-1558171" swAng="-3760471"/>
                <a:lnTo>
                  <a:pt x="9720" y="33"/>
                </a:lnTo>
                <a:arcTo wR="9210" hR="21600" stAng="-5481359" swAng="-5318641"/>
                <a:close/>
              </a:path>
              <a:path fill="darkenLess" w="21600" h="21600">
                <a:moveTo>
                  <a:pt x="0" y="21600"/>
                </a:moveTo>
                <a:arcTo wR="9210" hR="21600" stAng="10800000" swAng="5400000"/>
                <a:lnTo>
                  <a:pt x="9210" y="0"/>
                </a:lnTo>
                <a:arcTo wR="9210" hR="21600" stAng="-5400000" swAng="81359"/>
                <a:lnTo>
                  <a:pt x="9720" y="33"/>
                </a:lnTo>
                <a:arcTo wR="9210" hR="21600" stAng="-5481359" swAng="-5318641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AutoShape 29"/>
          <p:cNvSpPr/>
          <p:nvPr/>
        </p:nvSpPr>
        <p:spPr>
          <a:xfrm>
            <a:off x="5183280" y="1994040"/>
            <a:ext cx="4038480" cy="2514600"/>
          </a:xfrm>
          <a:custGeom>
            <a:avLst/>
            <a:gdLst>
              <a:gd name="textAreaLeft" fmla="*/ 861480 w 4038480"/>
              <a:gd name="textAreaRight" fmla="*/ 2738880 w 4038480"/>
              <a:gd name="textAreaTop" fmla="*/ 336600 h 2514600"/>
              <a:gd name="textAreaBottom" fmla="*/ 217800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217" hR="21600" stAng="10800000" swAng="5400000"/>
                <a:lnTo>
                  <a:pt x="10041" y="0"/>
                </a:lnTo>
                <a:arcTo wR="9217" hR="21600" stAng="-5400000" swAng="3754626"/>
                <a:lnTo>
                  <a:pt x="21382" y="16931"/>
                </a:lnTo>
                <a:lnTo>
                  <a:pt x="18845" y="21600"/>
                </a:lnTo>
                <a:lnTo>
                  <a:pt x="15872" y="16931"/>
                </a:lnTo>
                <a:lnTo>
                  <a:pt x="18215" y="16931"/>
                </a:lnTo>
                <a:arcTo wR="9217" hR="21600" stAng="-1645374" swAng="-3688996"/>
                <a:lnTo>
                  <a:pt x="9629" y="22"/>
                </a:lnTo>
                <a:arcTo wR="9217" hR="21600" stAng="-5465629" swAng="-5334371"/>
                <a:close/>
              </a:path>
              <a:path fill="darkenLess" w="21600" h="21600">
                <a:moveTo>
                  <a:pt x="0" y="21600"/>
                </a:moveTo>
                <a:arcTo wR="9217" hR="21600" stAng="10800000" swAng="5400000"/>
                <a:lnTo>
                  <a:pt x="9217" y="0"/>
                </a:lnTo>
                <a:arcTo wR="9217" hR="21600" stAng="-5400000" swAng="65629"/>
                <a:lnTo>
                  <a:pt x="9629" y="22"/>
                </a:lnTo>
                <a:arcTo wR="9217" hR="21600" stAng="-5465629" swAng="-5334371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30"/>
          <p:cNvSpPr/>
          <p:nvPr/>
        </p:nvSpPr>
        <p:spPr>
          <a:xfrm rot="11039400">
            <a:off x="3278160" y="3822120"/>
            <a:ext cx="760320" cy="680760"/>
          </a:xfrm>
          <a:custGeom>
            <a:avLst/>
            <a:gdLst>
              <a:gd name="textAreaLeft" fmla="*/ 149040 w 760320"/>
              <a:gd name="textAreaRight" fmla="*/ 535320 w 760320"/>
              <a:gd name="textAreaTop" fmla="*/ 91080 h 680760"/>
              <a:gd name="textAreaBottom" fmla="*/ 589680 h 680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474" hR="21600" stAng="10800000" swAng="-5400000"/>
                <a:lnTo>
                  <a:pt x="10967" y="21600"/>
                </a:lnTo>
                <a:arcTo wR="8474" hR="21600" stAng="5400000" swAng="-2930116"/>
                <a:lnTo>
                  <a:pt x="21142" y="7008"/>
                </a:lnTo>
                <a:lnTo>
                  <a:pt x="18194" y="0"/>
                </a:lnTo>
                <a:lnTo>
                  <a:pt x="14329" y="7008"/>
                </a:lnTo>
                <a:lnTo>
                  <a:pt x="16489" y="7008"/>
                </a:lnTo>
                <a:arcTo wR="8474" hR="21600" stAng="2469884" swAng="2729775"/>
                <a:lnTo>
                  <a:pt x="9720" y="21365"/>
                </a:lnTo>
                <a:arcTo wR="8474" hR="21600" stAng="5600342" swAng="5199658"/>
                <a:close/>
              </a:path>
              <a:path fill="darkenLess" w="21600" h="21600">
                <a:moveTo>
                  <a:pt x="0" y="0"/>
                </a:moveTo>
                <a:arcTo wR="8474" hR="21600" stAng="10800000" swAng="-5400000"/>
                <a:lnTo>
                  <a:pt x="10967" y="21600"/>
                </a:lnTo>
                <a:arcTo wR="8474" hR="21600" stAng="5400000" swAng="200342"/>
                <a:lnTo>
                  <a:pt x="9720" y="21365"/>
                </a:lnTo>
                <a:arcTo wR="8474" hR="21600" stAng="5600342" swAng="5199658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31"/>
          <p:cNvSpPr/>
          <p:nvPr/>
        </p:nvSpPr>
        <p:spPr>
          <a:xfrm rot="10800000">
            <a:off x="1677960" y="2526840"/>
            <a:ext cx="2819520" cy="1981440"/>
          </a:xfrm>
          <a:custGeom>
            <a:avLst/>
            <a:gdLst>
              <a:gd name="textAreaLeft" fmla="*/ 600840 w 2819520"/>
              <a:gd name="textAreaRight" fmla="*/ 1936440 w 2819520"/>
              <a:gd name="textAreaTop" fmla="*/ 265320 h 1981440"/>
              <a:gd name="textAreaBottom" fmla="*/ 1716120 h 198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210" hR="21600" stAng="10800000" swAng="-5400000"/>
                <a:lnTo>
                  <a:pt x="10230" y="21600"/>
                </a:lnTo>
                <a:arcTo wR="9210" hR="21600" stAng="5400000" swAng="-3470206"/>
                <a:lnTo>
                  <a:pt x="21286" y="5594"/>
                </a:lnTo>
                <a:lnTo>
                  <a:pt x="18930" y="0"/>
                </a:lnTo>
                <a:lnTo>
                  <a:pt x="15946" y="5594"/>
                </a:lnTo>
                <a:lnTo>
                  <a:pt x="18106" y="5594"/>
                </a:lnTo>
                <a:arcTo wR="9210" hR="21600" stAng="1929794" swAng="3388927"/>
                <a:lnTo>
                  <a:pt x="9720" y="21567"/>
                </a:lnTo>
                <a:arcTo wR="9210" hR="21600" stAng="5481279" swAng="5318721"/>
                <a:close/>
              </a:path>
              <a:path fill="darkenLess" w="21600" h="21600">
                <a:moveTo>
                  <a:pt x="0" y="0"/>
                </a:moveTo>
                <a:arcTo wR="9210" hR="21600" stAng="10800000" swAng="-5400000"/>
                <a:lnTo>
                  <a:pt x="10230" y="21600"/>
                </a:lnTo>
                <a:arcTo wR="9210" hR="21600" stAng="5400000" swAng="81279"/>
                <a:lnTo>
                  <a:pt x="9720" y="21567"/>
                </a:lnTo>
                <a:arcTo wR="9210" hR="21600" stAng="5481279" swAng="5318721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32"/>
          <p:cNvSpPr/>
          <p:nvPr/>
        </p:nvSpPr>
        <p:spPr>
          <a:xfrm rot="10800000">
            <a:off x="610920" y="1917000"/>
            <a:ext cx="4343400" cy="2590920"/>
          </a:xfrm>
          <a:custGeom>
            <a:avLst/>
            <a:gdLst>
              <a:gd name="textAreaLeft" fmla="*/ 945720 w 4343400"/>
              <a:gd name="textAreaRight" fmla="*/ 3010320 w 4343400"/>
              <a:gd name="textAreaTop" fmla="*/ 347040 h 2590920"/>
              <a:gd name="textAreaBottom" fmla="*/ 2243880 h 25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407" hR="21600" stAng="10800000" swAng="-5400000"/>
                <a:lnTo>
                  <a:pt x="10267" y="21600"/>
                </a:lnTo>
                <a:arcTo wR="9407" hR="21600" stAng="5400000" swAng="-3386410"/>
                <a:lnTo>
                  <a:pt x="21230" y="5995"/>
                </a:lnTo>
                <a:lnTo>
                  <a:pt x="19243" y="0"/>
                </a:lnTo>
                <a:lnTo>
                  <a:pt x="16516" y="5995"/>
                </a:lnTo>
                <a:lnTo>
                  <a:pt x="18443" y="5995"/>
                </a:lnTo>
                <a:arcTo wR="9407" hR="21600" stAng="2013590" swAng="3317911"/>
                <a:lnTo>
                  <a:pt x="9837" y="21577"/>
                </a:lnTo>
                <a:arcTo wR="9407" hR="21600" stAng="5468499" swAng="5331501"/>
                <a:close/>
              </a:path>
              <a:path fill="darkenLess" w="21600" h="21600">
                <a:moveTo>
                  <a:pt x="0" y="0"/>
                </a:moveTo>
                <a:arcTo wR="9407" hR="21600" stAng="10800000" swAng="-5400000"/>
                <a:lnTo>
                  <a:pt x="10267" y="21600"/>
                </a:lnTo>
                <a:arcTo wR="9407" hR="21600" stAng="5400000" swAng="68499"/>
                <a:lnTo>
                  <a:pt x="9837" y="21577"/>
                </a:lnTo>
                <a:arcTo wR="9407" hR="21600" stAng="5468499" swAng="5331501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33"/>
          <p:cNvSpPr/>
          <p:nvPr/>
        </p:nvSpPr>
        <p:spPr>
          <a:xfrm rot="1500600">
            <a:off x="6177240" y="3670920"/>
            <a:ext cx="12956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669900"/>
                </a:solidFill>
                <a:latin typeface="Arial"/>
              </a:rPr>
              <a:t>В 10 ра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4"/>
          <p:cNvSpPr/>
          <p:nvPr/>
        </p:nvSpPr>
        <p:spPr>
          <a:xfrm rot="19381800">
            <a:off x="2815560" y="3519360"/>
            <a:ext cx="11430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669900"/>
                </a:solidFill>
                <a:latin typeface="Arial"/>
              </a:rPr>
              <a:t>В 10 ра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35"/>
          <p:cNvSpPr/>
          <p:nvPr/>
        </p:nvSpPr>
        <p:spPr>
          <a:xfrm rot="18376800">
            <a:off x="1332720" y="2852640"/>
            <a:ext cx="13669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100 ра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36"/>
          <p:cNvSpPr/>
          <p:nvPr/>
        </p:nvSpPr>
        <p:spPr>
          <a:xfrm rot="2663400">
            <a:off x="7094160" y="2834280"/>
            <a:ext cx="15861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100 ра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37"/>
          <p:cNvSpPr/>
          <p:nvPr/>
        </p:nvSpPr>
        <p:spPr>
          <a:xfrm rot="18529200">
            <a:off x="432720" y="2340000"/>
            <a:ext cx="15951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9900cc"/>
                </a:solidFill>
                <a:latin typeface="Arial"/>
              </a:rPr>
              <a:t>В 1000 ра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38"/>
          <p:cNvSpPr/>
          <p:nvPr/>
        </p:nvSpPr>
        <p:spPr>
          <a:xfrm rot="3099000">
            <a:off x="7921440" y="2508480"/>
            <a:ext cx="14400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9900cc"/>
                </a:solidFill>
                <a:latin typeface="Arial"/>
              </a:rPr>
              <a:t>В 1000 ра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39"/>
          <p:cNvSpPr/>
          <p:nvPr/>
        </p:nvSpPr>
        <p:spPr>
          <a:xfrm>
            <a:off x="2182680" y="1422360"/>
            <a:ext cx="26672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c80000"/>
                </a:solidFill>
                <a:latin typeface="Arial"/>
              </a:rPr>
              <a:t>больш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40"/>
          <p:cNvSpPr/>
          <p:nvPr/>
        </p:nvSpPr>
        <p:spPr>
          <a:xfrm>
            <a:off x="6478560" y="1460520"/>
            <a:ext cx="15238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c80000"/>
                </a:solidFill>
                <a:latin typeface="Arial"/>
              </a:rPr>
              <a:t>меньш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19"/>
          <p:cNvSpPr/>
          <p:nvPr/>
        </p:nvSpPr>
        <p:spPr>
          <a:xfrm>
            <a:off x="4540320" y="6566040"/>
            <a:ext cx="22860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222,2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Рисунок 27" descr=""/>
          <p:cNvPicPr/>
          <p:nvPr/>
        </p:nvPicPr>
        <p:blipFill>
          <a:blip r:embed="rId1"/>
          <a:stretch/>
        </p:blipFill>
        <p:spPr>
          <a:xfrm>
            <a:off x="8683560" y="422280"/>
            <a:ext cx="95112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500"/>
                            </p:stCondLst>
                            <p:childTnLst>
                              <p:par>
                                <p:cTn id="327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000"/>
                            </p:stCondLst>
                            <p:childTnLst>
                              <p:par>
                                <p:cTn id="331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6000"/>
                            </p:stCondLst>
                            <p:childTnLst>
                              <p:par>
                                <p:cTn id="337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7500"/>
                            </p:stCondLst>
                            <p:childTnLst>
                              <p:par>
                                <p:cTn id="341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3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9000"/>
                            </p:stCondLst>
                            <p:childTnLst>
                              <p:par>
                                <p:cTn id="345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500"/>
                            </p:stCondLst>
                            <p:childTnLst>
                              <p:par>
                                <p:cTn id="350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4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3500"/>
                            </p:stCondLst>
                            <p:childTnLst>
                              <p:par>
                                <p:cTn id="358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5500"/>
                            </p:stCondLst>
                            <p:childTnLst>
                              <p:par>
                                <p:cTn id="364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693 -0.00315 -0.00047 0.00063 -0.00708 -0.0063 C -0.01323 -0.01259 -0.02094 -0.02057 -0.02834 -0.0235 C -0.03385 -0.02854 -0.03952 -0.03358 -0.04598 -0.0361 C -0.05983 -0.04869 -0.03968 -0.03085 -0.05306 -0.04092 C -0.05841 -0.04491 -0.06156 -0.04953 -0.06723 -0.05184 C -0.07558 -0.05939 -0.07148 -0.05708 -0.07888 -0.05981 C -0.08408 -0.06401 -0.08833 -0.06967 -0.09431 -0.07219 C -0.1025 -0.07954 -0.11069 -0.08709 -0.11904 -0.09423 C -0.12281 -0.09738 -0.12549 -0.1022 -0.12958 -0.10514 C -0.1321 -0.10703 -0.13399 -0.10682 -0.13667 -0.10829 C -0.14864 -0.1148 -0.15887 -0.11899 -0.17194 -0.12088 C -0.19257 -0.12676 -0.21193 -0.132 -0.23319 -0.13347 C -0.24343 -0.13599 -0.2535 -0.13725 -0.26389 -0.1383 C -0.26972 -0.13977 -0.27555 -0.14145 -0.28153 -0.14145 E">
                                      <p:cBhvr>
                                        <p:cTn id="389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500"/>
                            </p:stCondLst>
                            <p:childTnLst>
                              <p:par>
                                <p:cTn id="39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393 -0.00357 -0.00834 -0.00693 -0.01181 -0.01112 C -0.02377 -0.02518 -0.01448 -0.01679 -0.02236 -0.0235 C -0.0255 -0.03001 -0.03039 -0.03484 -0.03527 -0.03924 C -0.03842 -0.04575 -0.04314 -0.04953 -0.04708 -0.05498 C -0.05542 -0.06632 -0.04597 -0.05729 -0.05416 -0.06443 C -0.05495 -0.0659 -0.05542 -0.06779 -0.05652 -0.06904 C -0.05873 -0.07156 -0.06361 -0.07534 -0.06361 -0.07534 C -0.0655 -0.08374 -0.06314 -0.07723 -0.06833 -0.08332 C -0.07085 -0.08625 -0.07258 -0.09024 -0.07542 -0.09276 C -0.07998 -0.09696 -0.08487 -0.10094 -0.08943 -0.10514 C -0.09321 -0.1127 -0.10722 -0.1255 -0.11415 -0.12886 C -0.12281 -0.1404 -0.13289 -0.1553 -0.14486 -0.16013 C -0.15336 -0.16873 -0.16186 -0.17733 -0.17068 -0.18531 C -0.17587 -0.18993 -0.18296 -0.19349 -0.18847 -0.1979 C -0.19398 -0.20231 -0.2006 -0.21259 -0.20721 -0.21364 C -0.21225 -0.21448 -0.21744 -0.21364 -0.22264 -0.21364 E">
                                      <p:cBhvr>
                                        <p:cTn id="399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72855E-006 -2.09864E-008 C -0.0074 -0.0894 -0.0011 -0.00441 -0.00425 -0.18909 C -0.00441 -0.20063 -0.00803 -0.21196 -0.01102 -0.22288 C -0.01244 -0.22812 -0.01779 -0.23736 -0.01779 -0.23715 C -0.01952 -0.24386 -0.02188 -0.24722 -0.02582 -0.25205 C -0.02834 -0.26044 -0.02645 -0.25561 -0.03275 -0.26653 C -0.03353 -0.268 -0.03542 -0.27135 -0.03542 -0.27114 C -0.03731 -0.27891 -0.03668 -0.2745 -0.03668 -0.28416 E">
                                      <p:cBhvr>
                                        <p:cTn id="409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5538E-006 -2.09864E-008 C 0.00788 -0.00986 0.01543 -0.01973 0.02315 -0.02959 C 0.02819 -0.0361 0.03275 -0.04323 0.03874 -0.04785 C 0.04173 -0.05373 0.04567 -0.05582 0.04913 -0.06107 C 0.057 -0.07324 0.06566 -0.08541 0.07621 -0.09423 C 0.07983 -0.10031 0.08928 -0.11312 0.09432 -0.11731 C 0.10062 -0.12991 0.09227 -0.11459 0.10077 -0.1255 C 0.10802 -0.13473 0.11416 -0.14607 0.1214 -0.1553 C 0.12518 -0.16013 0.13022 -0.16411 0.13416 -0.16852 C 0.13935 -0.1744 0.1403 -0.17964 0.14722 -0.18153 C 0.15085 -0.18867 0.1562 -0.19496 0.16155 -0.2 C 0.16297 -0.20126 0.16486 -0.20189 0.16643 -0.20315 C 0.16801 -0.20462 0.17053 -0.20797 0.17053 -0.20776 E">
                                      <p:cBhvr>
                                        <p:cTn id="418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488 -0.0023 0.00913 -0.00566 0.01401 -0.00797 C 0.02031 -0.01616 0.02693 -0.02602 0.03527 -0.03001 C 0.03685 -0.03148 0.03826 -0.03336 0.03999 -0.03462 C 0.0411 -0.03546 0.04251 -0.03525 0.04346 -0.03609 C 0.05228 -0.04386 0.04236 -0.03903 0.05054 -0.04239 C 0.05794 -0.04889 0.06676 -0.0533 0.07416 -0.05981 C 0.08424 -0.06862 0.09526 -0.07786 0.10707 -0.08163 C 0.11305 -0.08562 0.11919 -0.08961 0.12486 -0.09422 C 0.13211 -0.1001 0.13903 -0.10808 0.14722 -0.11143 C 0.15132 -0.11521 0.15651 -0.12214 0.16124 -0.12403 C 0.1669 -0.12906 0.17257 -0.1341 0.17903 -0.13662 C 0.18517 -0.14228 0.19257 -0.14417 0.19902 -0.14921 C 0.20343 -0.15278 0.20721 -0.15718 0.21194 -0.16012 E">
                                      <p:cBhvr>
                                        <p:cTn id="427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TextBox 1" descr=""/>
          <p:cNvPicPr/>
          <p:nvPr/>
        </p:nvPicPr>
        <p:blipFill>
          <a:blip r:embed="rId2"/>
          <a:stretch/>
        </p:blipFill>
        <p:spPr>
          <a:xfrm>
            <a:off x="5175360" y="2603520"/>
            <a:ext cx="4840200" cy="199872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27" descr=""/>
          <p:cNvPicPr/>
          <p:nvPr/>
        </p:nvPicPr>
        <p:blipFill>
          <a:blip r:embed="rId3"/>
          <a:stretch/>
        </p:blipFill>
        <p:spPr>
          <a:xfrm>
            <a:off x="7612200" y="4587840"/>
            <a:ext cx="1525320" cy="2176560"/>
          </a:xfrm>
          <a:prstGeom prst="rect">
            <a:avLst/>
          </a:prstGeom>
          <a:ln w="0">
            <a:noFill/>
          </a:ln>
        </p:spPr>
      </p:pic>
      <p:sp>
        <p:nvSpPr>
          <p:cNvPr id="153" name="TextBox 4"/>
          <p:cNvSpPr/>
          <p:nvPr/>
        </p:nvSpPr>
        <p:spPr>
          <a:xfrm>
            <a:off x="896760" y="708120"/>
            <a:ext cx="33577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боту подготовил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валенко Ирина Анатольевна, учитель математики школы №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орода Стародуба Брянской облас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9280" y="127908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создании презентации использовался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шаблон презентации Писаревской Т.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12:31:07Z</dcterms:created>
  <dc:creator>Коваленко И.А.</dc:creator>
  <dc:description/>
  <dc:language>en-US</dc:language>
  <cp:lastModifiedBy>админ</cp:lastModifiedBy>
  <dcterms:modified xsi:type="dcterms:W3CDTF">2016-11-27T08:39:25Z</dcterms:modified>
  <cp:revision>20</cp:revision>
  <dc:subject/>
  <dc:title>Как устроена десятичная дробь</dc:title>
</cp:coreProperties>
</file>