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3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12.png" ContentType="image/png"/>
  <Override PartName="/ppt/media/image32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825-974C-403B-A033-3349ED14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F7E-9FC7-42E3-9AAE-ED2F5D42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142-8A95-4E2E-A2CB-3AEBE841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777-5657-4448-A771-AE6EFE4D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7B2D-CBA5-4A4A-AE70-F4752B1B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AE3F-5F28-49A1-9294-E2847149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18B7-A95C-418F-A7EB-EEFF2087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68BC-D682-4EF3-9DD6-3D9925CB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DB87-F765-4895-AEDB-490335A8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70EC-8016-4268-9F65-03F5D542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635D-3925-4D30-BDCB-4A1DB3AA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A3D-7E5D-42D7-A41E-39A77664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E3FE-036A-41CD-899F-D905B9CC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D70D-7F21-4778-84CC-8F663C10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7520-EAAF-4E3F-97AD-F151617B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A050-E7A0-4358-9D83-6BB66994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AAF8-A5D6-4EA4-BDE1-54804BC3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26499-BD1C-4DF1-8F36-43F12514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75267-E615-4F39-917B-88E776DB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20136-6B82-4DC3-A131-1E9ED305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10EC0-6DD4-40C1-9BDC-E1EE26A2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1375C-9233-435E-B0FA-1C952221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9A1-CBE8-4CF7-90F4-DA05E541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6AE5-0583-4DAD-A51C-094647BD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1D2E-759C-4FC8-A3F9-FB4AD34C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B091-5B79-41B0-A449-64EDCB55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4421-3774-4FCD-A868-7565713C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EAEC-CEE6-4299-8C58-1B229952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D31B-F6EE-4B6A-8AEF-F2115E9A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9DB36-1063-4D6D-A12F-C8DEE7A8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9686C-98DE-4EFD-99F6-DFBC9AFE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76959-3787-47DA-8A6C-6BE067AB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AA01C-8E1C-47F4-83DD-D06E5901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652-4A3A-43EA-BF18-53ED5C3D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8A70E-FA4E-45F0-8638-D667D1F0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C2DFA-7F88-40AE-8F66-F0A3F888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040E0-1800-4A66-81AF-10028C5B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0EC0D-7B46-4129-9B73-068B9454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31787-8B01-4B49-A9A1-02492183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4B1B6-99B1-4FA2-A5AF-AE39F9E1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AB7F5-F8F3-4CA0-AD76-84FC62D7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4CCD2-3201-4349-BA02-99456D64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D8C6E-41B6-42B9-AB08-1A2E4EC5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BD7-7A6F-4F23-BDBE-8D976181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A3D-1917-42B8-8947-D392CC47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415-A0F6-473A-9F4E-87F79C29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721-B176-4385-913B-5E8FE087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CCB-E1FD-4939-B017-8CF542AD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7530-A120-4193-B3B7-CF095213FC87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2E74-2520-4D0C-818E-0388AB1907BF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4E51-4805-4D20-8BE7-F465AE80EECA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C08B-56F8-4B87-A623-4502409D78BA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Gastropoda" TargetMode="External"/><Relationship Id="rId3" Type="http://schemas.openxmlformats.org/officeDocument/2006/relationships/hyperlink" Target="http://ru.wikipedia.org/wiki/Polychaeta" TargetMode="External"/><Relationship Id="rId4" Type="http://schemas.openxmlformats.org/officeDocument/2006/relationships/hyperlink" Target="http://ru.wikipedia.org/wiki/Mollusca" TargetMode="External"/><Relationship Id="rId5" Type="http://schemas.openxmlformats.org/officeDocument/2006/relationships/hyperlink" Target="http://ru.wikipedia.org/wiki/Crustacea" TargetMode="External"/><Relationship Id="rId6" Type="http://schemas.openxmlformats.org/officeDocument/2006/relationships/hyperlink" Target="http://ru.wikipedia.org/wiki/Pisces" TargetMode="External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615456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КОНУС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Давтян Римма Артемовна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5280" y="1328760"/>
            <a:ext cx="655488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ъём конуса равен одной трети произведения площади основания на высоту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V = 1/3 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</a:t>
            </a:r>
            <a:endParaRPr b="0" lang="en-US" sz="4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V = 1/3</a:t>
            </a:r>
            <a:r>
              <a:rPr b="1" i="1" lang="en-GB" sz="4400" spc="-1" strike="noStrike">
                <a:solidFill>
                  <a:srgbClr val="000000"/>
                </a:solidFill>
                <a:latin typeface="Century Gothic"/>
              </a:rPr>
              <a:t> π r </a:t>
            </a:r>
            <a:r>
              <a:rPr b="1" i="1" lang="en-GB" sz="4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entury Gothic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1" i="1" lang="ru-RU" sz="4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4" name="Прямоугольник 3" descr=""/>
          <p:cNvPicPr/>
          <p:nvPr/>
        </p:nvPicPr>
        <p:blipFill>
          <a:blip r:embed="rId1"/>
          <a:stretch/>
        </p:blipFill>
        <p:spPr>
          <a:xfrm>
            <a:off x="1547640" y="401760"/>
            <a:ext cx="590724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3" descr=""/>
          <p:cNvPicPr/>
          <p:nvPr/>
        </p:nvPicPr>
        <p:blipFill>
          <a:blip r:embed="rId1"/>
          <a:stretch/>
        </p:blipFill>
        <p:spPr>
          <a:xfrm>
            <a:off x="828720" y="115920"/>
            <a:ext cx="6473880" cy="2047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image065"/>
          <p:cNvPicPr/>
          <p:nvPr/>
        </p:nvPicPr>
        <p:blipFill>
          <a:blip r:embed="rId2"/>
          <a:stretch/>
        </p:blipFill>
        <p:spPr>
          <a:xfrm>
            <a:off x="179280" y="1773360"/>
            <a:ext cx="3600720" cy="3282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konyc_21"/>
          <p:cNvPicPr/>
          <p:nvPr/>
        </p:nvPicPr>
        <p:blipFill>
          <a:blip r:embed="rId3"/>
          <a:stretch/>
        </p:blipFill>
        <p:spPr>
          <a:xfrm>
            <a:off x="5656320" y="1773360"/>
            <a:ext cx="3271680" cy="3311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image068"/>
          <p:cNvPicPr/>
          <p:nvPr/>
        </p:nvPicPr>
        <p:blipFill>
          <a:blip r:embed="rId4"/>
          <a:stretch/>
        </p:blipFill>
        <p:spPr>
          <a:xfrm rot="18754800">
            <a:off x="2972520" y="3880080"/>
            <a:ext cx="340668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Прямоугольник 3" descr=""/>
          <p:cNvPicPr/>
          <p:nvPr/>
        </p:nvPicPr>
        <p:blipFill>
          <a:blip r:embed="rId1"/>
          <a:stretch/>
        </p:blipFill>
        <p:spPr>
          <a:xfrm>
            <a:off x="1620720" y="0"/>
            <a:ext cx="6280200" cy="2048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image100"/>
          <p:cNvPicPr/>
          <p:nvPr/>
        </p:nvPicPr>
        <p:blipFill>
          <a:blip r:embed="rId2"/>
          <a:stretch/>
        </p:blipFill>
        <p:spPr>
          <a:xfrm>
            <a:off x="1763640" y="1657440"/>
            <a:ext cx="5904000" cy="5200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image097"/>
          <p:cNvPicPr/>
          <p:nvPr/>
        </p:nvPicPr>
        <p:blipFill>
          <a:blip r:embed="rId3"/>
          <a:stretch/>
        </p:blipFill>
        <p:spPr>
          <a:xfrm>
            <a:off x="2124000" y="1689120"/>
            <a:ext cx="5112000" cy="5168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image101"/>
          <p:cNvPicPr/>
          <p:nvPr/>
        </p:nvPicPr>
        <p:blipFill>
          <a:blip r:embed="rId4"/>
          <a:stretch/>
        </p:blipFill>
        <p:spPr>
          <a:xfrm>
            <a:off x="1547640" y="1701720"/>
            <a:ext cx="6394680" cy="515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image110"/>
          <p:cNvPicPr/>
          <p:nvPr/>
        </p:nvPicPr>
        <p:blipFill>
          <a:blip r:embed="rId5"/>
          <a:stretch/>
        </p:blipFill>
        <p:spPr>
          <a:xfrm>
            <a:off x="1835280" y="1601640"/>
            <a:ext cx="5905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51280" y="1267920"/>
            <a:ext cx="496872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Конусы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0" lang="ru-RU" sz="1600" spc="-1" strike="noStrike" u="sng">
                <a:solidFill>
                  <a:srgbClr val="0d2e46"/>
                </a:solidFill>
                <a:uFillTx/>
                <a:latin typeface="Century Gothic"/>
                <a:hlinkClick r:id="rId1"/>
              </a:rPr>
              <a:t>лат.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Century Gothic"/>
              </a:rPr>
              <a:t>Conidae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 — семейство хищных </a:t>
            </a:r>
            <a:r>
              <a:rPr b="0" lang="ru-RU" sz="1600" spc="-1" strike="noStrike" u="sng">
                <a:solidFill>
                  <a:srgbClr val="0d2e46"/>
                </a:solidFill>
                <a:uFillTx/>
                <a:latin typeface="Century Gothic"/>
                <a:hlinkClick r:id="rId2"/>
              </a:rPr>
              <a:t>брюхоногих моллюсков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. Своих жертв, в роли которых обычно выступают </a:t>
            </a:r>
            <a:r>
              <a:rPr b="0" lang="ru-RU" sz="1600" spc="-1" strike="noStrike" u="sng">
                <a:solidFill>
                  <a:srgbClr val="0d2e46"/>
                </a:solidFill>
                <a:uFillTx/>
                <a:latin typeface="Century Gothic"/>
                <a:hlinkClick r:id="rId3"/>
              </a:rPr>
              <a:t>многощетинковые черви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и </a:t>
            </a:r>
            <a:r>
              <a:rPr b="0" lang="ru-RU" sz="1600" spc="-1" strike="noStrike" u="sng">
                <a:solidFill>
                  <a:srgbClr val="0d2e46"/>
                </a:solidFill>
                <a:uFillTx/>
                <a:latin typeface="Century Gothic"/>
                <a:hlinkClick r:id="rId4"/>
              </a:rPr>
              <a:t>моллюски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(реже — </a:t>
            </a:r>
            <a:r>
              <a:rPr b="0" lang="ru-RU" sz="1600" spc="-1" strike="noStrike" u="sng">
                <a:solidFill>
                  <a:srgbClr val="0d2e46"/>
                </a:solidFill>
                <a:uFillTx/>
                <a:latin typeface="Century Gothic"/>
                <a:hlinkClick r:id="rId5"/>
              </a:rPr>
              <a:t>ракообразные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и </a:t>
            </a:r>
            <a:r>
              <a:rPr b="0" lang="ru-RU" sz="1600" spc="-1" strike="noStrike" u="sng">
                <a:solidFill>
                  <a:srgbClr val="0d2e46"/>
                </a:solidFill>
                <a:uFillTx/>
                <a:latin typeface="Century Gothic"/>
                <a:hlinkClick r:id="rId6"/>
              </a:rPr>
              <a:t>рыбы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, конусы парализуют с помощью яда. Описано около 500 видов. Большинство представителей приурочено к тёплым тропическим морям, однако некоторые способны обитать в высоких широтах.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Укус некоторых представителей рода </a:t>
            </a:r>
            <a:r>
              <a:rPr b="0" i="1" lang="ru-RU" sz="1600" spc="-1" strike="noStrike">
                <a:solidFill>
                  <a:srgbClr val="000000"/>
                </a:solidFill>
                <a:latin typeface="Century Gothic"/>
              </a:rPr>
              <a:t>Conus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смертельно опасен для человека. В то же время, яд других видов используют в фармакологии для изготовления сильнодействующих обезболивающих препаратов, не вызывающих наркотической зависимости.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25" name="Прямоугольник 3" descr=""/>
          <p:cNvPicPr/>
          <p:nvPr/>
        </p:nvPicPr>
        <p:blipFill>
          <a:blip r:embed="rId7"/>
          <a:stretch/>
        </p:blipFill>
        <p:spPr>
          <a:xfrm>
            <a:off x="1189080" y="115920"/>
            <a:ext cx="6686640" cy="123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Файл:Conus amadis.jpg"/>
          <p:cNvPicPr/>
          <p:nvPr/>
        </p:nvPicPr>
        <p:blipFill>
          <a:blip r:embed="rId8"/>
          <a:stretch/>
        </p:blipFill>
        <p:spPr>
          <a:xfrm>
            <a:off x="468360" y="1268280"/>
            <a:ext cx="31100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68000" y="5084640"/>
            <a:ext cx="814716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3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f496f"/>
                </a:solidFill>
                <a:latin typeface="Century Gothic"/>
              </a:rPr>
              <a:t>Watercone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(Водяной конус) — остроумное приспособление, превращающее соленую воду в пресную при помощи лишь солнечной энергии. Что хорошо в этом приспособлении — оно очень простое, вместо ископаемого топлива использует энергию солнца, оно дешево в производстве и легко в использовании. </a:t>
            </a: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34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1401840" y="115920"/>
            <a:ext cx="6389640" cy="1347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1"/>
          <p:cNvPicPr/>
          <p:nvPr/>
        </p:nvPicPr>
        <p:blipFill>
          <a:blip r:embed="rId2"/>
          <a:stretch/>
        </p:blipFill>
        <p:spPr>
          <a:xfrm>
            <a:off x="755640" y="1341360"/>
            <a:ext cx="7885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716360" y="333360"/>
            <a:ext cx="395928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Watercone представляет собой конус, который помещается на лоток с соленой водой (либо на какое-либо топкое место или влажную землю), и оставляется на солнце. Вода начинает испаряться, конденсат стекает по стенкам конуса, и к концу дня вы просто его переворачиваете, снимаете колпачок с верхушки, и пьете воду.</a:t>
            </a: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31" name="Picture 5" descr="2"/>
          <p:cNvPicPr/>
          <p:nvPr/>
        </p:nvPicPr>
        <p:blipFill>
          <a:blip r:embed="rId1"/>
          <a:stretch/>
        </p:blipFill>
        <p:spPr>
          <a:xfrm>
            <a:off x="179280" y="333360"/>
            <a:ext cx="3810240" cy="2905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3"/>
          <p:cNvPicPr/>
          <p:nvPr/>
        </p:nvPicPr>
        <p:blipFill>
          <a:blip r:embed="rId2"/>
          <a:stretch/>
        </p:blipFill>
        <p:spPr>
          <a:xfrm>
            <a:off x="179280" y="3573360"/>
            <a:ext cx="3810240" cy="2905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4"/>
          <p:cNvPicPr/>
          <p:nvPr/>
        </p:nvPicPr>
        <p:blipFill>
          <a:blip r:embed="rId3"/>
          <a:stretch/>
        </p:blipFill>
        <p:spPr>
          <a:xfrm>
            <a:off x="4572000" y="3573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3" descr=""/>
          <p:cNvPicPr/>
          <p:nvPr/>
        </p:nvPicPr>
        <p:blipFill>
          <a:blip r:embed="rId1"/>
          <a:stretch/>
        </p:blipFill>
        <p:spPr>
          <a:xfrm>
            <a:off x="1042920" y="262080"/>
            <a:ext cx="7290000" cy="1365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Возьмём произвольный конус и проведём секущую плоскость, перпендикулярную к его оси. Эта плоскость пересекается с конусом по кругу и разбивает конус на 2 части. Одна из частей представляет собой конус, а другая называется </a:t>
            </a:r>
            <a:r>
              <a:rPr b="1" i="1" lang="ru-RU" sz="2000" spc="-1" strike="noStrike" u="sng">
                <a:solidFill>
                  <a:srgbClr val="0f496f"/>
                </a:solidFill>
                <a:uFillTx/>
                <a:latin typeface="Century Gothic"/>
              </a:rPr>
              <a:t>усечённым конусом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3" descr=""/>
          <p:cNvPicPr/>
          <p:nvPr/>
        </p:nvPicPr>
        <p:blipFill>
          <a:blip r:embed="rId1"/>
          <a:stretch/>
        </p:blipFill>
        <p:spPr>
          <a:xfrm>
            <a:off x="1908000" y="262080"/>
            <a:ext cx="5321520" cy="1238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2"/>
          <a:srcRect l="0" t="0" r="19694" b="20837"/>
          <a:stretch/>
        </p:blipFill>
        <p:spPr>
          <a:xfrm>
            <a:off x="1403280" y="1268280"/>
            <a:ext cx="67215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33160" y="155736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19040" indent="-38268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снование исходного конуса и круг, полученный в сечении этого конуса плоскостью, называются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основаниями усечённого конуса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419040" indent="-38268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Боковой поверхностью –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азывается часть конической поверхности, ограничивающая усечённый конус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419040" indent="-38268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трезки образующих, заключённые между основаниями, называются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образующими усечённого конуса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419040" indent="-38268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39" name="Прямоугольник 3" descr=""/>
          <p:cNvPicPr/>
          <p:nvPr/>
        </p:nvPicPr>
        <p:blipFill>
          <a:blip r:embed="rId1"/>
          <a:stretch/>
        </p:blipFill>
        <p:spPr>
          <a:xfrm>
            <a:off x="1762200" y="262080"/>
            <a:ext cx="53276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rcRect l="10128" t="35640" r="45575" b="13150"/>
          <a:stretch/>
        </p:blipFill>
        <p:spPr>
          <a:xfrm>
            <a:off x="611280" y="765000"/>
            <a:ext cx="4516200" cy="46087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5867280" y="1125360"/>
            <a:ext cx="288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ечённый конус получен вращение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круг сторон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780000" y="1557000"/>
            <a:ext cx="51847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9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3800" spc="-1" strike="noStrike">
                <a:solidFill>
                  <a:srgbClr val="000000"/>
                </a:solidFill>
                <a:latin typeface="Arno Pro Subhead"/>
              </a:rPr>
              <a:t>это тело, ограниченное конической поверхностью и кругом с границей L.</a:t>
            </a:r>
            <a:endParaRPr b="0" lang="en-US" sz="3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9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3346560" y="401760"/>
            <a:ext cx="2577960" cy="1244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E:\конус.jpg"/>
          <p:cNvPicPr/>
          <p:nvPr/>
        </p:nvPicPr>
        <p:blipFill>
          <a:blip r:embed="rId2"/>
          <a:stretch/>
        </p:blipFill>
        <p:spPr>
          <a:xfrm>
            <a:off x="108000" y="1844640"/>
            <a:ext cx="35067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6840" y="1989000"/>
            <a:ext cx="7467480" cy="413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Площадь боковой поверхности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усечённого конуса равна произведению полусуммы длин окружностей оснований на образующую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43" name="Прямоугольник 3" descr=""/>
          <p:cNvPicPr/>
          <p:nvPr/>
        </p:nvPicPr>
        <p:blipFill>
          <a:blip r:embed="rId1"/>
          <a:stretch/>
        </p:blipFill>
        <p:spPr>
          <a:xfrm>
            <a:off x="1908000" y="115920"/>
            <a:ext cx="5523120" cy="20667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4"/>
          <p:cNvSpPr/>
          <p:nvPr/>
        </p:nvSpPr>
        <p:spPr>
          <a:xfrm>
            <a:off x="1979640" y="4581360"/>
            <a:ext cx="46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бок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= π (r + r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)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61960" y="1197000"/>
            <a:ext cx="655488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Площадь </a:t>
            </a:r>
            <a:r>
              <a:rPr b="1" i="1" lang="en-GB" sz="2800" spc="-1" strike="noStrike">
                <a:solidFill>
                  <a:srgbClr val="000000"/>
                </a:solidFill>
                <a:latin typeface="Century Gothic"/>
              </a:rPr>
              <a:t>полной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 поверхности конуса- сумма площадей боковой поверхности и основани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й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46" name="Прямоугольник 3" descr=""/>
          <p:cNvPicPr/>
          <p:nvPr/>
        </p:nvPicPr>
        <p:blipFill>
          <a:blip r:embed="rId1"/>
          <a:stretch/>
        </p:blipFill>
        <p:spPr>
          <a:xfrm>
            <a:off x="1908000" y="0"/>
            <a:ext cx="5718240" cy="20667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4"/>
          <p:cNvSpPr/>
          <p:nvPr/>
        </p:nvSpPr>
        <p:spPr>
          <a:xfrm>
            <a:off x="611280" y="3645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S= π (r + r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) l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 π r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2 + 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π r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053720" y="993240"/>
            <a:ext cx="7467480" cy="421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ъём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усечённого конуса, высота которого равна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а площади оснований равны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</a:t>
            </a: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вычисляется по формуле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V = 1/3 h (S + 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+   S * S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1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)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49" name="Прямоугольник 3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834320" cy="206676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ая соединительная линия 5" descr=""/>
          <p:cNvPicPr/>
          <p:nvPr/>
        </p:nvPicPr>
        <p:blipFill>
          <a:blip r:embed="rId2"/>
          <a:stretch/>
        </p:blipFill>
        <p:spPr>
          <a:xfrm>
            <a:off x="4773600" y="3846600"/>
            <a:ext cx="249120" cy="46332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ая соединительная линия 7" descr=""/>
          <p:cNvPicPr/>
          <p:nvPr/>
        </p:nvPicPr>
        <p:blipFill>
          <a:blip r:embed="rId3"/>
          <a:stretch/>
        </p:blipFill>
        <p:spPr>
          <a:xfrm>
            <a:off x="4565520" y="3846600"/>
            <a:ext cx="30240" cy="46332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ая соединительная линия 9" descr=""/>
          <p:cNvPicPr/>
          <p:nvPr/>
        </p:nvPicPr>
        <p:blipFill>
          <a:blip r:embed="rId4"/>
          <a:stretch/>
        </p:blipFill>
        <p:spPr>
          <a:xfrm>
            <a:off x="4992840" y="3425760"/>
            <a:ext cx="1401480" cy="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Прямоугольник 3" descr=""/>
          <p:cNvPicPr/>
          <p:nvPr/>
        </p:nvPicPr>
        <p:blipFill>
          <a:blip r:embed="rId1"/>
          <a:stretch/>
        </p:blipFill>
        <p:spPr>
          <a:xfrm>
            <a:off x="2992320" y="189000"/>
            <a:ext cx="4237200" cy="1243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2"/>
          <a:srcRect l="2768" t="7598" r="18978" b="11673"/>
          <a:stretch/>
        </p:blipFill>
        <p:spPr>
          <a:xfrm>
            <a:off x="1476360" y="1052640"/>
            <a:ext cx="71992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46748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КОНУС ПОЛУЧЕН ВРАЩЕНИЕМ ПРЯМОУГОЛЬНОГО ТРЕУГОЛЬНИКА АВС ВОКРУГ КАТЕТА АВ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rcRect l="5012" t="16191" r="28552" b="5079"/>
          <a:stretch/>
        </p:blipFill>
        <p:spPr>
          <a:xfrm>
            <a:off x="1547640" y="1773360"/>
            <a:ext cx="57610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716360" y="1599840"/>
            <a:ext cx="4176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19040" indent="-3826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f496f"/>
                </a:solidFill>
                <a:latin typeface="Century Gothic"/>
              </a:rPr>
              <a:t>Если секущая плоскость проходит через ось конуса, то сечение представляет собой равнобедренный треугольник, основание которого- диаметр основания конуса, а боковые стороны- образующие конуса. Это сечение- </a:t>
            </a:r>
            <a:r>
              <a:rPr b="1" i="1" lang="en-GB" sz="2700" spc="-1" strike="noStrike">
                <a:solidFill>
                  <a:srgbClr val="0f496f"/>
                </a:solidFill>
                <a:latin typeface="Century Gothic"/>
              </a:rPr>
              <a:t>осевое.</a:t>
            </a:r>
            <a:endParaRPr b="0" lang="en-US" sz="2700" spc="-1" strike="noStrike">
              <a:solidFill>
                <a:srgbClr val="0f496f"/>
              </a:solidFill>
              <a:latin typeface="Century Gothic"/>
            </a:endParaRPr>
          </a:p>
          <a:p>
            <a:pPr marL="419040" indent="-3826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2" name="Прямоугольник 3" descr=""/>
          <p:cNvPicPr/>
          <p:nvPr/>
        </p:nvPicPr>
        <p:blipFill>
          <a:blip r:embed="rId1"/>
          <a:stretch/>
        </p:blipFill>
        <p:spPr>
          <a:xfrm>
            <a:off x="1262160" y="0"/>
            <a:ext cx="6918120" cy="2066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rcRect l="13280" t="0" r="18786" b="11417"/>
          <a:stretch/>
        </p:blipFill>
        <p:spPr>
          <a:xfrm>
            <a:off x="468360" y="1989000"/>
            <a:ext cx="4321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/>
          <a:srcRect l="16314" t="0" r="32000" b="4557"/>
          <a:stretch/>
        </p:blipFill>
        <p:spPr>
          <a:xfrm>
            <a:off x="539640" y="620640"/>
            <a:ext cx="4106880" cy="5688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5148360" y="1052640"/>
            <a:ext cx="32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чение конуса плоскостью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, перпендикулярной к его ос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Прямоугольник 3" descr=""/>
          <p:cNvPicPr/>
          <p:nvPr/>
        </p:nvPicPr>
        <p:blipFill>
          <a:blip r:embed="rId1"/>
          <a:stretch/>
        </p:blipFill>
        <p:spPr>
          <a:xfrm>
            <a:off x="828720" y="401760"/>
            <a:ext cx="7351560" cy="1366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5" descr="0500201"/>
          <p:cNvPicPr/>
          <p:nvPr/>
        </p:nvPicPr>
        <p:blipFill>
          <a:blip r:embed="rId2"/>
          <a:stretch/>
        </p:blipFill>
        <p:spPr>
          <a:xfrm>
            <a:off x="611280" y="1557360"/>
            <a:ext cx="4681440" cy="46800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5"/>
          <p:cNvSpPr/>
          <p:nvPr/>
        </p:nvSpPr>
        <p:spPr>
          <a:xfrm>
            <a:off x="5867280" y="1700280"/>
            <a:ext cx="280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звёрткой боково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рхности конуса является круговой секто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05000"/>
            <a:ext cx="655488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19040" indent="-3826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За площадь боковой поверхности конуса принимается площадь её развертки. </a:t>
            </a:r>
            <a:endParaRPr b="0" lang="en-US" sz="2700" spc="-1" strike="noStrike">
              <a:solidFill>
                <a:srgbClr val="0f496f"/>
              </a:solidFill>
              <a:latin typeface="Century Gothic"/>
            </a:endParaRPr>
          </a:p>
          <a:p>
            <a:pPr marL="419040" indent="-3826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Площадь </a:t>
            </a:r>
            <a:r>
              <a:rPr b="1" i="1" lang="en-GB" sz="2700" spc="-1" strike="noStrike" u="sng">
                <a:solidFill>
                  <a:srgbClr val="000000"/>
                </a:solidFill>
                <a:uFillTx/>
                <a:latin typeface="Century Gothic"/>
              </a:rPr>
              <a:t>боковой</a:t>
            </a:r>
            <a:r>
              <a:rPr b="1" i="1" lang="en-GB" sz="2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поверхности конуса равна произведению половины длины окружности основания на образующую.   </a:t>
            </a:r>
            <a:endParaRPr b="0" lang="en-US" sz="2700" spc="-1" strike="noStrike">
              <a:solidFill>
                <a:srgbClr val="0f496f"/>
              </a:solidFill>
              <a:latin typeface="Century Gothic"/>
            </a:endParaRPr>
          </a:p>
          <a:p>
            <a:pPr marL="419040" indent="-382680" algn="ctr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1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i="1" lang="en-GB" sz="6100" spc="-1" strike="noStrike">
                <a:solidFill>
                  <a:srgbClr val="000000"/>
                </a:solidFill>
                <a:latin typeface="Century Gothic"/>
              </a:rPr>
              <a:t>S= π r l</a:t>
            </a:r>
            <a:endParaRPr b="0" lang="en-US" sz="6100" spc="-1" strike="noStrike">
              <a:solidFill>
                <a:srgbClr val="0f496f"/>
              </a:solidFill>
              <a:latin typeface="Century Gothic"/>
            </a:endParaRPr>
          </a:p>
          <a:p>
            <a:pPr marL="419040" indent="-382680">
              <a:lnSpc>
                <a:spcPct val="80000"/>
              </a:lnSpc>
              <a:spcBef>
                <a:spcPts val="152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1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0" name="Прямоугольник 3" descr=""/>
          <p:cNvPicPr/>
          <p:nvPr/>
        </p:nvPicPr>
        <p:blipFill>
          <a:blip r:embed="rId1"/>
          <a:stretch/>
        </p:blipFill>
        <p:spPr>
          <a:xfrm>
            <a:off x="1908000" y="0"/>
            <a:ext cx="57182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39640" y="206064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Площадь </a:t>
            </a: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полной</a:t>
            </a: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 поверхности конуса- сумма площадей боковой поверхности и основания.</a:t>
            </a: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основания =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π r </a:t>
            </a:r>
            <a:r>
              <a:rPr b="1" i="1" lang="en-GB" sz="2800" spc="-1" strike="noStrike" u="sng" baseline="30000">
                <a:solidFill>
                  <a:srgbClr val="000000"/>
                </a:solidFill>
                <a:uFillTx/>
                <a:latin typeface="Century Gothic"/>
              </a:rPr>
              <a:t>2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7200" spc="-1" strike="noStrike">
                <a:solidFill>
                  <a:srgbClr val="000000"/>
                </a:solidFill>
                <a:latin typeface="Century Gothic"/>
              </a:rPr>
              <a:t>S= π r (l+r)</a:t>
            </a:r>
            <a:endParaRPr b="0" lang="en-US" sz="72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2" name="Прямоугольник 3" descr=""/>
          <p:cNvPicPr/>
          <p:nvPr/>
        </p:nvPicPr>
        <p:blipFill>
          <a:blip r:embed="rId1"/>
          <a:stretch/>
        </p:blipFill>
        <p:spPr>
          <a:xfrm>
            <a:off x="1981080" y="0"/>
            <a:ext cx="55231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06:22:01Z</dcterms:created>
  <dc:creator>Влада</dc:creator>
  <dc:description/>
  <dc:language>en-US</dc:language>
  <cp:lastModifiedBy>Natalia Davtyan</cp:lastModifiedBy>
  <dcterms:modified xsi:type="dcterms:W3CDTF">2016-11-25T20:01:36Z</dcterms:modified>
  <cp:revision>14</cp:revision>
  <dc:subject/>
  <dc:title>Слайд 1</dc:title>
</cp:coreProperties>
</file>