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E31B-6E65-432B-B0B0-A46069D4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67D8-183D-4749-AD81-5BFBFB9D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04F1-C9D3-4D5B-80C7-398412AE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72E-A17B-4FED-BFF7-C20883C9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053E-4D44-49CD-9EB7-920F9FBA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F614-9BB0-4730-BE55-7C27E7C1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1A7B-108A-49BC-BDF0-546C643E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6EC0-F081-47CB-B745-CDD19E6B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BBC8-C998-4B93-97C3-7E6C1907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06ED-D8EC-42C9-BC91-E2B85A32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CB87-52D4-48ED-8A61-70A38DEA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68C-FEB4-4076-8063-0622C749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CE15-A2A6-4C06-BE7F-24B32DB1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04A7-A58A-4185-AAE8-9B6AC39D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2545-3F1D-43DA-B801-EAD46818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1EB0-F54D-4756-AE8E-8349B968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7A26-31DF-4817-9570-F2EA9B59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E0A6C-1E36-4CF4-8EBE-0C4B3C46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96844-BF80-4EAE-B223-EE2FE1B7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F80AD-FC7E-4137-8E86-1C70DDD1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EE320-60AD-44C5-8097-E8146918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8C86F-438E-4E06-A718-43B25069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942-181E-46F2-AAC7-FDF2C71F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4C084-D32B-46B5-ACB0-26623F52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77E86-F150-4C83-9312-5D6A3DF8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C23B4-D813-440C-8D6C-5427178D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9B191-B3B5-41F9-8B66-4731347C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EF6AB-E9DD-40D3-A03B-A9CDF1D9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021D1-C7EE-4E0D-B389-4BE0E607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85609-6EBF-4CE7-945F-9A7451C4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AA368-1BB1-4E04-A5BC-88CB67EA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297D6-0066-4D09-9EF6-492A26C3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145A2-B328-4E48-BE9B-803960EF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8EC-C32F-4E81-AA9D-3ADF94F4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C30BF-2E50-4F9A-BED1-21800C2D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6C0AC-CB3F-4AF1-AD1C-9B1E9D7E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F484D-7CFC-411A-9A21-DBE53F0E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54088-BE57-4983-8BC1-19AB83C7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7A508-EE37-451D-89F2-97CD56F5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6351D-6D54-427A-92C4-2D4E5167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00FA1-5771-463D-B0DF-262CD571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8230B-D5F6-4477-81D0-B2F172A0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603FD-ECA6-4E82-8158-C75EEBA5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4339-39F0-4352-B439-256BAA39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943A-616A-4F54-A041-A1B0398A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491-4BC8-425A-B9C5-1B97BD44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3F4E-E981-4328-AA49-3035D8BA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389-8A0C-407A-B2E0-92FC7DCA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BBBB-C651-4110-A9ED-310CE67D03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F1F2-48FF-4ACE-A255-9962E5B43A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BEAC-180D-49EE-A4CC-4798FDFD37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D09E-026C-46DD-BF14-C17AB8E1856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Детство М.Ю. Лермонтова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ь: Т.И. Савелье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зентация для 5 класс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арханский дом, где Лермонтов прожил половину своей жизн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4" descr="дом Лермонтова"/>
          <p:cNvPicPr/>
          <p:nvPr/>
        </p:nvPicPr>
        <p:blipFill>
          <a:blip r:embed="rId1"/>
          <a:stretch/>
        </p:blipFill>
        <p:spPr>
          <a:xfrm>
            <a:off x="533520" y="1574640"/>
            <a:ext cx="801360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264360" cy="35542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5"/>
          <p:cNvSpPr/>
          <p:nvPr/>
        </p:nvSpPr>
        <p:spPr>
          <a:xfrm>
            <a:off x="755640" y="260280"/>
            <a:ext cx="77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Adventure"/>
              </a:rPr>
              <a:t>Детские годы будущего поэта с марта 1815 г. прошли в с. Тарханы Чембарского уезда Пензенской губернии в имении бабуш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1187280" y="5516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Ampir Deco"/>
              </a:rPr>
              <a:t>Тарханы. Усадьб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Ampir Deco"/>
              </a:rPr>
              <a:t>Ныне - Государственный музей-заповедник М.Ю.Лермонт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250920" y="333360"/>
            <a:ext cx="720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eec94"/>
                </a:solidFill>
                <a:latin typeface="Adventure"/>
              </a:rPr>
              <a:t>И вижу я себя ребенком, и круго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eec94"/>
                </a:solidFill>
                <a:latin typeface="Adventure"/>
              </a:rPr>
              <a:t>Родные все места: высокий барский до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eec94"/>
                </a:solidFill>
                <a:latin typeface="Adventure"/>
              </a:rPr>
              <a:t>И сад с разрушенной теплицей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eec94"/>
                </a:solidFill>
                <a:latin typeface="Adventure"/>
              </a:rPr>
              <a:t>Зеленой сетью трав подернут спящий пруд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eec94"/>
                </a:solidFill>
                <a:latin typeface="Adventure"/>
              </a:rPr>
              <a:t>А за прудом село дымится - и встаю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eec94"/>
                </a:solidFill>
                <a:latin typeface="Adventure"/>
              </a:rPr>
              <a:t>Вдали туманы над поля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eec94"/>
                </a:solidFill>
                <a:latin typeface="Adventure"/>
              </a:rPr>
              <a:t>В аллею темную вхожу я; сквозь куст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eec94"/>
                </a:solidFill>
                <a:latin typeface="Adventure"/>
              </a:rPr>
              <a:t>Глядит вечерний луч, и желтые лист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eec94"/>
                </a:solidFill>
                <a:latin typeface="Adventure"/>
              </a:rPr>
              <a:t>Шумят под робкими шагами</a:t>
            </a:r>
            <a:r>
              <a:rPr b="1" i="1" lang="ru-RU" sz="2800" spc="-1" strike="noStrike">
                <a:solidFill>
                  <a:srgbClr val="f2f2f2"/>
                </a:solidFill>
                <a:latin typeface="Adventure"/>
              </a:rPr>
              <a:t>.</a:t>
            </a:r>
            <a:r>
              <a:rPr b="1" i="1" lang="ru-RU" sz="2800" spc="-1" strike="noStrike">
                <a:solidFill>
                  <a:srgbClr val="0000ff"/>
                </a:solidFill>
                <a:latin typeface="Adventur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4932360" y="4800600"/>
            <a:ext cx="4032360" cy="19130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>
            <a:off x="179280" y="566100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Ampir Deco"/>
              </a:rPr>
              <a:t>Тарханы легко узнать в этих строках и сейча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4" descr="тарханы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Зимой устраивалась гора, на ней катали Мишу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8" name="Picture 4" descr="катание с горки"/>
          <p:cNvPicPr/>
          <p:nvPr/>
        </p:nvPicPr>
        <p:blipFill>
          <a:blip r:embed="rId1"/>
          <a:stretch/>
        </p:blipFill>
        <p:spPr>
          <a:xfrm>
            <a:off x="2438280" y="1447920"/>
            <a:ext cx="4724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вятки праздновали по старинному обычаю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80" name="Picture 4" descr="святочные гуляния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Любимый внук Миша с величайшим удовольствием рисовал цветными мелками на полу по сукну, а позже акварельными красками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4" descr="ЛЕРМОНТОВ"/>
          <p:cNvPicPr/>
          <p:nvPr/>
        </p:nvPicPr>
        <p:blipFill>
          <a:blip r:embed="rId1"/>
          <a:stretch/>
        </p:blipFill>
        <p:spPr>
          <a:xfrm>
            <a:off x="3276720" y="3200400"/>
            <a:ext cx="27622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5"/>
          <p:cNvSpPr/>
          <p:nvPr/>
        </p:nvSpPr>
        <p:spPr>
          <a:xfrm>
            <a:off x="0" y="18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Picture 4" descr="http://www.hrono.ru/img/pisateli/lermont1822.jpg"/>
          <p:cNvPicPr/>
          <p:nvPr/>
        </p:nvPicPr>
        <p:blipFill>
          <a:blip r:embed="rId1"/>
          <a:stretch/>
        </p:blipFill>
        <p:spPr>
          <a:xfrm>
            <a:off x="4876920" y="1676520"/>
            <a:ext cx="4038480" cy="48006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.Ю. Лермонтов в 1820-1822 годы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7" name="Прямоугольник 4"/>
          <p:cNvSpPr/>
          <p:nvPr/>
        </p:nvSpPr>
        <p:spPr>
          <a:xfrm>
            <a:off x="380880" y="1600200"/>
            <a:ext cx="4496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ec94"/>
                </a:solidFill>
                <a:latin typeface="Times New Roman"/>
              </a:rPr>
              <a:t>«Приземистый, маленький ростом, с большой головой и бледным лицом, он обладал большими карими глазами…» - командир во всех играх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684360" y="401760"/>
            <a:ext cx="7920000" cy="45720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11280" y="530388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Adventure"/>
              </a:rPr>
              <a:t>В   Тарханах Лермонтов получил домашнее образование. Для занятий была отведена отдельная комната - классна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6" descr="C:\Documents and Settings\User\Рабочий стол\Рисунок7.jpg"/>
          <p:cNvPicPr/>
          <p:nvPr/>
        </p:nvPicPr>
        <p:blipFill>
          <a:blip r:embed="rId1"/>
          <a:stretch/>
        </p:blipFill>
        <p:spPr>
          <a:xfrm>
            <a:off x="5740560" y="4286160"/>
            <a:ext cx="3189240" cy="23526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3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ru-RU" sz="2900" spc="-1" strike="noStrike">
                <a:solidFill>
                  <a:srgbClr val="feec94"/>
                </a:solidFill>
                <a:latin typeface="Times New Roman"/>
              </a:rPr>
              <a:t>Языкам Мишель обучался у немки Христины Ремер и у француза- гувернера Капе, в прошлом сержанта наполеоновской армии. Мальчик рос забалованным, своенравным, вспыльчивым, полным странных фантазий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1" lang="ru-RU" sz="2900" spc="-1" strike="noStrike">
                <a:solidFill>
                  <a:srgbClr val="feec94"/>
                </a:solidFill>
                <a:latin typeface="Times New Roman"/>
              </a:rPr>
              <a:t>«Я рожден, чтобы целый мир был зритель торжества или гибели моей», - заявил он однажды.  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eec94"/>
                </a:solidFill>
                <a:latin typeface="Times New Roman"/>
              </a:rPr>
              <a:t>   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5"/>
          <p:cNvSpPr/>
          <p:nvPr/>
        </p:nvSpPr>
        <p:spPr>
          <a:xfrm>
            <a:off x="5638680" y="620640"/>
            <a:ext cx="35053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c3501"/>
                </a:solidFill>
                <a:latin typeface="Times New Roman"/>
              </a:rPr>
              <a:t>Михаил Юрьевич Лермон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c3501"/>
                </a:solidFill>
                <a:latin typeface="Times New Roman"/>
              </a:rPr>
              <a:t>1814 – 1841 г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959440" y="3129120"/>
            <a:ext cx="306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Times New Roman"/>
              </a:rPr>
              <a:t>C</a:t>
            </a: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амый загадочный поэт </a:t>
            </a:r>
            <a:r>
              <a:rPr b="1" lang="en-US" sz="2000" spc="-1" strike="noStrike">
                <a:solidFill>
                  <a:srgbClr val="161616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 столетия, гений русской литературы, талантливый художник, скульптор, шахматист, спортсмен, математик, способный музык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Picture 8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46148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33412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feec94"/>
                </a:solidFill>
                <a:latin typeface="Times New Roman"/>
              </a:rPr>
              <a:t>Лермонтов владел французским, немецким, английским языками, на Кавказе изучал азербайджанский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1" lang="ru-RU" sz="2200" spc="-1" strike="noStrike">
                <a:solidFill>
                  <a:srgbClr val="feec94"/>
                </a:solidFill>
                <a:latin typeface="Times New Roman"/>
              </a:rPr>
              <a:t>Он был одарен удивительной музыкальностью – играл на скрипке, на фортепиано, пел, сочинял музыку на собственные стих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1" lang="ru-RU" sz="2200" spc="-1" strike="noStrike">
                <a:solidFill>
                  <a:srgbClr val="feec94"/>
                </a:solidFill>
                <a:latin typeface="Times New Roman"/>
              </a:rPr>
              <a:t>Не много рождалось поэтов, которые бы так слышали мир и видели бы его так – динамично, объёмно, красочно. В этом ему помогал его глаз художника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1" lang="ru-RU" sz="2200" spc="-1" strike="noStrike">
                <a:solidFill>
                  <a:srgbClr val="feec94"/>
                </a:solidFill>
                <a:latin typeface="Times New Roman"/>
              </a:rPr>
              <a:t>Не только с натуры, но и на память он мог  воспроизводить на полотне лица, пейзажи,  кипение боя, скачку, преследовани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5334120" y="4869000"/>
            <a:ext cx="3809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«Я не знаю языка лучше,    чем у Лермонтова»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А.П.Чех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6" descr=""/>
          <p:cNvPicPr/>
          <p:nvPr/>
        </p:nvPicPr>
        <p:blipFill>
          <a:blip r:embed="rId1"/>
          <a:stretch/>
        </p:blipFill>
        <p:spPr>
          <a:xfrm>
            <a:off x="5643720" y="285840"/>
            <a:ext cx="3117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Кавказ поразил Мишу: величественные горы, быстрые реки, целебные источники..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5" descr="кавказ4"/>
          <p:cNvPicPr/>
          <p:nvPr/>
        </p:nvPicPr>
        <p:blipFill>
          <a:blip r:embed="rId1"/>
          <a:stretch/>
        </p:blipFill>
        <p:spPr>
          <a:xfrm>
            <a:off x="457200" y="1752480"/>
            <a:ext cx="8153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 1827 году бабушка привезла Мишу в Москву… Закончилась детская пора, началась  отроческая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   Лермонтов сразу был зачислен в   четвертый класс Университетского благородного пансиона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Picture 4" descr="лермонтов в москве"/>
          <p:cNvPicPr/>
          <p:nvPr/>
        </p:nvPicPr>
        <p:blipFill>
          <a:blip r:embed="rId1"/>
          <a:stretch/>
        </p:blipFill>
        <p:spPr>
          <a:xfrm>
            <a:off x="685800" y="2743200"/>
            <a:ext cx="7772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280" y="304920"/>
            <a:ext cx="8543880" cy="54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 ночь  с 14 на 15 октября 1814 года у Лермонтовых родился сын Михаил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 Москве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Крестили сына в церкви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Трёх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вятителей  ,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расположенной неподалёку от Красных ворот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46" name="21.CHOPIN - WALTZ # 7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5579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"/>
          <p:cNvPicPr/>
          <p:nvPr/>
        </p:nvPicPr>
        <p:blipFill>
          <a:blip r:embed="rId1"/>
          <a:srcRect l="0" t="0" r="0" b="4166"/>
          <a:stretch/>
        </p:blipFill>
        <p:spPr>
          <a:xfrm>
            <a:off x="4859280" y="189000"/>
            <a:ext cx="3971880" cy="49687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4462560" y="5157720"/>
            <a:ext cx="45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Ampir Deco"/>
              </a:rPr>
              <a:t>Мария Михайловна Лермонтова, мать поэт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Ampir Deco"/>
              </a:rPr>
              <a:t>Неизвестный художник. 1810-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179280" y="189000"/>
            <a:ext cx="44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Adventure"/>
              </a:rPr>
              <a:t>По материнской лини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Adventure"/>
              </a:rPr>
              <a:t>М. Лермонтов происходил из известного в России и богатого дворянского рода Столыпиных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.   М. Лермонтова, мать поэт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4174920" cy="51116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6"/>
          <p:cNvSpPr/>
          <p:nvPr/>
        </p:nvSpPr>
        <p:spPr>
          <a:xfrm>
            <a:off x="5364000" y="1628640"/>
            <a:ext cx="288000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Мать М.Ю. Лермонтова умерла рано, когда Мишелю было три год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В памяти мальчика сохранились минуты, когда мать, уже больная, садила его себе на колени и играла на фортепиан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Он помнил ласковые руки матери, её нежный голо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"/>
          <p:cNvPicPr/>
          <p:nvPr/>
        </p:nvPicPr>
        <p:blipFill>
          <a:blip r:embed="rId1"/>
          <a:srcRect l="0" t="0" r="0" b="2495"/>
          <a:stretch/>
        </p:blipFill>
        <p:spPr>
          <a:xfrm>
            <a:off x="179280" y="115920"/>
            <a:ext cx="3746520" cy="48974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324000" y="5229360"/>
            <a:ext cx="38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Юрий Петрович Лермонтов, отец поэта. Неизвестный художник. 1810-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4788000" y="5516640"/>
            <a:ext cx="41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4067280" y="304920"/>
            <a:ext cx="4752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2f2f2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По мужской линии род Лермонтовых (отец поэта — Юрий Петрович Лермонтов, капитан в отставке из небогатых помещиков Тульской губ.) ведет свое начало от Георга Лермонта (Шотландия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Находясь на службе у польского короля, в 1613 г. Лермонт перешел на сторону русских, сражался в чине офицера в отряде Д. Пожарского и в 1621 г. за хорошую службу царю получил грамоту на владение землей в Галическом у. Костромской губ. От него и пошли Лермонтовы, уже во втором колене принявшие Православие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Ю.П.Лермонтов, отец поэ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304920" y="1400040"/>
            <a:ext cx="3809880" cy="5256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5"/>
          <p:cNvSpPr/>
          <p:nvPr/>
        </p:nvSpPr>
        <p:spPr>
          <a:xfrm>
            <a:off x="4800600" y="1700280"/>
            <a:ext cx="39481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Юрий Петрович Лермонтов  после ссоры с Е.А.Арсеньевой редко навещал сына, вынуж-денный согласиться на условия бабушки, обещавшей  сделать внука наследником своего состоя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Мальчик любил отца  и страдал в разлуке с ни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Е.А.Арсеньева. Бабушка поэ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1" name="Picture 30" descr=""/>
          <p:cNvPicPr/>
          <p:nvPr/>
        </p:nvPicPr>
        <p:blipFill>
          <a:blip r:embed="rId1"/>
          <a:stretch/>
        </p:blipFill>
        <p:spPr>
          <a:xfrm>
            <a:off x="324000" y="1295280"/>
            <a:ext cx="4095720" cy="53024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1"/>
          <p:cNvSpPr/>
          <p:nvPr/>
        </p:nvSpPr>
        <p:spPr>
          <a:xfrm>
            <a:off x="4495680" y="1125360"/>
            <a:ext cx="432432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Елизавета Алексеевна Арсеньева после смерти дочери воспитывала вну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Без памяти любя его, она дала ему прекрасное домашнее образование, приглашала лучших учителей, развивавших  талант мальч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Трижды возила внука на Кавказ, чтобы поправить его слабое  здоровь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лермонтов1245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79280" y="765000"/>
            <a:ext cx="4273560" cy="54723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4389480" y="838080"/>
            <a:ext cx="452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етство Лермонтова было омрачено ранней смертью матери, ссорой отца  с бабушкой, разлукой с отц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етские годы будущий поэт провёл 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имении бабуш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в Тархана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468360" y="1890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М.Ю. Лермонтов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ребён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17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17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7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87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8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17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17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7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1595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8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17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17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7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4645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8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17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17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7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6335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8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17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17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7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astasia Romanova</cp:lastModifiedBy>
  <dcterms:modified xsi:type="dcterms:W3CDTF">2016-11-10T18:05:05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